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J.J.%20Ben%C3%ADtez%20-%20BSO%20Planeta%20Encantado.wav" ContentType="audio/x-wav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D37AF-4FDF-44C5-8842-F7FA20DD1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D8A38-0EF0-482E-A86E-1D7B9B44F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AE317-1125-4FB8-9CCF-9316B771B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2510E-5C05-4C69-A34C-2B324DC79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8C535-BC16-4AAD-8614-9DC651486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52894-1203-4257-8171-F5E43F330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5999E-60CA-4F4D-AD45-EFAF69E8E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88C7E-AA2B-4DA7-BB13-EDD99C6ED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E4C5E-FD8E-48F0-9B86-76C8DD07D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53132-2D1F-4DF4-9E98-3D14A49EC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3305B-F356-479D-8A1D-119A925CE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63F82-80D7-43D3-B457-8E1A7BDD2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477DF-97C2-4EF8-AB6B-FD77CCDBC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73C9F-9F46-42AE-8335-3EB20DE5E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D89BD-8C0C-4EF6-80E4-B93963FB4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287B2-B39F-4379-BB14-E5C9298ED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5712D-2F20-43D5-82BF-733A26433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C7F38-FBE3-47EC-B5FE-B0D4E94E9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866B8-E080-48F4-A7DE-DA6866612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A65BC-FBCC-42AB-9BE0-DF2623C9E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7EA41-A337-43EF-AE35-04F1C09C1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004D5-702C-4662-8EF2-BBD895293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BE694-259E-4959-AF61-111678F40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0E2E3-A8D4-45BD-95B7-81A98006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F9DF2-BE86-42B5-9C53-7C3767EC71E6}" type="slidenum">
              <a:rPr b="0" lang="es-PE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C8C9D-47DC-4EB8-A7F1-53E30CA11A3D}" type="slidenum">
              <a:rPr b="0" lang="es-PE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J.J.%20Ben&#237;tez%20-%20BSO%20Planeta%20Encantado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5400" spc="-1" strike="noStrike">
                <a:solidFill>
                  <a:srgbClr val="ffffff"/>
                </a:solidFill>
                <a:latin typeface="Arial"/>
              </a:rPr>
              <a:t>FELICES FIESTAS PATRIAS</a:t>
            </a:r>
            <a:br>
              <a:rPr sz="6600"/>
            </a:br>
            <a:r>
              <a:rPr b="0" i="1" lang="es-ES" sz="6600" spc="-1" strike="noStrike">
                <a:solidFill>
                  <a:srgbClr val="ffffff"/>
                </a:solidFill>
                <a:latin typeface="Arial"/>
              </a:rPr>
              <a:t>¡QUE VIVA EL PERU!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5219640" y="623088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ffffff"/>
                </a:solidFill>
                <a:latin typeface="Tahoma"/>
              </a:rPr>
              <a:t>Utiliza el mouse con pau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  <p:sndAc>
      <p:stSnd>
        <p:snd r:embed="rId1" name="J.J.%20Ben%C3%ADtez%20-%20BSO%20Planeta%20Encantado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ffff00"/>
                </a:solidFill>
                <a:latin typeface="Tahoma"/>
              </a:rPr>
              <a:t>PAIS CON GRANDES RIQUEZAS NATURALES</a:t>
            </a:r>
            <a:endParaRPr b="0" lang="en-US" sz="29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2800" spc="-1" strike="noStrike">
                <a:solidFill>
                  <a:srgbClr val="ffffff"/>
                </a:solidFill>
                <a:latin typeface="Tahoma"/>
              </a:rPr>
              <a:t>* Perú es el segundo país en el mundo,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es-PE" sz="2800" spc="-1" strike="noStrike">
                <a:solidFill>
                  <a:srgbClr val="ffffff"/>
                </a:solidFill>
                <a:latin typeface="Tahoma"/>
              </a:rPr>
              <a:t>con una variedad de 34 especies de primates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i="1" lang="es-PE" sz="28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2800" spc="-1" strike="noStrike">
                <a:solidFill>
                  <a:srgbClr val="ffffff"/>
                </a:solidFill>
                <a:latin typeface="Tahoma"/>
              </a:rPr>
              <a:t>* Perú es el tercer país en el mundo,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es-PE" sz="2800" spc="-1" strike="noStrike">
                <a:solidFill>
                  <a:srgbClr val="ffffff"/>
                </a:solidFill>
                <a:latin typeface="Tahoma"/>
              </a:rPr>
              <a:t>con una variedad de 361 especies de mamíferos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2800" spc="-1" strike="noStrike">
                <a:solidFill>
                  <a:srgbClr val="ffffff"/>
                </a:solidFill>
                <a:latin typeface="Tahoma"/>
              </a:rPr>
              <a:t>* Perú es el 5to. País en reptiles, con 297 especi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2800" spc="-1" strike="noStrike">
                <a:solidFill>
                  <a:srgbClr val="ffffff"/>
                </a:solidFill>
                <a:latin typeface="Tahoma"/>
              </a:rPr>
              <a:t>Es el quinto en anfibios, con 251 especi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2800" spc="-1" strike="noStrike">
                <a:solidFill>
                  <a:srgbClr val="ffffff"/>
                </a:solidFill>
                <a:latin typeface="Tahoma"/>
              </a:rPr>
              <a:t>84 de las 103 zonas ecológicas que existen en el mundo están en el Perú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067280" y="333360"/>
            <a:ext cx="4859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ffff"/>
                </a:solidFill>
                <a:latin typeface="Arial"/>
              </a:rPr>
              <a:t>No estás aquí para intentar que el mundo  sea como tú quieres. ESTÁS AQUÍ PARA CREAR A TU ALREDEDOR EL MUNDO      QUE TU ELIJ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ffff00"/>
                </a:solidFill>
                <a:latin typeface="Tahoma"/>
              </a:rPr>
              <a:t>¿Sabias que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ffffff"/>
                </a:solidFill>
                <a:latin typeface="Tahoma"/>
              </a:rPr>
              <a:t>* El Diario Oficial El Peruano, es el más antiguo diario  en Sur América.  Fue fundado en 1825 por Simón Bolívar</a:t>
            </a: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* </a:t>
            </a:r>
            <a:r>
              <a:rPr b="0" lang="es-PE" sz="2600" spc="-1" strike="noStrike">
                <a:solidFill>
                  <a:srgbClr val="ffffff"/>
                </a:solidFill>
                <a:latin typeface="Tahoma"/>
              </a:rPr>
              <a:t>El ferrocarril de medida estándar más alto en el </a:t>
            </a: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es-PE" sz="2600" spc="-1" strike="noStrike">
                <a:solidFill>
                  <a:srgbClr val="ffffff"/>
                </a:solidFill>
                <a:latin typeface="Tahoma"/>
              </a:rPr>
              <a:t>undo</a:t>
            </a: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.  </a:t>
            </a:r>
            <a:r>
              <a:rPr b="0" lang="es-PE" sz="2600" spc="-1" strike="noStrike">
                <a:solidFill>
                  <a:srgbClr val="ffffff"/>
                </a:solidFill>
                <a:latin typeface="Tahoma"/>
              </a:rPr>
              <a:t>(Ticlio - 4,815 m.s.n.d.m.) Está en Perú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ffffff"/>
                </a:solidFill>
                <a:latin typeface="Tahoma"/>
              </a:rPr>
              <a:t>* Los cañones más profundos en el mundo</a:t>
            </a: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es-PE" sz="2600" spc="-1" strike="noStrike">
                <a:solidFill>
                  <a:srgbClr val="ffffff"/>
                </a:solidFill>
                <a:latin typeface="Tahoma"/>
              </a:rPr>
              <a:t>Cotahuasi, 3,600 m.s.n.d.m. (11,811 pies s.n.d.m.) y el Colca, 3,400 m.s.n.d.m. (11,155 pies s.n.d.m.)  están en Perú</a:t>
            </a: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979640" y="333360"/>
            <a:ext cx="54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00000" y="115920"/>
            <a:ext cx="7677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Toda esta abundancia comienza a brillar a través de una mente que es consciente de su propia naturaleza infinita. Hay suficiente para todo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Míralo, Créelo. Aparecerá para T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200" spc="-1" strike="noStrike">
                <a:solidFill>
                  <a:srgbClr val="ffff00"/>
                </a:solidFill>
                <a:latin typeface="Tahoma"/>
              </a:rPr>
              <a:t>¡PERU CAMPEON!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 Tiene el segundo lugar en la producción  de cobre en el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mundo. ANTAMINA es la mina </a:t>
            </a: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más grande del mundo.  Está en las montañas centrales de Perú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* CAMISEA es la segunda reserva más grande del gas de América Latina.  Está en el Perú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 28 diversos tipos de clima se encuentran en el Perú, colocándolo entre los 5 países del mundo con la diversidad biológica más grande en el mundo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800" spc="-1" strike="noStrike">
                <a:solidFill>
                  <a:srgbClr val="ffff00"/>
                </a:solidFill>
                <a:latin typeface="Arial"/>
              </a:rPr>
              <a:t>LA SELVA PERUANA, PULMON DEL MUNDO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50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Tahoma"/>
              </a:rPr>
              <a:t>SABIAS QU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* </a:t>
            </a: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El río del Amazonas, con 1000 tributarios,  viene   a ser el más largo del mundo y también  tiene el flujo más grande de agua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* Tiene su origen en el Perú y es uno de los dos ríos  más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“</a:t>
            </a: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sanos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” </a:t>
            </a: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en el planeta. Tiene un flujo medio de aproximadamente 150.000 m3/sec. </a:t>
            </a:r>
            <a:br>
              <a:rPr sz="2800"/>
            </a:br>
            <a:br>
              <a:rPr sz="16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800" spc="-1" strike="noStrike">
                <a:solidFill>
                  <a:srgbClr val="ffff00"/>
                </a:solidFill>
                <a:latin typeface="Tahoma"/>
              </a:rPr>
              <a:t>NUESTRO DOMINIO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* Dentro del dominio marítimo del Perú, la corriente peruana, mejor conocida como la Corriente de Humboldt, contienen la producción más rica del plancton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y del phytoplankton en el mund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* </a:t>
            </a: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l lago navegable más alto del mundo es el LAGO TITICACA, que es Peruano y compartido por Bolivi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42920" y="398520"/>
            <a:ext cx="88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MACHU PICHU, designada como Patrimonio Cultural de la Humanidad en 1983 y Maravilla del Mundo en el 2008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16200" y="2370240"/>
            <a:ext cx="3979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71640" y="115920"/>
            <a:ext cx="7345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Si te vuelves hacia el universo, estarás sorprendido y deslumbrado con lo que se logra, aquí es donde la magia y los milagros suced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¡ELLOS FUERON GRANDES HOMBR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200" spc="-1" strike="noStrike">
                <a:solidFill>
                  <a:srgbClr val="ffff00"/>
                </a:solidFill>
                <a:latin typeface="Tahoma"/>
              </a:rPr>
              <a:t>¿SABIAS QUE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* </a:t>
            </a: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El Señor de Sipán, es la tumba más antigua  y más magnífica encontrada en las Américas; es solamente comparable a la de Tutankamon en Egipto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* Caral, un descubrimiento reciente en el norte de Lima, es la más antigua civilización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de las Américas y esta considerada entre las más antiguas en el mundo, fechando más de 3.000 A.C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5440" y="177840"/>
            <a:ext cx="8494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3366"/>
                </a:solidFill>
                <a:latin typeface="Arial"/>
              </a:rPr>
              <a:t>ESCRIBE TU PROPIO GUION….Cuando veas cosas que no quieres, no pienses en ellas, ni escribas sobre ellas, ni empujes contra ellas, ni te unas a grupos que se enfoquen en lo que no quieres, quita tu atención de lo que no quieres….. Y ponla en lo que quie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200" spc="-1" strike="noStrike">
                <a:solidFill>
                  <a:srgbClr val="ffff00"/>
                </a:solidFill>
                <a:latin typeface="Arial"/>
              </a:rPr>
              <a:t>¿SABIAS QUE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* S</a:t>
            </a: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e han clasificado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h</a:t>
            </a: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asta la fecha 4 de los 10 cereales que existen en el mundo y son nativos del Perú: la quinua, el maíz, la cañihua y la kiwicha.  El último ha sido considerado por la NASA como elemento importante en la dieta de los astronautas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* </a:t>
            </a: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El Perú es el líder en América Latina en la producción del oro, del plomo, y del zinc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* </a:t>
            </a: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Con más de 1,701 variedades diferentes de pájaros, Perú es el país con la variedad más grande de pájaros en el mun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44360" y="230040"/>
            <a:ext cx="53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66"/>
                </a:solidFill>
                <a:latin typeface="Arial"/>
              </a:rPr>
              <a:t>TU CREAS TU PROPIO UNIVERSO MIENTRAS LO RECOR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200" spc="-1" strike="noStrike">
                <a:solidFill>
                  <a:srgbClr val="ffff00"/>
                </a:solidFill>
                <a:latin typeface="Tahoma"/>
              </a:rPr>
              <a:t>SIENTETE ORGULLOSO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31400" y="1850760"/>
            <a:ext cx="742788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ebf25a"/>
              </a:buClr>
              <a:buSzPct val="80000"/>
              <a:buFont typeface="Team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Team MT"/>
              </a:rPr>
              <a:t>Tenemos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Team MT"/>
              </a:rPr>
              <a:t>  </a:t>
            </a:r>
            <a:r>
              <a:rPr b="1" lang="es-ES" sz="6000" spc="-1" strike="noStrike">
                <a:solidFill>
                  <a:srgbClr val="ffffff"/>
                </a:solidFill>
                <a:latin typeface="Team MT"/>
              </a:rPr>
              <a:t>el mejor CAFE del Mundo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476360" y="260280"/>
            <a:ext cx="626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00"/>
                </a:solidFill>
                <a:latin typeface="Arial"/>
              </a:rPr>
              <a:t>¡TE AMO PERU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cc"/>
                </a:solidFill>
                <a:latin typeface="Tahoma"/>
              </a:rPr>
              <a:t>PENSEMOS ….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915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s-PE" sz="3200" spc="-1" strike="noStrike">
                <a:solidFill>
                  <a:srgbClr val="ffffff"/>
                </a:solidFill>
                <a:latin typeface="Tahoma"/>
              </a:rPr>
              <a:t>¿No son suficientes Razones de sentirse orgulloso  de ser peruano?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s-PE" sz="3200" spc="-1" strike="noStrike">
                <a:solidFill>
                  <a:srgbClr val="ffffff"/>
                </a:solidFill>
                <a:latin typeface="Tahoma"/>
              </a:rPr>
              <a:t>Más que bastantes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1" lang="es-PE" sz="3200" spc="-1" strike="noStrike">
                <a:solidFill>
                  <a:srgbClr val="ffffff"/>
                </a:solidFill>
                <a:latin typeface="Tahoma"/>
              </a:rPr>
              <a:t>.   VIVA EL PERU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Wendy Medium"/>
              </a:rPr>
              <a:t>    </a:t>
            </a:r>
            <a:r>
              <a:rPr b="1" lang="es-ES" sz="4400" spc="-1" strike="noStrike">
                <a:solidFill>
                  <a:srgbClr val="ffffff"/>
                </a:solidFill>
                <a:latin typeface="Wendy Medium"/>
              </a:rPr>
              <a:t>UN FELIZ ANIVERSARIO             PATRI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Wendy Medium"/>
              </a:rPr>
              <a:t>JULIO 201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ffff00"/>
                </a:solidFill>
                <a:latin typeface="Tahoma"/>
              </a:rPr>
              <a:t>¡NUESTRO  DEBER!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Digamos con orgullo   ¡VIVA EL PERÚ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Todos los peruanos tenemos el deber de honrar al Perú, 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Honramos a nuestra Patria cuando nos expresarnos bien de ella. Honrarla es honrarnos a nosotros mismos pues nosotros somos nuestra Patria.                                                      Honrarla estando aquí o fuera de ella,  destacándonos positivamente  en la sociedad que nos cobija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Proteger los intereses nacionales es  preocuparnos de sembrar en las generaciones venideras  principios de integridad, de verdad, de respeto a los dem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á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s y de amor a Dios.  Es cuidar nuestro medio ambiente, es buscar el bien  com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ú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n,   es convivir en armon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a, paz y justicia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Proteger los intereses nacionales es pensar en Dios,  en nuestro Perú y en nuestra familia ante to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061080" y="5950080"/>
            <a:ext cx="464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66"/>
                </a:solidFill>
                <a:latin typeface="Arial"/>
              </a:rPr>
              <a:t>SOMOS LOS CREADORES D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1" i="1" lang="es-ES" sz="2400" spc="-1" strike="noStrike">
                <a:solidFill>
                  <a:srgbClr val="000066"/>
                </a:solidFill>
                <a:latin typeface="Arial"/>
              </a:rPr>
              <a:t>NUESTRO UNIVER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200" spc="-1" strike="noStrike">
                <a:solidFill>
                  <a:srgbClr val="ffff00"/>
                </a:solidFill>
                <a:latin typeface="Arial"/>
              </a:rPr>
              <a:t>¿SABIAS QUE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4963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E" sz="2800" spc="-1" strike="noStrike">
                <a:solidFill>
                  <a:srgbClr val="ffffff"/>
                </a:solidFill>
                <a:latin typeface="Tahoma"/>
              </a:rPr>
              <a:t>* SON PERUANOS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s-PE" sz="2800" spc="-1" strike="noStrike">
                <a:solidFill>
                  <a:srgbClr val="ffffff"/>
                </a:solidFill>
                <a:latin typeface="Tahoma"/>
              </a:rPr>
              <a:t>EL PISCO,  EL CEVICHE, LA CHIRIMOYA, LA GUANABANA,  LA LUCMA, LA GRANADILLA, LA  ALPACA,  LA  VICUÑA,  EL  CABALLO DE PASO,  LA  QUINUA,</a:t>
            </a: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s-PE" sz="2800" spc="-1" strike="noStrike">
                <a:solidFill>
                  <a:srgbClr val="ffffff"/>
                </a:solidFill>
                <a:latin typeface="Tahoma"/>
              </a:rPr>
              <a:t>EL  OLLUCO, LA PAPA</a:t>
            </a: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  y sus más de 3,000 variedades; </a:t>
            </a:r>
            <a:r>
              <a:rPr b="1" lang="es-PE" sz="2800" spc="-1" strike="noStrike">
                <a:solidFill>
                  <a:srgbClr val="ffffff"/>
                </a:solidFill>
                <a:latin typeface="Tahoma"/>
              </a:rPr>
              <a:t>EL MAÍZ</a:t>
            </a: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E" sz="2800" spc="-1" strike="noStrike">
                <a:solidFill>
                  <a:srgbClr val="ffffff"/>
                </a:solidFill>
                <a:latin typeface="Tahoma"/>
              </a:rPr>
              <a:t>CUSQUEÑO</a:t>
            </a: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 ( y tiene los granos más grandes del mundo,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on más de</a:t>
            </a: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 32 variedades conocidas); 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LA P</a:t>
            </a:r>
            <a:r>
              <a:rPr b="1" lang="es-PE" sz="2800" spc="-1" strike="noStrike">
                <a:solidFill>
                  <a:srgbClr val="ffffff"/>
                </a:solidFill>
                <a:latin typeface="Tahoma"/>
              </a:rPr>
              <a:t>ALTA</a:t>
            </a: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 (conocida como A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guacate</a:t>
            </a: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 y es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a</a:t>
            </a: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 más suave en el mundo?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15200" y="41400"/>
            <a:ext cx="444492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i="1" lang="es-ES" sz="2400" spc="-1" strike="noStrike">
                <a:solidFill>
                  <a:srgbClr val="000066"/>
                </a:solidFill>
                <a:latin typeface="Arial"/>
              </a:rPr>
              <a:t>LA  VICUÑA ES PERUAN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66"/>
                </a:solidFill>
                <a:latin typeface="Arial"/>
              </a:rPr>
              <a:t>Y SU LANA ES LA MAS FIN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66"/>
                </a:solidFill>
                <a:latin typeface="Arial"/>
              </a:rPr>
              <a:t>            </a:t>
            </a:r>
            <a:r>
              <a:rPr b="1" i="1" lang="es-ES" sz="2400" spc="-1" strike="noStrike">
                <a:solidFill>
                  <a:srgbClr val="000066"/>
                </a:solidFill>
                <a:latin typeface="Arial"/>
              </a:rPr>
              <a:t>DEL MUN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800" spc="-1" strike="noStrike">
                <a:solidFill>
                  <a:srgbClr val="ffff00"/>
                </a:solidFill>
                <a:latin typeface="Tahoma"/>
              </a:rPr>
              <a:t>¡TENGO EL ORGULLO DE SER PERUANO Y SOY FELIZ!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E" sz="2800" spc="-1" strike="noStrike">
                <a:solidFill>
                  <a:srgbClr val="ffffff"/>
                </a:solidFill>
                <a:latin typeface="Tahoma"/>
              </a:rPr>
              <a:t>* SON PERUANOS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s-PE" sz="2800" spc="-1" strike="noStrike">
                <a:solidFill>
                  <a:srgbClr val="ffffff"/>
                </a:solidFill>
                <a:latin typeface="Tahoma"/>
              </a:rPr>
              <a:t>EL  ALGODÓN </a:t>
            </a: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más fino en el mundo (Pima y Tanguis); </a:t>
            </a:r>
            <a:r>
              <a:rPr b="1" lang="es-PE" sz="2800" spc="-1" strike="noStrike">
                <a:solidFill>
                  <a:srgbClr val="ffffff"/>
                </a:solidFill>
                <a:latin typeface="Tahoma"/>
              </a:rPr>
              <a:t>EL ARBOL DE SAUCE LLORON</a:t>
            </a: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 (contiene un componente que es la base para la aspirina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1" lang="es-PE" sz="2800" spc="-1" strike="noStrike">
                <a:solidFill>
                  <a:srgbClr val="ffffff"/>
                </a:solidFill>
                <a:latin typeface="Tahoma"/>
              </a:rPr>
              <a:t>EL ARBOL DE TARA</a:t>
            </a: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 del cual se extrae el tanino,  un elemento que es usado en molinos de curtido (bronceado) y casas de tinte, </a:t>
            </a:r>
            <a:r>
              <a:rPr b="1" lang="es-PE" sz="2800" spc="-1" strike="noStrike">
                <a:solidFill>
                  <a:srgbClr val="ffffff"/>
                </a:solidFill>
                <a:latin typeface="Tahoma"/>
              </a:rPr>
              <a:t>EL LLACON</a:t>
            </a: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, una raíz similar a la yuca del cual  la insulina es extraída para la producción industrial; </a:t>
            </a:r>
            <a:r>
              <a:rPr b="1" lang="es-PE" sz="2800" spc="-1" strike="noStrike">
                <a:solidFill>
                  <a:srgbClr val="ffffff"/>
                </a:solidFill>
                <a:latin typeface="Tahoma"/>
              </a:rPr>
              <a:t>LA MACA</a:t>
            </a: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y los componentes Huanarpo Machos, principales ingredientes del Viagra, son raíces del Peruano Milenari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4000" y="189000"/>
            <a:ext cx="561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66"/>
                </a:solidFill>
                <a:latin typeface="Arial"/>
              </a:rPr>
              <a:t>CUANDO TE DES CUENTA DE TU POTENCIAL DE SENTIRTE BIEN,  NO PEDIRAS A NADIE QUE SEA DIFERENTE PARA SENTIRTE BI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900" spc="-1" strike="noStrike">
                <a:solidFill>
                  <a:srgbClr val="ffff00"/>
                </a:solidFill>
                <a:latin typeface="Tahoma"/>
              </a:rPr>
              <a:t>PERU: País marítimo, Andino, Amazónico, con presencia en la Antartida</a:t>
            </a:r>
            <a:endParaRPr b="0" lang="en-US" sz="29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* EL </a:t>
            </a:r>
            <a:r>
              <a:rPr b="1" lang="es-PE" sz="2800" spc="-1" strike="noStrike">
                <a:solidFill>
                  <a:srgbClr val="ffffff"/>
                </a:solidFill>
                <a:latin typeface="Tahoma"/>
              </a:rPr>
              <a:t>PERU TIENE LA VARIEDAD MAS GRANDE DE PLATOS EN EL MUNDO, 468 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EN TOTAL. </a:t>
            </a:r>
            <a:r>
              <a:rPr b="1" lang="es-PE" sz="2800" spc="-1" strike="noStrike">
                <a:solidFill>
                  <a:srgbClr val="ffffff"/>
                </a:solidFill>
                <a:latin typeface="Tahoma"/>
              </a:rPr>
              <a:t>(Libro de Guinness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* </a:t>
            </a: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El Coliseo de Corridas de toros que se encuentra en Acho, Lima, está entre los más antiguos en el mundo.  Fue inaugurado por el Virrey Amat en 1766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2aa68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La Universidad de San Marcos (fundada el 12.05.1551),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es la  universidad más antigua en las Améric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4T15:12:03Z</dcterms:created>
  <dc:creator>Celmi</dc:creator>
  <dc:description/>
  <dc:language>en-US</dc:language>
  <cp:lastModifiedBy>Oscar Santa Maria</cp:lastModifiedBy>
  <dcterms:modified xsi:type="dcterms:W3CDTF">2010-07-18T15:50:59Z</dcterms:modified>
  <cp:revision>10</cp:revision>
  <dc:subject/>
  <dc:title>MACHU PUCHU es 1 de las 7 Maravillas del Mundo ¡ QUE VIVA EL PERU!</dc:title>
</cp:coreProperties>
</file>