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.J.%20Ben%C3%ADtez%20-%20BSO%20Planeta%20Encantado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D52C-46E4-4609-AE85-30C797DA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45A4-A7AC-465A-9746-4F0E5E83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2953A-CD51-42DB-B8D2-843BAEBF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D4CB-C3B2-4F3E-BF41-EC359A26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413D-36D0-4C15-899F-C6C5358E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14B8-C78F-4306-B996-89C0F5C1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FE5C-DEA3-44C9-BB73-8965860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6932-B4D8-4A26-92D7-6B8C26F3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216A-A1E1-469A-B8E5-09E1CCA9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E032-BD13-4AE4-B263-342966F3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EA9-4E64-410B-AAFE-34D8257F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3105-0F5E-4023-B6FF-72B92546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A21C-FFC5-432D-B81A-DB1DB59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C16F-7466-4881-8D4E-C71E428C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EA1B-E241-4D87-8F75-0282DD6D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C300-3F7E-4F29-AA30-8041297E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04E-83C9-4493-A89F-837B5FC3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0936-757F-4E87-9775-FEBF8874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3E93-6285-4A32-9274-09F4C14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E7A6-E98A-4E44-B605-ECF8844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9A1B-F652-4F04-853F-0B969CB3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026B-8DBB-4140-AC10-E8804E30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DD43-4C8E-40B0-B28D-2FF9A29E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3CD7-F97E-4499-87E4-2FC6C5C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F8DF-59C8-4C16-8AB9-FC9A0D8A4113}" type="slidenum">
              <a:rPr b="0" lang="es-P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908D-8999-4EA0-9436-4281ABB51FBB}" type="slidenum">
              <a:rPr b="0" lang="es-P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.J.%20Ben&#237;tez%20-%20BSO%20Planeta%20Encantado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5400" spc="-1" strike="noStrike">
                <a:solidFill>
                  <a:srgbClr val="ffffff"/>
                </a:solidFill>
                <a:latin typeface="Arial"/>
              </a:rPr>
              <a:t>FELICES FIESTAS PATRIAS</a:t>
            </a:r>
            <a:br>
              <a:rPr sz="6600"/>
            </a:br>
            <a:r>
              <a:rPr b="0" i="1" lang="es-ES" sz="6600" spc="-1" strike="noStrike">
                <a:solidFill>
                  <a:srgbClr val="ffffff"/>
                </a:solidFill>
                <a:latin typeface="Arial"/>
              </a:rPr>
              <a:t>¡QUE VIVA EL PERU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62308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Tahoma"/>
              </a:rPr>
              <a:t>Utiliza el mouse con pa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1" name="J.J.%20Ben%C3%ADtez%20-%20BSO%20Planeta%20Encantad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00"/>
                </a:solidFill>
                <a:latin typeface="Tahoma"/>
              </a:rPr>
              <a:t>PAIS CON GRANDES RIQUEZAS NATURALES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* Perú es el segundo país en el mundo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con una variedad de 34 especies de primate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* Perú es el tercer país en el mundo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con una variedad de 361 especies de mamífero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* Perú es el 5to. País en reptiles, con 297 e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Es el quinto en anfibios, con 251 espec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84 de las 103 zonas ecológicas que existen en el mundo están en el Perú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333360"/>
            <a:ext cx="485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ff"/>
                </a:solidFill>
                <a:latin typeface="Arial"/>
              </a:rPr>
              <a:t>No estás aquí para intentar que el mundo  sea como tú quieres. ESTÁS AQUÍ PARA CREAR A TU ALREDEDOR EL MUNDO      QUE TU ELIJ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00"/>
                </a:solidFill>
                <a:latin typeface="Tahoma"/>
              </a:rPr>
              <a:t>¿Sabias qu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* El Diario Oficial El Peruano, es el más antiguo diario  en Sur América.  Fue fundado en 1825 por Simón Bolívar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El ferrocarril de medida estándar más alto en el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undo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(Ticlio - 4,815 m.s.n.d.m.) Está en Perú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* Los cañones más profundos en el mundo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Cotahuasi, 3,600 m.s.n.d.m. (11,811 pies s.n.d.m.) y el Colca, 3,400 m.s.n.d.m. (11,155 pies s.n.d.m.)  están en Perú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333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115920"/>
            <a:ext cx="767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Toda esta abundancia comienza a brillar a través de una mente que es consciente de su propia naturaleza infinita. Hay suficiente para to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íralo, Créelo. Aparecerá para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Tahoma"/>
              </a:rPr>
              <a:t>¡PERU CAMPEO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Tiene el segundo lugar en la producción  de cobre en e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mundo. ANTAMINA es la mina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más grande del mundo.  Está en las montañas centrales de Per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* CAMISEA es la segunda reserva más grande del gas de América Latina.  Está en el Perú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28 diversos tipos de clima se encuentran en el Perú, colocándolo entre los 5 países del mundo con la diversidad biológica más grande en el mun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00"/>
                </a:solidFill>
                <a:latin typeface="Arial"/>
              </a:rPr>
              <a:t>LA SELVA PERUANA, PULMON DEL MUNDO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ABIAS QU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l río del Amazonas, con 1000 tributarios,  viene   a ser el más largo del mundo y también  tiene el flujo más grande de agua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* Tiene su origen en el Perú y es uno de los dos ríos  má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san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n el planeta. Tiene un flujo medio de aproximadamente 150.000 m3/sec.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00"/>
                </a:solidFill>
                <a:latin typeface="Tahoma"/>
              </a:rPr>
              <a:t>NUESTRO DOMINIO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* Dentro del dominio marítimo del Perú, la corriente peruana, mejor conocida como la Corriente de Humboldt, contienen la producción más rica del plancto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del phytoplankton en el mu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l lago navegable más alto del mundo es el LAGO TITICACA, que es Peruano y compartido por Boliv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2920" y="3985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ACHU PICHU, designada como Patrimonio Cultural de la Humanidad en 1983 y Maravilla del Mundo en el 2008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16200" y="2370240"/>
            <a:ext cx="39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1592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 te vuelves hacia el universo, estarás sorprendido y deslumbrado con lo que se logra, aquí es donde la magia y los milagros suc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¡ELLOS FUERON GRANDES HOMBR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Tahoma"/>
              </a:rPr>
              <a:t>¿SABIAS QU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l Señor de Sipán, es la tumba más antigua  y más magnífica encontrada en las Américas; es solamente comparable a la de Tutankamon en Egip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* Caral, un descubrimiento reciente en el norte de Lima, es la más antigua civilizació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de las Américas y esta considerada entre las más antiguas en el mundo, fechando más de 3.000 A.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5440" y="177840"/>
            <a:ext cx="849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66"/>
                </a:solidFill>
                <a:latin typeface="Arial"/>
              </a:rPr>
              <a:t>ESCRIBE TU PROPIO GUION….Cuando veas cosas que no quieres, no pienses en ellas, ni escribas sobre ellas, ni empujes contra ellas, ni te unas a grupos que se enfoquen en lo que no quieres, quita tu atención de lo que no quieres….. Y ponla en lo que qui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Arial"/>
              </a:rPr>
              <a:t>¿SABIAS QU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S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 han clasific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asta la fecha 4 de los 10 cereales que existen en el mundo y son nativos del Perú: la quinua, el maíz, la cañihua y la kiwicha.  El último ha sido considerado por la NASA como elemento importante en la dieta de los astronaut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l Perú es el líder en América Latina en la producción del oro, del plomo, y del zinc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Con más de 1,701 variedades diferentes de pájaros, Perú es el país con la variedad más grande de pájaros en el mu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360" y="230040"/>
            <a:ext cx="53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TU CREAS TU PROPIO UNIVERSO MIENTRAS LO RECOR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Tahoma"/>
              </a:rPr>
              <a:t>SIENTETE ORGULLOS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31400" y="1850760"/>
            <a:ext cx="74278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bf25a"/>
              </a:buClr>
              <a:buSzPct val="80000"/>
              <a:buFont typeface="Team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eam MT"/>
              </a:rPr>
              <a:t>Tenemos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eam MT"/>
              </a:rPr>
              <a:t>  </a:t>
            </a:r>
            <a:r>
              <a:rPr b="1" lang="es-ES" sz="6000" spc="-1" strike="noStrike">
                <a:solidFill>
                  <a:srgbClr val="ffffff"/>
                </a:solidFill>
                <a:latin typeface="Team MT"/>
              </a:rPr>
              <a:t>el mejor CAFE del Mund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260280"/>
            <a:ext cx="62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Arial"/>
              </a:rPr>
              <a:t>¡TE AMO PERU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PENSEMOS …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¿No son suficientes Razones de sentirse orgulloso  de ser peruano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Más que bastant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.   VIVA EL PERU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Wendy Medium"/>
              </a:rPr>
              <a:t>    </a:t>
            </a:r>
            <a:r>
              <a:rPr b="1" lang="es-ES" sz="4400" spc="-1" strike="noStrike">
                <a:solidFill>
                  <a:srgbClr val="ffffff"/>
                </a:solidFill>
                <a:latin typeface="Wendy Medium"/>
              </a:rPr>
              <a:t>UN FELIZ ANIVERSARIO             PATR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Wendy Medium"/>
              </a:rPr>
              <a:t>JULIO 20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00"/>
                </a:solidFill>
                <a:latin typeface="Tahoma"/>
              </a:rPr>
              <a:t>¡NUESTRO  DEBER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gamos con orgullo   ¡VIVA EL PERÚ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odos los peruanos tenemos el deber de honrar al Perú,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Honramos a nuestra Patria cuando nos expresarnos bien de ella. Honrarla es honrarnos a nosotros mismos pues nosotros somos nuestra Patria.                                                      Honrarla estando aquí o fuera de ella,  destacándonos positivamente  en la sociedad que nos cobija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teger los intereses nacionales es  preocuparnos de sembrar en las generaciones venideras  principios de integridad, de verdad, de respeto a los dem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 y de amor a Dios.  Es cuidar nuestro medio ambiente, es buscar el bien  com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ú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n,   es convivir en armon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, paz y justici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teger los intereses nacionales es pensar en Dios,  en nuestro Perú y en nuestra familia ante t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61080" y="5950080"/>
            <a:ext cx="46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SOMOS LOS CREADORES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NUESTRO UNIVE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Arial"/>
              </a:rPr>
              <a:t>¿SABIAS QU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* SON PERUAN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PISCO,  EL CEVICHE, LA CHIRIMOYA, LA GUANABANA,  LA LUCMA, LA GRANADILLA, LA  ALPACA,  LA  VICUÑA,  EL  CABALLO DE PASO,  LA  QUINUA,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 OLLUCO, LA PAP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 y sus más de 3,000 variedades;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MAÍZ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CUSQUEÑO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( y tiene los granos más grandes del mundo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 más de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32 variedades conocidas);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 P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ALT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(conocida como 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uacate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y e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más suave en el mundo?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5200" y="41400"/>
            <a:ext cx="44449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LA  VICUÑA ES PERU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Y SU LANA ES LA MAS FI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DEL M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00"/>
                </a:solidFill>
                <a:latin typeface="Tahoma"/>
              </a:rPr>
              <a:t>¡TENGO EL ORGULLO DE SER PERUANO Y SOY FELIZ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* SON PERUAN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 ALGODÓN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más fino en el mundo (Pima y Tanguis);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ARBOL DE SAUCE LLORON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(contiene un componente que es la base para la aspiri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ARBOL DE TAR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del cual se extrae el tanino,  un elemento que es usado en molinos de curtido (bronceado) y casas de tinte,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LLACON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, una raíz similar a la yuca del cual  la insulina es extraída para la producción industrial;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MAC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y los componentes Huanarpo Machos, principales ingredientes del Viagra, son raíces del Peruano Mile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8900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CUANDO TE DES CUENTA DE TU POTENCIAL DE SENTIRTE BIEN,  NO PEDIRAS A NADIE QUE SEA DIFERENTE PARA SENTIRTE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ffff00"/>
                </a:solidFill>
                <a:latin typeface="Tahoma"/>
              </a:rPr>
              <a:t>PERU: País marítimo, Andino, Amazónico, con presencia en la Antartida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* EL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ERU TIENE LA VARIEDAD MAS GRANDE DE PLATOS EN EL MUNDO, 468 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N TOTAL.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(Libro de Guinnes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l Coliseo de Corridas de toros que se encuentra en Acho, Lima, está entre los más antiguos en el mundo.  Fue inaugurado por el Virrey Amat en 1766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a Universidad de San Marcos (fundada el 12.05.1551)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s la  universidad más antigua en las Amé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5:12:03Z</dcterms:created>
  <dc:creator>Celmi</dc:creator>
  <dc:description/>
  <dc:language>en-US</dc:language>
  <cp:lastModifiedBy>Oscar Santa Maria</cp:lastModifiedBy>
  <dcterms:modified xsi:type="dcterms:W3CDTF">2010-07-18T15:50:59Z</dcterms:modified>
  <cp:revision>10</cp:revision>
  <dc:subject/>
  <dc:title>MACHU PUCHU es 1 de las 7 Maravillas del Mundo ¡ QUE VIVA EL PERU!</dc:title>
</cp:coreProperties>
</file>