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ZART%20Concierto%20Clarinete%20256%20recor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E8C-7846-4D69-A35C-7CB97705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2E2-4207-4EE2-8529-4843E190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0D5-DF78-48BA-9EEB-9B14B4FF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81B-5B15-4B62-8C2D-70E8201E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DA4-FAE0-4E02-973E-98C23CC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6D9-AF82-4766-9EDB-3727D79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3B0-BD1C-415A-AB34-F0279621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195-F6B7-4DF8-A54B-E7AA806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8CD-676C-4C39-BAC3-28C15A1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30E-5790-4B6F-B8AB-AB861A7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ECA-2FFA-4B74-8343-42D1C79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5D5-2F83-4B13-BEDC-DFBAFCB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89B-ED19-42CD-9AC0-DC88848458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ZART%20Concierto%20Clarinete%20256%20recor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DRE-HIJO%20bebé%20mirándo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715000"/>
            <a:ext cx="551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99"/>
                </a:solidFill>
                <a:latin typeface="Comic Sans MS"/>
              </a:rPr>
              <a:t>Bautismo de Jesús –C-</a:t>
            </a:r>
            <a:br>
              <a:rPr sz="1600"/>
            </a:br>
            <a:r>
              <a:rPr b="0" lang="es-ES_tradnl" sz="1600" spc="-1" strike="noStrike">
                <a:solidFill>
                  <a:srgbClr val="ffcc99"/>
                </a:solidFill>
                <a:latin typeface="Comic Sans MS"/>
                <a:ea typeface="SimSun"/>
              </a:rPr>
              <a:t>Lucas 3,15-16.21-22 - 10 enero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99"/>
                </a:solidFill>
                <a:latin typeface="Comic Sans MS"/>
                <a:ea typeface="SimSun"/>
              </a:rPr>
              <a:t>Música: Concierto para clarinete  K 622 (Moz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l sentido, la esperanza, la vida entera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e la persona creyente,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e fundamenta y sostiene en la seguridad inquebrantable de saberse a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20922000">
            <a:off x="1904760" y="2285640"/>
            <a:ext cx="4314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ú eres mi hij@ amad@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cc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MOZART%20Concierto%20Clarinete%20256%20recor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utismoJ.Zeffirelli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  <a:ea typeface="SimSun"/>
              </a:rPr>
              <a:t>15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SimSun"/>
              </a:rPr>
              <a:t>El pueblo estaba a la expectativa y todos se preguntaban </a:t>
            </a:r>
            <a:br>
              <a:rPr sz="2000"/>
            </a:b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SimSun"/>
              </a:rPr>
              <a:t>si no sería Juan el Mesías.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ráctica de la justicia y del amor es el tema fundamental de la predicación de Ju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ece responder a los rasgos propios del Mesías. Tanto que el pueblo está a la expectativa, preguntándose si no sería Juan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l se encarga de poner las cosas en su sitio y señalar que lo suyo es una preparación para el testimonio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rdán%20RÍ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52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Georgia"/>
                <a:ea typeface="SimSun"/>
              </a:rPr>
              <a:t>16</a:t>
            </a:r>
            <a:r>
              <a:rPr b="0" lang="es-ES_tradnl" sz="2000" spc="-1" strike="noStrike">
                <a:solidFill>
                  <a:srgbClr val="ffffcc"/>
                </a:solidFill>
                <a:latin typeface="Georgia"/>
                <a:ea typeface="SimSun"/>
              </a:rPr>
              <a:t> Entonces Juan les dijo: 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Georgia"/>
                <a:ea typeface="SimSu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Georgia"/>
              </a:rPr>
              <a:t>-Yo os bautizo con agua, pero viene el que es más fuerte que yo, a quien no soy digno de desatarle la correa de las sandalias. Él os bautizará con Espíritu Santo y fuego.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8915400" cy="2837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 Espíritu Santo y su fuego –el coraje para afrontar desde la fe los desafí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 la vida y la sabiduría para vivir esa fe en profundidad- son los que hacen real nuestro bautismo, nos ayudan a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ivir la vida con más plenitud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una fuerza que se traduce en libertad y alegría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tar bautizad@ no es lo mismo que ser una persona bautiza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a persona bautizada con el Espíritu de Jesú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ha de procurar ser calco y copia de la conducta de Jesú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Bautismo no se debiera recibir ni administrar por costumbre social, cultural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o religiosa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unque se administre a l@s niñ@s, el Bautismo, no es cosa de niñ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86800" y="2936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ord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utismoJ.Zeffirelli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49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Georgia"/>
                <a:ea typeface="SimSun"/>
              </a:rPr>
              <a:t>21Un día en que se bautizó mucha gente, </a:t>
            </a:r>
            <a:br>
              <a:rPr sz="2000"/>
            </a:br>
            <a:r>
              <a:rPr b="0" lang="es-ES_tradnl" sz="2000" spc="-1" strike="noStrike">
                <a:solidFill>
                  <a:srgbClr val="3333cc"/>
                </a:solidFill>
                <a:latin typeface="Georgia"/>
                <a:ea typeface="SimSun"/>
              </a:rPr>
              <a:t>también Jesús se bautiz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191120"/>
            <a:ext cx="8991720" cy="28371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su Bautismo Jesús se pone entre toda la gente que acude a Juan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o muestra de la solidaridad y cercanía que durante toda su vida iba a mostrar con las personas más débiles y más necesitada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momento de su bautismo, Jesús experimentó y aceptó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na misión y un destin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e es el sentido radical y fuerte que tiene el bautismo cristian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el sacramento del compromiso responsable y la conversión personal al Evangelio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vivamos hoy nuestro bautismo: como vocación, como decisión, como elección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o compromiso, como d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ESUS%20BRAZOS%20HACIA%20EL%20CIE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22860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Y mientras Jesús oraba, se abrió el cielo, 22 y el Espíritu Santo bajó sobre él en forma corporal, como una paloma, y se oyó una voz del cielo: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-Tú eres mi Hijo amado, 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en ti me complazco.</a:t>
            </a:r>
            <a:r>
              <a:rPr b="0" i="1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cielo está siempre abierto. En Jesús ha desaparecido todo lo que impedía la comunicación con Dio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Me siento, como Jesús, amad@ incondicionalmente por Dios, siempre y en todas las circunstancias?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sa experiencia da sentido a todo: Soy amad@, no porque sea buen@ ni perfect@, sino porque soy hij@ de un Padre que es amor incondicional y gratuit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bautismo significa para Jesús ser nombrado y constituido hij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 mismo escuchamos cada un@ de nosotr@s: Tú eres hijo e hija, tú eres mesía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ú eres llamad@ como Jesús a sentirte amad@ por Dios y a anunciar a todas las criaturas que son hijos e hijas libres y que Dios las ama incondicionalmente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l amor es lo que más libera y lo que más comprom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76920" y="533520"/>
            <a:ext cx="4267080" cy="62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Hijo mío, hija mía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que estás en el mund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res mi gloria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en ti está mi rein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res mi voluntad y mi querer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u nombre es mi gozo cada día.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am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alzo y sosteng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doy todo lo que es mío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-el pan, los hermanos, el Espíritu-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Quiero que vivas feliz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que ayudes a vivir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perdono siempre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te pido que perdone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No tema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o te libraré del mal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de todas sus rede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Día y noche pienso en ti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Hijo mío. Hija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ataneo BT"/>
              </a:rPr>
              <a:t>                    </a:t>
            </a:r>
            <a:r>
              <a:rPr b="0" lang="es-ES" sz="1600" spc="-1" strike="noStrike">
                <a:solidFill>
                  <a:srgbClr val="ffffcc"/>
                </a:solidFill>
                <a:latin typeface="Cataneo BT"/>
              </a:rPr>
              <a:t>Ulibarri, F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DRE%20BEbË%20B-N" descr=""/>
          <p:cNvPicPr/>
          <p:nvPr/>
        </p:nvPicPr>
        <p:blipFill>
          <a:blip r:embed="rId1"/>
          <a:stretch/>
        </p:blipFill>
        <p:spPr>
          <a:xfrm>
            <a:off x="0" y="762120"/>
            <a:ext cx="4800600" cy="580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523880" y="152280"/>
            <a:ext cx="333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ijo mío, hija mí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7:13:15Z</dcterms:created>
  <dc:creator> M.Asun Gutiérrez</dc:creator>
  <dc:description/>
  <dc:language>en-US</dc:language>
  <cp:lastModifiedBy>Usuario</cp:lastModifiedBy>
  <dcterms:modified xsi:type="dcterms:W3CDTF">2010-01-07T17:54:01Z</dcterms:modified>
  <cp:revision>16</cp:revision>
  <dc:subject>jeasam@gmail.com</dc:subject>
  <dc:title>Bautismo de Jesús -C-</dc:title>
</cp:coreProperties>
</file>