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Semino%20Rossi%20-%2013%20-%20La_palom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EF6-F95B-45A2-B105-07703FE0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275-2BDE-46A7-8115-7A313563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339-64AB-4E56-971B-2D272FE8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4F9-A956-40FC-A6A5-ADA1BE06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336-15B2-4BBB-9FAF-9E487DE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DD2-D445-48C4-9E46-C703AF3B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0F3-967B-4074-8317-974E5D84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F18-5F2D-459F-B451-D620F52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7C3-5D2D-4BE0-88A4-D1F3F655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1BF-99AF-4717-90C6-944C8D4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419-4746-4C91-8659-350B039B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D4E-DE12-49D7-B4F8-B293AC5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745-108B-4C0A-B0E2-9FC7CD6C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mino%20Rossi%20-%2013%20-%20La_palom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92280"/>
            <a:ext cx="91440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Monotype Corsiva"/>
              </a:rPr>
              <a:t>La Paloma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205000"/>
            <a:ext cx="41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Musica escrita por Sebastián Iradier em 1863 (há 145 anos!...), depois de visitar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O ritmo é da Habanera, ritmo cub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81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Kristen ITC"/>
                <a:ea typeface="Arial Unicode MS"/>
              </a:rPr>
              <a:t>Rearranjo de: Kota 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  <p:sndAc>
      <p:stSnd>
        <p:snd r:embed="rId2" name="Semino%20Rossi%20-%2013%20-%20La_palo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Nadie me ha visto salir Si no fuí y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Y una linda Guachinanga qui me seguió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495760"/>
            <a:ext cx="78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Monotype Corsiva"/>
              </a:rPr>
              <a:t>Guachinanga: mulher que habita em Guachinanga, 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vino trás de 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mi señ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8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0" y="0"/>
            <a:ext cx="4572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Si a tu ventana llega Una Paloma,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Tratala con cariñ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Que es mi persona.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Cuentale tus am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Bien de mi vida,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Coronala de fl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Que es cosa mia.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Ay! chinita que sí!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Ay! que dame tu amor!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Ay! que ven te conmigo, </a:t>
            </a:r>
            <a:br>
              <a:rPr sz="3200"/>
            </a:br>
            <a:r>
              <a:rPr b="1" lang="nl-NL" sz="3200" spc="-1" strike="noStrike">
                <a:solidFill>
                  <a:srgbClr val="ffff00"/>
                </a:solidFill>
                <a:latin typeface="Monotype Corsiva"/>
              </a:rPr>
              <a:t>Chinita, adonde vivo yo!</a:t>
            </a:r>
            <a:r>
              <a:rPr b="0" lang="nl-NL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8000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8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439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Monotype Corsiva"/>
              </a:rPr>
              <a:t>145 anos depois e continua a ser uma canção li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4486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ffff00"/>
                </a:solidFill>
                <a:latin typeface="Monotype Corsiva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6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252000"/>
            <a:ext cx="4211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Si a tu ventana ll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Una Paloma,</a:t>
            </a:r>
            <a:r>
              <a:rPr b="1" lang="es-ES" sz="2400" spc="-1" strike="noStrike">
                <a:solidFill>
                  <a:srgbClr val="ffff00"/>
                </a:solidFill>
                <a:latin typeface="Monotype Corsiva"/>
                <a:ea typeface="Arial Unicode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03640" y="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Tratala con cariñ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es mi person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80000" y="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uentale tus amo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Bien de mi vida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oronala de flor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Que es cosa mi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chinita que sí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dame tu amor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ven te conmigo,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hinita, adonde vivo y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549360"/>
            <a:ext cx="298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chinita que sí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dame tu amor!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Ay! que ven te conmigo,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hinita, adonde vivo y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4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2974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362720" y="333360"/>
            <a:ext cx="1781280" cy="2257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1646280" cy="2544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00640"/>
            <a:ext cx="47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0"/>
            <a:ext cx="55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Cuando salí de la Ha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Monotype Corsiva"/>
              </a:rPr>
              <a:t>iValgame Dios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0:15:58Z</dcterms:created>
  <dc:creator>Hub</dc:creator>
  <dc:description/>
  <dc:language>en-US</dc:language>
  <cp:lastModifiedBy>Lino</cp:lastModifiedBy>
  <dcterms:modified xsi:type="dcterms:W3CDTF">2009-02-07T00:20:47Z</dcterms:modified>
  <cp:revision>17</cp:revision>
  <dc:subject/>
  <dc:title>Dia 1</dc:title>
</cp:coreProperties>
</file>