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Semino%20Rossi%20-%2013%20-%20La_paloma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B886-9BD8-44C3-9B26-2D3C160E7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4FDA-6E1D-4797-84F5-28178638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5F2E-6CE3-43E4-A118-973F649C9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E878-C74C-4AC4-95D4-DF445EDD3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B8B3-9806-4737-835E-F672EB9A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7462-81E8-4434-86D7-C07F0A03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628E-5774-4F41-8D7F-289F5263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77B2-C5E8-4452-8008-216F7E84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5882-0DFE-4F74-9DFA-0CAA747F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5D4F-AFE4-4701-ABA5-F60F8B84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FEAF-5FFB-44B7-A278-925D37FF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FB08-9E8D-4805-BC04-5DFB4D4C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69E6-7380-441B-B354-09C5280EB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emino%20Rossi%20-%2013%20-%20La_paloma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0" y="692280"/>
            <a:ext cx="9144000" cy="8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7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3300"/>
                </a:solidFill>
                <a:effectLst>
                  <a:outerShdw dist="107932" dir="2700000" blurRad="0" rotWithShape="0">
                    <a:srgbClr val="990000">
                      <a:alpha val="50000"/>
                    </a:srgbClr>
                  </a:outerShdw>
                </a:effectLst>
                <a:latin typeface="Monotype Corsiva"/>
              </a:rPr>
              <a:t>La Paloma</a:t>
            </a:r>
            <a:endParaRPr b="0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ff3300"/>
              </a:solidFill>
              <a:effectLst>
                <a:outerShdw dist="107932" dir="2700000" blurRad="0" rotWithShape="0">
                  <a:srgbClr val="990000">
                    <a:alpha val="5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5" name=""/>
          <p:cNvSpPr/>
          <p:nvPr/>
        </p:nvSpPr>
        <p:spPr>
          <a:xfrm>
            <a:off x="5003640" y="2205000"/>
            <a:ext cx="4140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00"/>
                </a:solidFill>
                <a:latin typeface="Monotype Corsiva"/>
                <a:ea typeface="Arial Unicode MS"/>
              </a:rPr>
              <a:t>Musica escrita por Sebastián Iradier em 1863 (há 145 anos!...), depois de visitar Cu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00"/>
                </a:solidFill>
                <a:latin typeface="Monotype Corsiva"/>
                <a:ea typeface="Arial Unicode MS"/>
              </a:rPr>
              <a:t>O ritmo é da Habanera, ritmo cuba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381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00"/>
                </a:solidFill>
                <a:latin typeface="Kristen ITC"/>
                <a:ea typeface="Arial Unicode MS"/>
              </a:rPr>
              <a:t>Rearranjo de: Kota 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random/>
    <p:sndAc>
      <p:stSnd>
        <p:snd r:embed="rId2" name="Semino%20Rossi%20-%2013%20-%20La_palom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3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9000"/>
                            </p:stCondLst>
                            <p:childTnLst>
                              <p:par>
                                <p:cTn id="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3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404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Monotype Corsiva"/>
              </a:rPr>
              <a:t>Nadie me ha visto salir Si no fuí yo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random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48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Monotype Corsiva"/>
              </a:rPr>
              <a:t>Y una linda Guachinanga qui me seguió,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5495760"/>
            <a:ext cx="782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00"/>
                </a:solidFill>
                <a:latin typeface="Monotype Corsiva"/>
              </a:rPr>
              <a:t>Guachinanga: mulher que habita em Guachinanga, Cu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random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58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1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Monotype Corsiva"/>
              </a:rPr>
              <a:t>Que vino trás de m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es-ES" sz="3200" spc="-1" strike="noStrike">
                <a:solidFill>
                  <a:srgbClr val="ffff00"/>
                </a:solidFill>
                <a:latin typeface="Monotype Corsiva"/>
              </a:rPr>
              <a:t>Que mi señ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random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68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86000" y="0"/>
            <a:ext cx="45720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00"/>
                </a:solidFill>
                <a:latin typeface="Monotype Corsiva"/>
              </a:rPr>
              <a:t>Si a tu ventana llega Una Paloma, </a:t>
            </a:r>
            <a:br>
              <a:rPr sz="3200"/>
            </a:br>
            <a:r>
              <a:rPr b="1" lang="nl-NL" sz="3200" spc="-1" strike="noStrike">
                <a:solidFill>
                  <a:srgbClr val="ffff00"/>
                </a:solidFill>
                <a:latin typeface="Monotype Corsiva"/>
              </a:rPr>
              <a:t>Tratala con cariñ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00"/>
                </a:solidFill>
                <a:latin typeface="Monotype Corsiva"/>
              </a:rPr>
              <a:t>Que es mi persona. </a:t>
            </a:r>
            <a:br>
              <a:rPr sz="3200"/>
            </a:br>
            <a:r>
              <a:rPr b="1" lang="nl-NL" sz="3200" spc="-1" strike="noStrike">
                <a:solidFill>
                  <a:srgbClr val="ffff00"/>
                </a:solidFill>
                <a:latin typeface="Monotype Corsiva"/>
              </a:rPr>
              <a:t>Cuentale tus amor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00"/>
                </a:solidFill>
                <a:latin typeface="Monotype Corsiva"/>
              </a:rPr>
              <a:t>Bien de mi vida, </a:t>
            </a:r>
            <a:br>
              <a:rPr sz="3200"/>
            </a:br>
            <a:r>
              <a:rPr b="1" lang="nl-NL" sz="3200" spc="-1" strike="noStrike">
                <a:solidFill>
                  <a:srgbClr val="ffff00"/>
                </a:solidFill>
                <a:latin typeface="Monotype Corsiva"/>
              </a:rPr>
              <a:t>Coronala de flor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00"/>
                </a:solidFill>
                <a:latin typeface="Monotype Corsiva"/>
              </a:rPr>
              <a:t>Que es cosa mia. </a:t>
            </a:r>
            <a:br>
              <a:rPr sz="3200"/>
            </a:br>
            <a:r>
              <a:rPr b="1" lang="nl-NL" sz="3200" spc="-1" strike="noStrike">
                <a:solidFill>
                  <a:srgbClr val="ffff00"/>
                </a:solidFill>
                <a:latin typeface="Monotype Corsiva"/>
              </a:rPr>
              <a:t>Ay! chinita que sí! </a:t>
            </a:r>
            <a:br>
              <a:rPr sz="3200"/>
            </a:br>
            <a:r>
              <a:rPr b="1" lang="nl-NL" sz="3200" spc="-1" strike="noStrike">
                <a:solidFill>
                  <a:srgbClr val="ffff00"/>
                </a:solidFill>
                <a:latin typeface="Monotype Corsiva"/>
              </a:rPr>
              <a:t>Ay! que dame tu amor! </a:t>
            </a:r>
            <a:br>
              <a:rPr sz="3200"/>
            </a:br>
            <a:r>
              <a:rPr b="1" lang="nl-NL" sz="3200" spc="-1" strike="noStrike">
                <a:solidFill>
                  <a:srgbClr val="ffff00"/>
                </a:solidFill>
                <a:latin typeface="Monotype Corsiva"/>
              </a:rPr>
              <a:t>Ay! que ven te conmigo, </a:t>
            </a:r>
            <a:br>
              <a:rPr sz="3200"/>
            </a:br>
            <a:r>
              <a:rPr b="1" lang="nl-NL" sz="3200" spc="-1" strike="noStrike">
                <a:solidFill>
                  <a:srgbClr val="ffff00"/>
                </a:solidFill>
                <a:latin typeface="Monotype Corsiva"/>
              </a:rPr>
              <a:t>Chinita, adonde vivo yo!</a:t>
            </a:r>
            <a:r>
              <a:rPr b="0" lang="nl-NL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8000"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78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4395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00"/>
                </a:solidFill>
                <a:latin typeface="Monotype Corsiva"/>
              </a:rPr>
              <a:t>145 anos depois e continua a ser uma canção li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random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09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44863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9600" spc="-1" strike="noStrike">
                <a:solidFill>
                  <a:srgbClr val="ffff00"/>
                </a:solidFill>
                <a:latin typeface="Monotype Corsiva"/>
              </a:rPr>
              <a:t>FIM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random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16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9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0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1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2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932360" y="252000"/>
            <a:ext cx="42116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Monotype Corsiva"/>
                <a:ea typeface="Arial Unicode MS"/>
              </a:rPr>
              <a:t>Si a tu ventana lle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Monotype Corsiva"/>
                <a:ea typeface="Arial Unicode MS"/>
              </a:rPr>
              <a:t> </a:t>
            </a:r>
            <a:r>
              <a:rPr b="1" lang="es-ES" sz="3200" spc="-1" strike="noStrike">
                <a:solidFill>
                  <a:srgbClr val="ffff00"/>
                </a:solidFill>
                <a:latin typeface="Monotype Corsiva"/>
                <a:ea typeface="Arial Unicode MS"/>
              </a:rPr>
              <a:t>Una Paloma,</a:t>
            </a:r>
            <a:r>
              <a:rPr b="1" lang="es-ES" sz="2400" spc="-1" strike="noStrike">
                <a:solidFill>
                  <a:srgbClr val="ffff00"/>
                </a:solidFill>
                <a:latin typeface="Monotype Corsiva"/>
                <a:ea typeface="Arial Unicode MS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3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03640" y="0"/>
            <a:ext cx="417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Monotype Corsiva"/>
              </a:rPr>
              <a:t>Tratala con cariñ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es-ES" sz="3200" spc="-1" strike="noStrike">
                <a:solidFill>
                  <a:srgbClr val="ffff00"/>
                </a:solidFill>
                <a:latin typeface="Monotype Corsiva"/>
              </a:rPr>
              <a:t>Que es mi persona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6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5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5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780000" y="0"/>
            <a:ext cx="53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Monotype Corsiva"/>
              </a:rPr>
              <a:t>Cuentale tus amor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Monotype Corsiva"/>
              </a:rPr>
              <a:t>Bien de mi vida,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9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260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Monotype Corsiva"/>
              </a:rPr>
              <a:t>Coronala de flor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Monotype Corsiva"/>
              </a:rPr>
              <a:t>Que es cosa mia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9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Monotype Corsiva"/>
              </a:rPr>
              <a:t>Ay! chinita que sí! 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Monotype Corsiva"/>
              </a:rPr>
              <a:t>Ay! que dame tu amor! 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Monotype Corsiva"/>
              </a:rPr>
              <a:t>Ay! que ven te conmigo, 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Monotype Corsiva"/>
              </a:rPr>
              <a:t>Chinita, adonde vivo y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9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156360" y="549360"/>
            <a:ext cx="2987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Monotype Corsiva"/>
              </a:rPr>
              <a:t>Ay! chinita que sí! 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Monotype Corsiva"/>
              </a:rPr>
              <a:t>Ay! que dame tu amor! 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Monotype Corsiva"/>
              </a:rPr>
              <a:t>Ay! que ven te conmigo, 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Monotype Corsiva"/>
              </a:rPr>
              <a:t>Chinita, adonde vivo y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9000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4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4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4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835280" y="0"/>
            <a:ext cx="52974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7362720" y="333360"/>
            <a:ext cx="1781280" cy="2257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0" y="2060640"/>
            <a:ext cx="1646280" cy="254484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random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8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5300640"/>
            <a:ext cx="47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0"/>
            <a:ext cx="558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Monotype Corsiva"/>
              </a:rPr>
              <a:t>Cuando salí de la Hab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es-ES" sz="3200" spc="-1" strike="noStrike">
                <a:solidFill>
                  <a:srgbClr val="ffff00"/>
                </a:solidFill>
                <a:latin typeface="Monotype Corsiva"/>
              </a:rPr>
              <a:t>iValgame Dios!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5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" dur="5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" dur="5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1T10:15:58Z</dcterms:created>
  <dc:creator>Hub</dc:creator>
  <dc:description/>
  <dc:language>en-US</dc:language>
  <cp:lastModifiedBy>Lino</cp:lastModifiedBy>
  <dcterms:modified xsi:type="dcterms:W3CDTF">2009-02-07T00:20:47Z</dcterms:modified>
  <cp:revision>17</cp:revision>
  <dc:subject/>
  <dc:title>Dia 1</dc:title>
</cp:coreProperties>
</file>