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781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9640" y="189000"/>
            <a:ext cx="7993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华文琥珀"/>
              </a:rPr>
              <a:t>German Photograp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14800" y="5445000"/>
            <a:ext cx="4560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华文琥珀"/>
              </a:rPr>
              <a:t>Use mouse to advance sl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4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-193680"/>
            <a:ext cx="9252000" cy="73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755640" y="41400"/>
            <a:ext cx="763272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-217440"/>
            <a:ext cx="9144000" cy="72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187280" y="0"/>
            <a:ext cx="68328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-541440" y="-212760"/>
            <a:ext cx="10153800" cy="72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-173160"/>
            <a:ext cx="9252000" cy="729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47600" y="-61920"/>
            <a:ext cx="704880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63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763640" y="4680"/>
            <a:ext cx="57438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50920" y="-4680"/>
            <a:ext cx="8713800" cy="69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747720"/>
            <a:ext cx="914400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5440" cy="61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-324000" y="-4680"/>
            <a:ext cx="9864720" cy="69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1087560"/>
            <a:ext cx="914400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mazone BT"/>
              </a:rPr>
              <a:t>Thanks for Wat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name is Patrick Notley. I am Autistic and I produced this slide show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ease…..send it round the World…Let beauty shine through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8839080" y="6629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574560"/>
            <a:ext cx="9144000" cy="57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20:26:04Z</dcterms:created>
  <dc:creator>John Reed</dc:creator>
  <dc:description/>
  <dc:language>en-US</dc:language>
  <cp:lastModifiedBy>Ian Campbell</cp:lastModifiedBy>
  <dcterms:modified xsi:type="dcterms:W3CDTF">2009-02-07T23:31:17Z</dcterms:modified>
  <cp:revision>2</cp:revision>
  <dc:subject/>
  <dc:title>Slide 1</dc:title>
</cp:coreProperties>
</file>