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CDD-A9BF-4CD3-A94F-E12CFF7C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8E6-8CF6-4158-98ED-82FFE25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237-2B6D-497E-A807-5DFD9085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DC8-8C03-4AF1-AA5B-8F70E85D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E9D-6D0B-498C-804B-848DAE7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1DE-6611-428B-BBB1-23700236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BAE-103D-4D3D-8D0F-3BC4E20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ACD-4E84-47FF-801E-077A19C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D4D-43C8-46FD-BFBB-5C3FCE4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654-7C1C-4205-ABF1-4C7326E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1D9-0541-4497-90D4-60C21CB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F3F-994D-46C9-B2A9-B6A5883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645-E75C-4F0B-A4B7-4974B618CB2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890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Un Padre Nuest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7113600" y="798480"/>
            <a:ext cx="172548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musicacristianawilkinscomonocreerendios32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PADR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cada día no te comportas como un h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NUESTR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vives aislado en tu egoí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QUE ESTAS EN LOS CIEL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sólo piensas en las cosas terre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SANTIFICADO SEA TU NOMBR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lo hon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VENGA A NOSOTROS TU REI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lo confundes con el éxito mate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ÁGASE TU VOLUNT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la aceptas como es, favorable o dolor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ASÍ EN LA TIERRA COMO EN EL CIEL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dudas de la existencia del Inf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EL PAN NUESTRO DE CADA DÍ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te preocupas por la gente que tiene ham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PERDONA NUESTRAS OFENSA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guardas rencor a tus herm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LÍBRANOS DEL MA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mas a tus pecados favorit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AME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has entendido o no has tomado en serio las palabras del Padre Nues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3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9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09480" y="1582560"/>
            <a:ext cx="807732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veces, reflexionar 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la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 l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la muerte etern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empre, pero siempre ... la elección es nuest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0880" y="609588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99"/>
                </a:solidFill>
                <a:latin typeface="Verdana"/>
              </a:rPr>
              <a:t>Comparte este mensaje.  </a:t>
            </a:r>
            <a:r>
              <a:rPr b="0" lang="es-ES_tradnl" sz="1200" spc="-1" strike="noStrike">
                <a:solidFill>
                  <a:srgbClr val="c0c0c0"/>
                </a:solidFill>
                <a:latin typeface="Verdana"/>
              </a:rPr>
              <a:t>Que Dios te bendig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8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9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4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9T20:20:39Z</dcterms:created>
  <dc:creator>Apologética Cristiana "Conoceréis la Verdad"</dc:creator>
  <dc:description>Encontrarás otras presentaciones o slideshows en nuestro sitio web:
http://www.conocereislaverdad.org</dc:description>
  <dc:language>en-US</dc:language>
  <cp:lastModifiedBy>MARIPILI</cp:lastModifiedBy>
  <dcterms:modified xsi:type="dcterms:W3CDTF">2010-02-05T14:16:45Z</dcterms:modified>
  <cp:revision>30</cp:revision>
  <dc:subject/>
  <dc:title>Un Padre Nuestro</dc:title>
</cp:coreProperties>
</file>