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6F4-A94F-4050-A32C-F7F7CE10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7A7-B810-4F94-8B06-92D214F1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C72-2637-48FF-9675-0573244E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5AE-3D5F-4623-8609-7EFD9D82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B8B-EF4B-425B-9B82-F98346C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179-068C-49F2-A4C9-BF734B9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668-C325-4A93-8576-2C570736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727-5F3F-45CB-902E-6FE5927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A1F-69DE-4B3A-ADF5-8F434456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BB4-5D10-42BD-8FB1-37766910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7BE-7F0B-4BC5-999E-C98F1A1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896-869D-4AF3-AD81-E024A49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188-32AD-4519-8051-9ACCAA1429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890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Un Padre Nuest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 Rectángulo" descr=""/>
          <p:cNvPicPr/>
          <p:nvPr/>
        </p:nvPicPr>
        <p:blipFill>
          <a:blip r:embed="rId2"/>
          <a:stretch/>
        </p:blipFill>
        <p:spPr>
          <a:xfrm>
            <a:off x="7113600" y="798480"/>
            <a:ext cx="172548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musicacristianawilkinscomonocreerendios32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PADR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cada día no te comportas como un h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NUESTR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vives aislado en tu egoí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QUE ESTAS EN LOS CIEL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sólo piensas en las cosas terre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SANTIFICADO SEA TU NOMBR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lo hon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VENGA A NOSOTROS TU REI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lo confundes con el éxito mate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HÁGASE TU VOLUNTAD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la aceptas como es, favorable o dolor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ASÍ EN LA TIERRA COMO EN EL CIEL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dudas de la existencia del Inf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EL PAN NUESTRO DE CADA DÍ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te preocupas por la gente que tiene ham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PERDONA NUESTRAS OFENSA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guardas rencor a tus herm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LÍBRANOS DEL MAL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mas a tus pecados favorit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SzPct val="120000"/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 digas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AME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si no has entendido o no has tomado en serio las palabras del Padre Nues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3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3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9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09480" y="1582560"/>
            <a:ext cx="807732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veces, reflexionar 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la di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 l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la muerte etern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empre, pero siempre ... la elección es nuest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80880" y="609588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99"/>
                </a:solidFill>
                <a:latin typeface="Verdana"/>
              </a:rPr>
              <a:t>Comparte este mensaje.  </a:t>
            </a:r>
            <a:r>
              <a:rPr b="0" lang="es-ES_tradnl" sz="1200" spc="-1" strike="noStrike">
                <a:solidFill>
                  <a:srgbClr val="c0c0c0"/>
                </a:solidFill>
                <a:latin typeface="Verdana"/>
              </a:rPr>
              <a:t>Que Dios te bendig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3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8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9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4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9T20:20:39Z</dcterms:created>
  <dc:creator>Apologética Cristiana "Conoceréis la Verdad"</dc:creator>
  <dc:description>Encontrarás otras presentaciones o slideshows en nuestro sitio web:
http://www.conocereislaverdad.org</dc:description>
  <dc:language>en-US</dc:language>
  <cp:lastModifiedBy>MARIPILI</cp:lastModifiedBy>
  <dcterms:modified xsi:type="dcterms:W3CDTF">2010-02-05T14:16:45Z</dcterms:modified>
  <cp:revision>30</cp:revision>
  <dc:subject/>
  <dc:title>Un Padre Nuestro</dc:title>
</cp:coreProperties>
</file>