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BBE-99C0-48C5-AEC3-BA87D308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161-B759-4153-86F0-6A0326F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EE6-62FC-46D0-891C-4EA32EA3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891-A84D-4970-90CB-241CF828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F2A-23BE-49F3-97A7-6BCDAFB8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678-E5F6-4AA9-A727-3BFFC76F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9C2-4AA0-4420-B645-FCCFE7A9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15F-219A-4D46-98C9-5793ECE9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AB2-AB9A-4C2E-983E-45849783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54F-DD73-47F1-BEDC-71E2B6F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170-1F5B-44C9-AED1-ACC3811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791-8DD1-4E32-8082-EF5909FB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6FA1-86F3-4D45-BC86-DE4C43FBFF4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370836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44280"/>
            <a:ext cx="5715000" cy="464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489560" y="3700440"/>
            <a:ext cx="476244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4762440" cy="4029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381560" y="400536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65" name="Oval 8"/>
          <p:cNvSpPr/>
          <p:nvPr/>
        </p:nvSpPr>
        <p:spPr>
          <a:xfrm rot="2683800">
            <a:off x="72720" y="547200"/>
            <a:ext cx="611280" cy="1297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 rot="3273000">
            <a:off x="4481280" y="4491000"/>
            <a:ext cx="610920" cy="1297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37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708360" y="3024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379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708360" y="338472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377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500720" y="3548160"/>
            <a:ext cx="4643280" cy="348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9360" y="-747720"/>
            <a:ext cx="6002640" cy="427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429000" y="314784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689360" y="3075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4721400" cy="4941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5292720" y="0"/>
            <a:ext cx="428616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284720" y="1749600"/>
            <a:ext cx="5003640" cy="3335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1008000"/>
            <a:ext cx="467352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203800" cy="5516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417920" y="37130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6172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067280" y="3645000"/>
            <a:ext cx="5076720" cy="348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500720" y="1700280"/>
            <a:ext cx="4643280" cy="396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1330200"/>
            <a:ext cx="455292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075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-316080"/>
            <a:ext cx="550872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381560" y="371304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851280" y="3333600"/>
            <a:ext cx="5292720" cy="352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476244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867280" cy="3695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429000" y="3278160"/>
            <a:ext cx="5715000" cy="389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6516720" cy="4181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429000" y="3278160"/>
            <a:ext cx="5715000" cy="389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465360" y="34354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65112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6156360" cy="4422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28464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3905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-36360" y="-747720"/>
            <a:ext cx="6048360" cy="488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564000" y="32907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-316080"/>
            <a:ext cx="5715000" cy="526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140360" y="3622680"/>
            <a:ext cx="5040000" cy="3478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426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427640" y="349236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6227640" cy="4732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3995640" y="3035160"/>
            <a:ext cx="5184720" cy="413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995640" y="3274920"/>
            <a:ext cx="5148360" cy="358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435640" cy="4305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6372360" cy="4587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381560" y="3529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53520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9360" y="-808200"/>
            <a:ext cx="571500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552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537080" y="3548160"/>
            <a:ext cx="4643280" cy="348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-108000" y="-674640"/>
            <a:ext cx="571500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211640" y="340200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140360" y="3348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476280"/>
            <a:ext cx="4390920" cy="638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554360" y="692280"/>
            <a:ext cx="462456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859280" y="3795840"/>
            <a:ext cx="4608720" cy="31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5162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7308720" cy="432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381560" y="34574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211640" y="347508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601200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4503600" cy="652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552920" y="404640"/>
            <a:ext cx="459108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4010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356000" y="3510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189000"/>
            <a:ext cx="5715000" cy="401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572000" y="3600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4589640" cy="666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608360" y="620640"/>
            <a:ext cx="453564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635280" y="2898720"/>
            <a:ext cx="5508720" cy="4130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-36360" y="-674640"/>
            <a:ext cx="5715000" cy="441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441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Normandy during WW2 and now (204 pics)"/>
          <p:cNvPicPr/>
          <p:nvPr/>
        </p:nvPicPr>
        <p:blipFill>
          <a:blip r:embed="rId2"/>
          <a:stretch/>
        </p:blipFill>
        <p:spPr>
          <a:xfrm>
            <a:off x="4427640" y="350028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708360" y="3097080"/>
            <a:ext cx="5435640" cy="407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11160"/>
            <a:ext cx="571500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780000" y="3435480"/>
            <a:ext cx="5364000" cy="3665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4286160" cy="4981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4762440" cy="3648240"/>
          </a:xfrm>
          <a:prstGeom prst="rect">
            <a:avLst/>
          </a:prstGeom>
          <a:ln w="0">
            <a:noFill/>
          </a:ln>
        </p:spPr>
      </p:pic>
      <p:sp>
        <p:nvSpPr>
          <p:cNvPr id="51" name="Oval 8"/>
          <p:cNvSpPr/>
          <p:nvPr/>
        </p:nvSpPr>
        <p:spPr>
          <a:xfrm>
            <a:off x="3419640" y="260280"/>
            <a:ext cx="865080" cy="574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7740720" y="3887640"/>
            <a:ext cx="936720" cy="693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27432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94036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4500720" y="3836880"/>
            <a:ext cx="4895640" cy="3264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27432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25560" y="-674640"/>
            <a:ext cx="5194080" cy="407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5003640" y="1925640"/>
            <a:ext cx="4140360" cy="315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1523880"/>
            <a:ext cx="5003640" cy="392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0" y="0"/>
            <a:ext cx="5715000" cy="377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Normandy during WW2 and now (204 pics)"/>
          <p:cNvPicPr/>
          <p:nvPr/>
        </p:nvPicPr>
        <p:blipFill>
          <a:blip r:embed="rId2"/>
          <a:stretch/>
        </p:blipFill>
        <p:spPr>
          <a:xfrm>
            <a:off x="3465360" y="3822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Normandy during WW2 and now (204 pics)"/>
          <p:cNvPicPr/>
          <p:nvPr/>
        </p:nvPicPr>
        <p:blipFill>
          <a:blip r:embed="rId1"/>
          <a:stretch/>
        </p:blipFill>
        <p:spPr>
          <a:xfrm>
            <a:off x="3429000" y="3268800"/>
            <a:ext cx="5715000" cy="390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Normandy during WW2 and now (204 pics)"/>
          <p:cNvPicPr/>
          <p:nvPr/>
        </p:nvPicPr>
        <p:blipFill>
          <a:blip r:embed="rId2"/>
          <a:stretch/>
        </p:blipFill>
        <p:spPr>
          <a:xfrm>
            <a:off x="0" y="0"/>
            <a:ext cx="5715000" cy="4400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6:42:24Z</dcterms:created>
  <dc:creator>Pró-imagem</dc:creator>
  <dc:description/>
  <dc:language>en-US</dc:language>
  <cp:lastModifiedBy>Barthe</cp:lastModifiedBy>
  <dcterms:modified xsi:type="dcterms:W3CDTF">2009-11-19T17:54:38Z</dcterms:modified>
  <cp:revision>37</cp:revision>
  <dc:subject/>
  <dc:title>Slide 1</dc:title>
</cp:coreProperties>
</file>