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F20-4FB2-4900-9619-62AC1640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B4D-5EFE-4BB0-92EF-D4E7224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F7-F370-4EA9-B41B-C0A479F4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EF4-7AFA-4179-AB1F-2E36C1C5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532-EF69-4D8C-AEC5-CDF3B67F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1FD-3974-4C59-81E9-89A9F00E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C25-AE84-4402-82CC-4B1258E9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F54-5112-4B9E-9001-9679A4B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0A8-13BD-4887-A225-22C59EA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F3E-FABF-4B37-A2D6-5A9E68D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735-30A6-4E08-B6C7-F95B757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86F-898F-483D-AD9A-58F223F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2A5F-D77D-4C6B-818B-FF2B3EE93E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370836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44280"/>
            <a:ext cx="57150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89560" y="3700440"/>
            <a:ext cx="476244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762440" cy="4029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400536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65" name="Oval 8"/>
          <p:cNvSpPr/>
          <p:nvPr/>
        </p:nvSpPr>
        <p:spPr>
          <a:xfrm rot="2683800">
            <a:off x="72720" y="547200"/>
            <a:ext cx="611280" cy="1297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 rot="3273000">
            <a:off x="4481280" y="4491000"/>
            <a:ext cx="610920" cy="1297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708360" y="338472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7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00720" y="3548160"/>
            <a:ext cx="464328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9360" y="-747720"/>
            <a:ext cx="6002640" cy="427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1478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689360" y="3075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2140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5292720" y="0"/>
            <a:ext cx="42861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84720" y="1749600"/>
            <a:ext cx="5003640" cy="333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008000"/>
            <a:ext cx="467352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20380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17920" y="37130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617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067280" y="3645000"/>
            <a:ext cx="507672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00720" y="1700280"/>
            <a:ext cx="4643280" cy="396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330200"/>
            <a:ext cx="455292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075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-316080"/>
            <a:ext cx="550872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381560" y="371304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851280" y="3333600"/>
            <a:ext cx="5292720" cy="352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624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867280" cy="369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278160"/>
            <a:ext cx="571500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51672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278160"/>
            <a:ext cx="571500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65360" y="34354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65112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6156360" cy="4422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28464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-36360" y="-747720"/>
            <a:ext cx="6048360" cy="488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564000" y="32907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-316080"/>
            <a:ext cx="5715000" cy="526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140360" y="3622680"/>
            <a:ext cx="5040000" cy="347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26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27640" y="349236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227640" cy="4732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995640" y="3035160"/>
            <a:ext cx="518472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995640" y="3274920"/>
            <a:ext cx="5148360" cy="358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435640" cy="4305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372360" cy="4587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3529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5352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9360" y="-808200"/>
            <a:ext cx="5715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55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37080" y="3548160"/>
            <a:ext cx="4643280" cy="348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-108000" y="-674640"/>
            <a:ext cx="571500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11640" y="340200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140360" y="3348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476280"/>
            <a:ext cx="4390920" cy="638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54360" y="692280"/>
            <a:ext cx="462456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859280" y="3795840"/>
            <a:ext cx="4608720" cy="31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5162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7308720" cy="432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3457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11640" y="347508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601200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503600" cy="652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52920" y="404640"/>
            <a:ext cx="45910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01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56000" y="3510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189000"/>
            <a:ext cx="5715000" cy="40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72000" y="3600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589640" cy="66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608360" y="620640"/>
            <a:ext cx="45356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635280" y="2898720"/>
            <a:ext cx="5508720" cy="413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-36360" y="-6746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41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27640" y="350028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708360" y="3097080"/>
            <a:ext cx="5435640" cy="407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1160"/>
            <a:ext cx="571500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780000" y="3435480"/>
            <a:ext cx="5364000" cy="366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286160" cy="4981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62440" cy="3648240"/>
          </a:xfrm>
          <a:prstGeom prst="rect">
            <a:avLst/>
          </a:prstGeom>
          <a:ln w="0">
            <a:noFill/>
          </a:ln>
        </p:spPr>
      </p:pic>
      <p:sp>
        <p:nvSpPr>
          <p:cNvPr id="51" name="Oval 8"/>
          <p:cNvSpPr/>
          <p:nvPr/>
        </p:nvSpPr>
        <p:spPr>
          <a:xfrm>
            <a:off x="3419640" y="260280"/>
            <a:ext cx="865080" cy="57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7740720" y="3887640"/>
            <a:ext cx="936720" cy="693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27432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94036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00720" y="3836880"/>
            <a:ext cx="4895640" cy="326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27432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25560" y="-674640"/>
            <a:ext cx="519408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5003640" y="1925640"/>
            <a:ext cx="4140360" cy="315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523880"/>
            <a:ext cx="500364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Normandy during WW2 and now (204 pics)"/>
          <p:cNvPicPr/>
          <p:nvPr/>
        </p:nvPicPr>
        <p:blipFill>
          <a:blip r:embed="rId2"/>
          <a:stretch/>
        </p:blipFill>
        <p:spPr>
          <a:xfrm>
            <a:off x="3465360" y="3822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268800"/>
            <a:ext cx="5715000" cy="390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6:42:24Z</dcterms:created>
  <dc:creator>Pró-imagem</dc:creator>
  <dc:description/>
  <dc:language>en-US</dc:language>
  <cp:lastModifiedBy>Barthe</cp:lastModifiedBy>
  <dcterms:modified xsi:type="dcterms:W3CDTF">2009-11-19T17:54:38Z</dcterms:modified>
  <cp:revision>37</cp:revision>
  <dc:subject/>
  <dc:title>Slide 1</dc:title>
</cp:coreProperties>
</file>