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4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3.jpeg" ContentType="image/jpeg"/>
  <Override PartName="/ppt/media/image18.jpeg" ContentType="image/jpeg"/>
  <Override PartName="/ppt/media/Chinese%20Classical%20Music-%20Erhr.wav" ContentType="audio/x-wav"/>
  <Override PartName="/ppt/media/image5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D76F-7679-4784-9B52-9150A27F5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8B4E-8CB1-425D-9EB7-3FB7A53DB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969A-0CDC-40A1-A221-BFDEDAD82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7C5B-3900-4B86-B742-F9991EA3C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DA86-5ABC-4996-8DBB-72F98DAE0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B0C5-AA8C-4433-85A9-367834068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11EE-CBB3-4E4E-BF8B-05FF2E48D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D6E8-B087-4538-8E08-0E7324CA1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D559-E8DD-4220-88DB-BCFE10BC5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70B1-BA45-4EDB-AD6F-A68CB2C5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7F1E-6DB2-4BFA-8DEA-8644F766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B2DD-1C11-490F-A537-C0DBAF80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6A2EA-E186-4880-8379-33996BD950F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nese%20Classical%20Music-%20Erhr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funzug.com/index.php/unusual-things/a-wedding-in-shanxi.htm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90640" y="182520"/>
            <a:ext cx="182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Bookman Old Style"/>
              </a:rPr>
              <a:t>Chinese mus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4280" y="9108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ccff"/>
                </a:solidFill>
                <a:latin typeface="Goudy Stout"/>
              </a:rPr>
              <a:t>♫♪♫</a:t>
            </a:r>
            <a:r>
              <a:rPr b="1" lang="es-ES" sz="2000" spc="-1" strike="noStrike">
                <a:solidFill>
                  <a:srgbClr val="00cc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907920"/>
            <a:ext cx="5678640" cy="15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Bookman Old Style"/>
              </a:rPr>
              <a:t>Boda de la nuev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Bookman Old Style"/>
              </a:rPr>
              <a:t>Realez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Bookman Old Style"/>
              </a:rPr>
              <a:t>en la China Ro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19280" y="2782800"/>
            <a:ext cx="5977080" cy="21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fffff"/>
                </a:solidFill>
                <a:latin typeface="Arial"/>
              </a:rPr>
              <a:t>A vos que creías haberlo visto todo... ¡Una Boda en ShanXi!. Tradicional- mente ShanXi era una región muy pobre de la China hasta que se descubrieron inmensos yacimientos de carbón.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fffff"/>
                </a:solidFill>
                <a:latin typeface="Arial"/>
              </a:rPr>
              <a:t>Dale una mirada a la boda de un miembro de una familia dueña de una “minita” de carbó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758760" y="6091200"/>
            <a:ext cx="159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hicho Capuch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1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4014720" cy="6021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565440" y="6503040"/>
            <a:ext cx="20156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Bookman Old Style"/>
              </a:rPr>
              <a:t>The lucky brid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427640" y="476280"/>
            <a:ext cx="4537080" cy="6048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420000" y="115920"/>
            <a:ext cx="15613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fffff"/>
                </a:solidFill>
                <a:latin typeface="Bookman Old Style"/>
              </a:rPr>
              <a:t>      </a:t>
            </a:r>
            <a:r>
              <a:rPr b="1" lang="es-ES" sz="1900" spc="-1" strike="noStrike">
                <a:solidFill>
                  <a:srgbClr val="ffffff"/>
                </a:solidFill>
                <a:latin typeface="Bookman Old Style"/>
              </a:rPr>
              <a:t>La novi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0" y="42876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3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7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8884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663880" y="6360120"/>
            <a:ext cx="30294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Bookman Old Style"/>
              </a:rPr>
              <a:t>Part of the escort team</a:t>
            </a:r>
            <a:r>
              <a:rPr b="1" lang="es-ES" sz="1900" spc="-1" strike="noStrike">
                <a:solidFill>
                  <a:srgbClr val="ffff00"/>
                </a:solidFill>
                <a:latin typeface="Bookman Old Style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649480" y="5856120"/>
            <a:ext cx="2177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fffff"/>
                </a:solidFill>
                <a:latin typeface="Bookman Old Style"/>
              </a:rPr>
              <a:t>Parte del cortej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116000" y="620640"/>
            <a:ext cx="6985080" cy="57895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705240" y="115920"/>
            <a:ext cx="77824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ffffff"/>
                </a:solidFill>
                <a:latin typeface="Bookman Old Style"/>
              </a:rPr>
              <a:t>Costosa manicura de \3.000. ¡Ni hablar del anillo de diamantes!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42760" y="6431400"/>
            <a:ext cx="55011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Bookman Old Style"/>
              </a:rPr>
              <a:t>A \3,000 manicure, forget the diamond ring.</a:t>
            </a:r>
            <a:r>
              <a:rPr b="1" lang="es-ES" sz="1900" spc="-1" strike="noStrike">
                <a:solidFill>
                  <a:srgbClr val="ffff00"/>
                </a:solidFill>
                <a:latin typeface="Bookman Old Style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322880" y="6091920"/>
            <a:ext cx="48211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Bookman Old Style"/>
              </a:rPr>
              <a:t>          </a:t>
            </a:r>
            <a:r>
              <a:rPr b="1" lang="en-US" sz="1900" spc="-1" strike="noStrike">
                <a:solidFill>
                  <a:srgbClr val="ffff00"/>
                </a:solidFill>
                <a:latin typeface="Bookman Old Style"/>
              </a:rPr>
              <a:t>No están feas esta chinitas 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676680" y="6476040"/>
            <a:ext cx="18237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fff00"/>
                </a:solidFill>
                <a:latin typeface="Bookman Old Style"/>
              </a:rPr>
              <a:t>Bride's famil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14200" y="549360"/>
            <a:ext cx="8750520" cy="58338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287160" y="119160"/>
            <a:ext cx="26283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fffff"/>
                </a:solidFill>
                <a:latin typeface="Bookman Old Style"/>
              </a:rPr>
              <a:t>La novia y su famili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68360" y="717480"/>
            <a:ext cx="8280360" cy="5519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456720" y="6287040"/>
            <a:ext cx="22305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fff00"/>
                </a:solidFill>
                <a:latin typeface="Bookman Old Style"/>
              </a:rPr>
              <a:t>The wedding hal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87720" y="189000"/>
            <a:ext cx="29696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fffff"/>
                </a:solidFill>
                <a:latin typeface="Bookman Old Style"/>
              </a:rPr>
              <a:t>El salón de la recepció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46760" y="3620880"/>
            <a:ext cx="825048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Bookman Old Style"/>
              </a:rPr>
              <a:t>In the following photos is one fleet for a wedding on June 20, 2009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Bookman Old Style"/>
              </a:rPr>
              <a:t>in Datong, a major city in Shanxi. Of course, involving another coal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Bookman Old Style"/>
              </a:rPr>
              <a:t>magnat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4360" y="2060640"/>
            <a:ext cx="95410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fffff"/>
                </a:solidFill>
                <a:latin typeface="Bookman Old Style"/>
              </a:rPr>
              <a:t>En las fotos que siguen se muestra la flotilla de una boda que se reali-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fffff"/>
                </a:solidFill>
                <a:latin typeface="Bookman Old Style"/>
              </a:rPr>
              <a:t>lizó 20 de junio de 2009 en Datong, una de las grandes ciudades de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fffff"/>
                </a:solidFill>
                <a:latin typeface="Bookman Old Style"/>
              </a:rPr>
              <a:t>Shanxi. La boda, claro, estaba relacionada con otro chino culo roto, magnate del carbó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7991280" cy="53420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234960" y="6288120"/>
            <a:ext cx="2674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Arial"/>
              </a:rPr>
              <a:t>Rolls-Royce Phanto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55640" y="824040"/>
            <a:ext cx="7777080" cy="51973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29200" y="6238080"/>
            <a:ext cx="8088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fff00"/>
                </a:solidFill>
                <a:latin typeface="Bookman Old Style"/>
              </a:rPr>
              <a:t>40 Porsche Cayennes, Range Rovers, BMW X5 and Audi Q7 are not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fff00"/>
                </a:solidFill>
                <a:latin typeface="Bookman Old Style"/>
              </a:rPr>
              <a:t>counted as the wedding fleet, only escort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65080" y="5568840"/>
            <a:ext cx="2575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fffff"/>
                </a:solidFill>
                <a:latin typeface="Bookman Old Style"/>
              </a:rPr>
              <a:t>Classic Ferrari 575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8000" y="115920"/>
            <a:ext cx="9036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fffff"/>
                </a:solidFill>
                <a:latin typeface="Bookman Old Style"/>
              </a:rPr>
              <a:t>40 Porsche Cayennes, Range-Rovers, BMW X5 y Audi Q7 no son parte de la caravana de la boda, sólo se usan para los escolta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8064720" cy="5362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900000" y="189000"/>
            <a:ext cx="7920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fffff"/>
                </a:solidFill>
                <a:latin typeface="Bookman Old Style"/>
              </a:rPr>
              <a:t>¡El trabajo de la escolta es ir delante para “abrir camino“!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88160" y="6212880"/>
            <a:ext cx="64198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fff00"/>
                </a:solidFill>
                <a:latin typeface="Bookman Old Style"/>
              </a:rPr>
              <a:t>The escort team's job is to go ahead of the wedding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fff00"/>
                </a:solidFill>
                <a:latin typeface="Bookman Old Style"/>
              </a:rPr>
              <a:t>fleet to "clear the road’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26920" y="639720"/>
            <a:ext cx="7632720" cy="56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8000" y="476280"/>
            <a:ext cx="4130640" cy="5977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958320" y="6538320"/>
            <a:ext cx="22730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fff00"/>
                </a:solidFill>
                <a:latin typeface="Bookman Old Style"/>
              </a:rPr>
              <a:t>The camera tea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4600" y="44280"/>
            <a:ext cx="29239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fffff"/>
                </a:solidFill>
                <a:latin typeface="Bookman Old Style"/>
              </a:rPr>
              <a:t>Los chicos de la prens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809240" y="4118400"/>
            <a:ext cx="36036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fff00"/>
                </a:solidFill>
                <a:latin typeface="Bookman Old Style"/>
              </a:rPr>
              <a:t>6 Jeeps as camera team</a:t>
            </a:r>
            <a:br>
              <a:rPr sz="1900"/>
            </a:br>
            <a:r>
              <a:rPr b="1" lang="es-ES" sz="1900" spc="-1" strike="noStrike">
                <a:solidFill>
                  <a:srgbClr val="ffff00"/>
                </a:solidFill>
                <a:latin typeface="Bookman Old Style"/>
              </a:rPr>
              <a:t>4 Ferrari leads</a:t>
            </a:r>
            <a:br>
              <a:rPr sz="1900"/>
            </a:br>
            <a:r>
              <a:rPr b="1" lang="es-ES" sz="1900" spc="-1" strike="noStrike">
                <a:solidFill>
                  <a:srgbClr val="ffff00"/>
                </a:solidFill>
                <a:latin typeface="Bookman Old Style"/>
              </a:rPr>
              <a:t>4 Rolls Royce main fleet</a:t>
            </a:r>
            <a:br>
              <a:rPr sz="1900"/>
            </a:br>
            <a:r>
              <a:rPr b="1" lang="es-ES" sz="1900" spc="-1" strike="noStrike">
                <a:solidFill>
                  <a:srgbClr val="ffff00"/>
                </a:solidFill>
                <a:latin typeface="Bookman Old Style"/>
              </a:rPr>
              <a:t>6 Mercedes</a:t>
            </a:r>
            <a:br>
              <a:rPr sz="1900"/>
            </a:br>
            <a:r>
              <a:rPr b="1" lang="es-ES" sz="1900" spc="-1" strike="noStrike">
                <a:solidFill>
                  <a:srgbClr val="ffff00"/>
                </a:solidFill>
                <a:latin typeface="Bookman Old Style"/>
              </a:rPr>
              <a:t>6 Bentleys</a:t>
            </a:r>
            <a:br>
              <a:rPr sz="1900"/>
            </a:br>
            <a:r>
              <a:rPr b="1" lang="es-ES" sz="1900" spc="-1" strike="noStrike">
                <a:solidFill>
                  <a:srgbClr val="ffff00"/>
                </a:solidFill>
                <a:latin typeface="Bookman Old Style"/>
              </a:rPr>
              <a:t>20 Audi A8s</a:t>
            </a:r>
            <a:br>
              <a:rPr sz="1900"/>
            </a:br>
            <a:r>
              <a:rPr b="1" lang="es-ES" sz="1900" spc="-1" strike="noStrike">
                <a:solidFill>
                  <a:srgbClr val="ffff00"/>
                </a:solidFill>
                <a:latin typeface="Bookman Old Style"/>
              </a:rPr>
              <a:t>Hummer at the back</a:t>
            </a:r>
            <a:br>
              <a:rPr sz="1900"/>
            </a:br>
            <a:r>
              <a:rPr b="1" lang="es-ES" sz="1900" spc="-1" strike="noStrike">
                <a:solidFill>
                  <a:srgbClr val="ffff00"/>
                </a:solidFill>
                <a:latin typeface="Bookman Old Style"/>
              </a:rPr>
              <a:t>Cayennes for "odd jobs"!!!!!!!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392720" y="404640"/>
            <a:ext cx="45720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fffff"/>
                </a:solidFill>
                <a:latin typeface="Bookman Old Style"/>
              </a:rPr>
              <a:t>6 jeeps para el equipo de cámara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fffff"/>
                </a:solidFill>
                <a:latin typeface="Bookman Old Style"/>
              </a:rPr>
              <a:t>4 Ferraris adelante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fffff"/>
                </a:solidFill>
                <a:latin typeface="Bookman Old Style"/>
              </a:rPr>
              <a:t>4 Rolls-Royce la flota principal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fffff"/>
                </a:solidFill>
                <a:latin typeface="Bookman Old Style"/>
              </a:rPr>
              <a:t>6 Mercedes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fffff"/>
                </a:solidFill>
                <a:latin typeface="Bookman Old Style"/>
              </a:rPr>
              <a:t>6 Bentleys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fffff"/>
                </a:solidFill>
                <a:latin typeface="Bookman Old Style"/>
              </a:rPr>
              <a:t>20 Audi A8s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fffff"/>
                </a:solidFill>
                <a:latin typeface="Bookman Old Style"/>
              </a:rPr>
              <a:t>Hummer en la parte de atrás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fffff"/>
                </a:solidFill>
                <a:latin typeface="Bookman Old Style"/>
              </a:rPr>
              <a:t>¡Cayennes por un si acaso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69480" y="3507840"/>
            <a:ext cx="7476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Bookman Old Style"/>
                <a:hlinkClick r:id="rId1"/>
              </a:rPr>
              <a:t>http://www.funzug.com/index.php/unusual-things/a-wedding-in-shanxi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96080" y="3119400"/>
            <a:ext cx="10875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fffff"/>
                </a:solidFill>
                <a:latin typeface="Bookman Old Style"/>
              </a:rPr>
              <a:t>Fuente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1557360"/>
            <a:ext cx="95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s-ES_tradnl" sz="4000" spc="-1" strike="noStrike">
                <a:solidFill>
                  <a:srgbClr val="ffffff"/>
                </a:solidFill>
                <a:latin typeface="Arial"/>
              </a:rPr>
              <a:t>¿ Estos son COMUNISTA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03120" y="6307200"/>
            <a:ext cx="159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hicho Capuch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0200" y="4761000"/>
            <a:ext cx="808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Arial"/>
              </a:rPr>
              <a:t>Que los reparioooooo !!! jijijijijii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3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3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00000" y="723960"/>
            <a:ext cx="7488360" cy="5516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043360" y="6360120"/>
            <a:ext cx="50605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Bookman Old Style"/>
              </a:rPr>
              <a:t>A Ferrari here can only be the escort car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73000" y="260280"/>
            <a:ext cx="36327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fffff"/>
                </a:solidFill>
                <a:latin typeface="Bookman Old Style"/>
              </a:rPr>
              <a:t>¡Sólo Ferraris para el cortejo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69840" y="787320"/>
            <a:ext cx="7274160" cy="5443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324160" y="6360120"/>
            <a:ext cx="44982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Bookman Old Style"/>
              </a:rPr>
              <a:t>Wedding limo: Rolls-Royce Phanto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32880" y="333360"/>
            <a:ext cx="60955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fffff"/>
                </a:solidFill>
                <a:latin typeface="Bookman Old Style"/>
              </a:rPr>
              <a:t>La limusina de la pareja: un Rollo-Royce Phanto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26920" y="2700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644440" y="6380640"/>
            <a:ext cx="24757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Bookman Old Style"/>
              </a:rPr>
              <a:t>The Groom's hou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72880" y="6000840"/>
            <a:ext cx="29224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fffff"/>
                </a:solidFill>
                <a:latin typeface="Bookman Old Style"/>
              </a:rPr>
              <a:t>La residencia del novi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11280" y="909720"/>
            <a:ext cx="7993080" cy="5327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07200" y="6287040"/>
            <a:ext cx="73864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Bookman Old Style"/>
              </a:rPr>
              <a:t>Part of the dowry (cheque, gold bars and gold rice bowl set)</a:t>
            </a:r>
            <a:r>
              <a:rPr b="1" lang="es-ES" sz="1900" spc="-1" strike="noStrike">
                <a:solidFill>
                  <a:srgbClr val="ffff00"/>
                </a:solidFill>
                <a:latin typeface="Bookman Old Style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01360" y="237960"/>
            <a:ext cx="58820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fffff"/>
                </a:solidFill>
                <a:latin typeface="Bookman Old Style"/>
              </a:rPr>
              <a:t>Una parte de la dote : un cheque, barras de oro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fffff"/>
                </a:solidFill>
                <a:latin typeface="Bookman Old Style"/>
              </a:rPr>
              <a:t>y cuencas arroceras de or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9640" y="741240"/>
            <a:ext cx="8209080" cy="5472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511280" y="6360120"/>
            <a:ext cx="61243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Bookman Old Style"/>
              </a:rPr>
              <a:t>The Lambo (second one) is also part of the dowry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6880" y="260280"/>
            <a:ext cx="57891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fffff"/>
                </a:solidFill>
                <a:latin typeface="Bookman Old Style"/>
              </a:rPr>
              <a:t>¡Este Lamborghini también es parte de la dote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783680" y="6020280"/>
            <a:ext cx="41720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Bookman Old Style"/>
              </a:rPr>
              <a:t>Groom with the best men "team"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16160" y="5589720"/>
            <a:ext cx="40183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fffff"/>
                </a:solidFill>
                <a:latin typeface="Bookman Old Style"/>
              </a:rPr>
              <a:t>El novio y el </a:t>
            </a:r>
            <a:r>
              <a:rPr b="1" i="1" lang="es-ES" sz="1900" spc="-1" strike="noStrike">
                <a:solidFill>
                  <a:srgbClr val="ffffff"/>
                </a:solidFill>
                <a:latin typeface="Bookman Old Style"/>
              </a:rPr>
              <a:t>‘equipo’</a:t>
            </a:r>
            <a:r>
              <a:rPr b="1" lang="es-ES" sz="1900" spc="-1" strike="noStrike">
                <a:solidFill>
                  <a:srgbClr val="ffffff"/>
                </a:solidFill>
                <a:latin typeface="Bookman Old Style"/>
              </a:rPr>
              <a:t> de padrin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39640" y="739800"/>
            <a:ext cx="8136000" cy="54244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286440" y="333360"/>
            <a:ext cx="28310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fffff"/>
                </a:solidFill>
                <a:latin typeface="Bookman Old Style"/>
              </a:rPr>
              <a:t>Residencia de la novi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696840" y="6215400"/>
            <a:ext cx="17521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Bookman Old Style"/>
              </a:rPr>
              <a:t>Bride's hom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971280" y="4868640"/>
            <a:ext cx="360360" cy="433080"/>
          </a:xfrm>
          <a:prstGeom prst="line">
            <a:avLst/>
          </a:prstGeom>
          <a:ln w="442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330200" y="4867200"/>
            <a:ext cx="508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Bookman Old Style"/>
              </a:rPr>
              <a:t>¡Alfombrado hasta más allá de media call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292760" y="5300640"/>
            <a:ext cx="405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Bookman Old Style"/>
              </a:rPr>
              <a:t>Carpeted until beyond half stree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9T20:55:09Z</dcterms:created>
  <dc:creator>CHICHO CAPUCHO</dc:creator>
  <dc:description/>
  <dc:language>en-US</dc:language>
  <cp:lastModifiedBy>CHICHO CAPUCHO</cp:lastModifiedBy>
  <dcterms:modified xsi:type="dcterms:W3CDTF">2010-04-15T12:26:31Z</dcterms:modified>
  <cp:revision>88</cp:revision>
  <dc:subject/>
  <dc:title>Diapositiva 1</dc:title>
</cp:coreProperties>
</file>