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38.jpeg" ContentType="image/jpeg"/>
  <Override PartName="/ppt/media/image3.gif" ContentType="image/gif"/>
  <Override PartName="/ppt/media/image42.jpeg" ContentType="image/jpeg"/>
  <Override PartName="/ppt/media/image19.jpeg" ContentType="image/jpeg"/>
  <Override PartName="/ppt/media/image4.gif" ContentType="image/gif"/>
  <Override PartName="/ppt/media/image33.jpeg" ContentType="image/jpeg"/>
  <Override PartName="/ppt/media/Marilyn%20Monroe%20-%20Diamonds%20are%20a%20girl's%20best%20friend.wav" ContentType="audio/x-wav"/>
  <Override PartName="/ppt/media/image25.gif" ContentType="image/gif"/>
  <Override PartName="/ppt/media/image43.jpeg" ContentType="image/jpeg"/>
  <Override PartName="/ppt/media/image36.jpeg" ContentType="image/jpeg"/>
  <Override PartName="/ppt/media/image2.jpeg" ContentType="image/jpeg"/>
  <Override PartName="/ppt/media/image5.gif" ContentType="image/gif"/>
  <Override PartName="/ppt/media/image23.jpeg" ContentType="image/jpeg"/>
  <Override PartName="/ppt/media/image48.jpeg" ContentType="image/jpeg"/>
  <Override PartName="/ppt/media/image9.gif" ContentType="image/gif"/>
  <Override PartName="/ppt/media/image16.jpeg" ContentType="image/jpeg"/>
  <Override PartName="/ppt/media/image13.gif" ContentType="image/gif"/>
  <Override PartName="/ppt/media/image1.gif" ContentType="image/gif"/>
  <Override PartName="/ppt/media/image59.gif" ContentType="image/gif"/>
  <Override PartName="/ppt/media/image18.jpeg" ContentType="image/jpeg"/>
  <Override PartName="/ppt/media/image22.gif" ContentType="image/gif"/>
  <Override PartName="/ppt/media/image27.jpeg" ContentType="image/jpeg"/>
  <Override PartName="/ppt/media/image50.jpeg" ContentType="image/jpeg"/>
  <Override PartName="/ppt/media/image24.jpeg" ContentType="image/jpeg"/>
  <Override PartName="/ppt/media/image17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31.jpeg" ContentType="image/jpeg"/>
  <Override PartName="/ppt/media/image53.jpeg" ContentType="image/jpeg"/>
  <Override PartName="/ppt/media/image6.gif" ContentType="image/gif"/>
  <Override PartName="/ppt/media/image11.gif" ContentType="image/gif"/>
  <Override PartName="/ppt/media/image26.jpeg" ContentType="image/jpeg"/>
  <Override PartName="/ppt/media/image7.gif" ContentType="image/gif"/>
  <Override PartName="/ppt/media/image10.gif" ContentType="image/gif"/>
  <Override PartName="/ppt/media/image52.jpeg" ContentType="image/jpeg"/>
  <Override PartName="/ppt/media/image29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media/image58.gif" ContentType="image/gif"/>
  <Override PartName="/ppt/media/image30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th%20Century%20Fox.wav" ContentType="audio/x-wav"/>
  <Override PartName="/ppt/media/image37.jpeg" ContentType="image/jpeg"/>
  <Override PartName="/ppt/media/image14.gif" ContentType="image/gif"/>
  <Override PartName="/ppt/media/image39.jpeg" ContentType="image/jpeg"/>
  <Override PartName="/ppt/media/image40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8.gif" ContentType="image/gif"/>
  <Override PartName="/ppt/media/image49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7339-8ADB-4223-9D3C-412600B60C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0C95-2593-4CF5-8E0D-60751C0DB34E}" type="slidenum">
              <a:rPr b="0" i="1" lang="fr-CA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388-AF47-4A64-8896-BE438018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0DA-81B1-42EA-BBDF-E664A821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7C1-6F78-453C-9B61-2DC3C318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F6D-2AA8-4770-AC72-8AF5DF35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FCE3-7366-4001-AADB-6E234EF0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0DD6-9473-43E2-BD2D-1698A353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02D0-A885-4078-B5F2-4FE2DD7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9CBA-2669-4F4C-8D6B-A008D4F6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4C82-ED3A-4925-8546-3A74B7EE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38E7-347B-45A7-9952-BE438281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6252-3167-4FF9-97D4-AFE9236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7BA-8F8C-40C0-9A7A-8EF59561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C8B9-BD24-4885-AC6D-8C4103E0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4401-E11B-4C6F-9966-68A8D445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8A65-7891-4333-A939-5C412E3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D714-81DF-47CA-86D8-0506F2E3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2AAE-90CE-49C6-B89B-C230D621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3D98-5AFF-4CA3-A7AB-5EE6662E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724B-ABB6-4238-9A2E-CE9DB8D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7A7D-3884-43BB-B92B-531CB564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DA3E-D1AF-4269-BF55-3F4CB635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D44B-F4F2-4A1A-920A-1F021242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1F0-3B7D-4571-969B-B0CD84F3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854A-9241-4ECB-B8F0-B1B71486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BD88-3FC8-4536-8DAC-794F2709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4DE6-BF1B-4558-8648-67425D7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A9FA-9760-4312-924C-CC6778B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AF9A-19B4-49C7-A21A-85E13A88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96CB-89F2-444B-86C0-E5ABD6BD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B1AA-FE1B-4DA3-9040-B0AB8FB3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DEA6-E852-4364-863D-C710AD3C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8105-9AFC-4DE1-8A8C-8C344EE2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2A34C-22E0-44CF-BA29-A4858AA7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883-9E93-4653-92DB-F8C36669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29548-D688-48E2-A317-4A49ACB8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E627-D0E7-4156-8379-582E38D4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8189-9EB7-431D-BBF8-D6F7BB41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1B57-4759-4469-97B7-C5A86C3A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40BF-36A7-423D-815A-0F3B8840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39FF-A8BA-4E16-ACAE-BDE5EE4F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401A-89E8-44F4-8C15-AC53E9E1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D56B3-CE4C-4587-8194-B74A23DA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0299-D933-43FB-AC01-ABA97356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6BC-4246-4F1D-8FE7-2F5F9E7D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073-5DB4-4113-881D-461A9A64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40A-16DD-4FD6-A356-333239D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142-8036-40CE-9BD2-1304EE5E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EC7-2CDB-46A7-93B5-0CE11E8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9F7-2A1D-42B5-A697-7401F78DA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0F5A-F22A-4A2E-8299-EBDA68E35E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6B70-8BB0-47AC-821E-0DCFF440C1B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AA96-795C-486E-B98F-462E2E452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jpe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audio" Target="../media/th%20Century%20Fox.wav"/><Relationship Id="rId1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22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audio" Target="../media/Marilyn%20Monroe%20-%20Diamonds%20are%20a%20girl&apos;s%20best%20friend.wav"/><Relationship Id="rId1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11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55.jpe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57.jpe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58.gif"/><Relationship Id="rId7" Type="http://schemas.openxmlformats.org/officeDocument/2006/relationships/image" Target="../media/image58.gif"/><Relationship Id="rId8" Type="http://schemas.openxmlformats.org/officeDocument/2006/relationships/image" Target="../media/image59.gif"/><Relationship Id="rId9" Type="http://schemas.openxmlformats.org/officeDocument/2006/relationships/image" Target="../media/image59.gif"/><Relationship Id="rId10" Type="http://schemas.openxmlformats.org/officeDocument/2006/relationships/image" Target="../media/image59.gif"/><Relationship Id="rId11" Type="http://schemas.openxmlformats.org/officeDocument/2006/relationships/image" Target="../media/image59.gif"/><Relationship Id="rId12" Type="http://schemas.openxmlformats.org/officeDocument/2006/relationships/image" Target="../media/image59.gi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9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9.gif"/><Relationship Id="rId7" Type="http://schemas.openxmlformats.org/officeDocument/2006/relationships/image" Target="../media/image23.jpe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785440" cy="6473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333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iero que todos sepáis que siempre hay 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y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1125360"/>
            <a:ext cx="41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Heavy"/>
              </a:rPr>
              <a:t>!! EL CINE ¡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276640"/>
            <a:ext cx="73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empre hay un presente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3284640"/>
            <a:ext cx="41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Heavy"/>
              </a:rPr>
              <a:t>!! EL CINE ¡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4529160"/>
            <a:ext cx="76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empre existirá un mañana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5516640"/>
            <a:ext cx="41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Heavy"/>
              </a:rPr>
              <a:t>!! EL CINE ¡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995640" y="5084640"/>
            <a:ext cx="495360" cy="48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3924360" y="4076640"/>
            <a:ext cx="495360" cy="48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924360" y="2852640"/>
            <a:ext cx="49536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3924360" y="184464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6732720" y="1268280"/>
            <a:ext cx="208728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randomBar dir="vert"/>
    <p:sndAc>
      <p:stSnd>
        <p:snd r:embed="rId11" name="th%20Century%20Fox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664240" cy="648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611280" y="184464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8028000" y="33336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8101080" y="170028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8172360" y="342900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1"/>
          <a:stretch/>
        </p:blipFill>
        <p:spPr>
          <a:xfrm>
            <a:off x="8172360" y="472428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8101080" y="5950080"/>
            <a:ext cx="503280" cy="479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3"/>
          <a:stretch/>
        </p:blipFill>
        <p:spPr>
          <a:xfrm>
            <a:off x="539640" y="306864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4"/>
          <a:stretch/>
        </p:blipFill>
        <p:spPr>
          <a:xfrm>
            <a:off x="539640" y="4508640"/>
            <a:ext cx="503280" cy="479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5"/>
          <a:stretch/>
        </p:blipFill>
        <p:spPr>
          <a:xfrm>
            <a:off x="539640" y="5805360"/>
            <a:ext cx="503280" cy="479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755640" y="3860640"/>
            <a:ext cx="1886040" cy="2536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900000" y="981000"/>
            <a:ext cx="221796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221760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6300720" y="5013360"/>
            <a:ext cx="221796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00" y="692280"/>
            <a:ext cx="856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Pristina"/>
                <a:ea typeface="SimSun"/>
              </a:rPr>
              <a:t>Recomiendo que si estás con prisa,mejor lo dej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Pristina"/>
                <a:ea typeface="SimSun"/>
              </a:rPr>
              <a:t>para otro momento está programado y tarda u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Pristina"/>
                <a:ea typeface="SimSun"/>
              </a:rPr>
              <a:t>minutos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3573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urlz MT"/>
                <a:ea typeface="SimSun"/>
              </a:rPr>
              <a:t>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1008000" cy="1174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47640" y="4508640"/>
            <a:ext cx="5185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Curlz MT"/>
                <a:ea typeface="SimSun"/>
              </a:rPr>
              <a:t>Mejor, no uses el rat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80"/>
                </a:solidFill>
                <a:latin typeface="Curlz MT"/>
                <a:ea typeface="SimSun"/>
              </a:rPr>
              <a:t>dejar sol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804000" y="458136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5877000"/>
            <a:ext cx="237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radley Hand ITC"/>
                <a:ea typeface="SimSun"/>
              </a:rPr>
              <a:t>Son las </a:t>
            </a:r>
            <a:fld id="{15284132-C7A9-41CE-98C2-6257659BADFC}" type="datetime10">
              <a:rPr b="1" lang="en-US" sz="2000" spc="-1" strike="noStrike">
                <a:solidFill>
                  <a:srgbClr val="ffff00"/>
                </a:solidFill>
                <a:latin typeface="Bradley Hand ITC"/>
                <a:ea typeface="SimSun"/>
              </a:rPr>
              <a:t>07:29</a:t>
            </a:fld>
            <a:r>
              <a:rPr b="1" lang="en-US" sz="2000" spc="-1" strike="noStrike">
                <a:solidFill>
                  <a:srgbClr val="ffff00"/>
                </a:solidFill>
                <a:latin typeface="Bradley Hand ITC"/>
                <a:ea typeface="SimSun"/>
              </a:rPr>
              <a:t>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539640" y="3933720"/>
            <a:ext cx="365400" cy="503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365040" cy="503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9"/>
          <a:stretch/>
        </p:blipFill>
        <p:spPr>
          <a:xfrm>
            <a:off x="7740720" y="4508640"/>
            <a:ext cx="365040" cy="502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8172360" y="2276640"/>
            <a:ext cx="365040" cy="50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5796000" y="5805360"/>
            <a:ext cx="365040" cy="5032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u"/>
    <p:sndAc>
      <p:stSnd>
        <p:snd r:embed="rId12" name="Marilyn%20Monroe%20-%20Diamonds%20are%20a%20girl's%20best%20friend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600"/>
                            </p:stCondLst>
                            <p:childTnLst>
                              <p:par>
                                <p:cTn id="68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100"/>
                            </p:stCondLst>
                            <p:childTnLst>
                              <p:par>
                                <p:cTn id="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1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450"/>
                            </p:stCondLst>
                            <p:childTnLst>
                              <p:par>
                                <p:cTn id="105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7950"/>
                            </p:stCondLst>
                            <p:childTnLst>
                              <p:par>
                                <p:cTn id="116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5473440" cy="7101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5545080" cy="7101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68000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56360" y="2708280"/>
            <a:ext cx="2274840" cy="1874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411280" y="2924280"/>
            <a:ext cx="3961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urlz MT"/>
              </a:rPr>
              <a:t>Hoy....</a:t>
            </a:r>
            <a:endParaRPr b="1" lang="en-US" sz="44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404640"/>
            <a:ext cx="482472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A68E-A02D-48DD-AE62-0C0040C5F48C}" type="datetime3">
              <a:rPr b="1" lang="es-ES" sz="2000" spc="-1" strike="noStrike">
                <a:solidFill>
                  <a:srgbClr val="ff3300"/>
                </a:solidFill>
                <a:latin typeface="Comic Sans MS"/>
                <a:ea typeface="SimSun"/>
              </a:rPr>
              <a:t>29 de julio de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Comic Sans MS"/>
                <a:ea typeface="SimSun"/>
              </a:rPr>
              <a:t> </a:t>
            </a:r>
            <a:r>
              <a:rPr b="1" lang="es-ES" sz="2000" spc="-1" strike="noStrike">
                <a:solidFill>
                  <a:srgbClr val="ff3300"/>
                </a:solidFill>
                <a:latin typeface="Comic Sans MS"/>
                <a:ea typeface="SimSun"/>
              </a:rPr>
              <a:t>son las </a:t>
            </a:r>
            <a:fld id="{4D4535B4-6F24-44BD-8C0C-6D9ABDBF460B}" type="datetime10">
              <a:rPr b="1" lang="es-ES" sz="2000" spc="-1" strike="noStrike">
                <a:solidFill>
                  <a:srgbClr val="ff3300"/>
                </a:solidFill>
                <a:latin typeface="Comic Sans MS"/>
                <a:ea typeface="SimSun"/>
              </a:rPr>
              <a:t>07:29</a:t>
            </a:fld>
            <a:r>
              <a:rPr b="1" lang="es-ES" sz="2000" spc="-1" strike="noStrike">
                <a:solidFill>
                  <a:srgbClr val="99cc00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  <a:ea typeface="SimSun"/>
              </a:rPr>
              <a:t>Un abrazo y disfruta de de la R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  <a:ea typeface="SimSun"/>
              </a:rPr>
              <a:t>del glamou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403280" y="5300640"/>
            <a:ext cx="58327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urlz MT"/>
              </a:rPr>
              <a:t>¡¡ Presentamos !!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19930200">
            <a:off x="468360" y="549000"/>
            <a:ext cx="1511280" cy="136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 flipH="1" rot="1832400">
            <a:off x="7235640" y="260280"/>
            <a:ext cx="1511280" cy="1440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6012000" y="2205000"/>
            <a:ext cx="2663640" cy="1925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9"/>
          <a:stretch/>
        </p:blipFill>
        <p:spPr>
          <a:xfrm>
            <a:off x="1258920" y="1052640"/>
            <a:ext cx="593640" cy="582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7380360" y="836640"/>
            <a:ext cx="593640" cy="582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468360" y="5589720"/>
            <a:ext cx="593640" cy="582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7740720" y="5661000"/>
            <a:ext cx="593640" cy="5824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8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800"/>
                            </p:stCondLst>
                            <p:childTnLst>
                              <p:par>
                                <p:cTn id="138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3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300"/>
                            </p:stCondLst>
                            <p:childTnLst>
                              <p:par>
                                <p:cTn id="150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8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60498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3492360" y="4321080"/>
            <a:ext cx="1886040" cy="25369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cover dir="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468360" y="260280"/>
            <a:ext cx="221760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2217600" cy="134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925040" cy="6838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684360" y="3500280"/>
            <a:ext cx="2303280" cy="20894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radley Hand ITC"/>
              </a:rPr>
              <a:t>MARILYN  MONR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067280" y="189000"/>
            <a:ext cx="696960" cy="696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1728720" y="1728720"/>
            <a:ext cx="399960" cy="411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250920" y="981000"/>
            <a:ext cx="24112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3492360" y="2637000"/>
            <a:ext cx="2340000" cy="2160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6300720" y="907920"/>
            <a:ext cx="2016360" cy="1871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2"/>
          <a:stretch/>
        </p:blipFill>
        <p:spPr>
          <a:xfrm>
            <a:off x="179280" y="4292640"/>
            <a:ext cx="2340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435" name=""/>
          <p:cNvSpPr/>
          <p:nvPr/>
        </p:nvSpPr>
        <p:spPr>
          <a:xfrm>
            <a:off x="1116000" y="407664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Era de carne y se fotografiaba de ca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Tenias la impresión que bastaba com alargar la mano para poder tocarla.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fué luz de Crepusculo de Dios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(Bylly Wi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16360" y="1628640"/>
            <a:ext cx="49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0000"/>
                </a:solidFill>
                <a:latin typeface="Forte"/>
              </a:rPr>
              <a:t>Fin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7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8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9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2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049800" cy="6858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39640" y="620640"/>
            <a:ext cx="824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Curlz MT"/>
                <a:ea typeface="Arial"/>
              </a:rPr>
              <a:t>Si te ha gustado,mandalo a tus amigos/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596360" y="5734080"/>
            <a:ext cx="730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urlz MT"/>
              </a:rPr>
              <a:t>E.P</a:t>
            </a:r>
            <a:endParaRPr b="1" lang="en-US" sz="4800" spc="1" strike="noStrike">
              <a:ln w="2232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7236000" y="620640"/>
            <a:ext cx="1908000" cy="11318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0" y="404640"/>
            <a:ext cx="1908000" cy="11322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8"/>
          <a:stretch/>
        </p:blipFill>
        <p:spPr>
          <a:xfrm>
            <a:off x="3132000" y="57340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9"/>
          <a:stretch/>
        </p:blipFill>
        <p:spPr>
          <a:xfrm>
            <a:off x="4643280" y="57340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10"/>
          <a:stretch/>
        </p:blipFill>
        <p:spPr>
          <a:xfrm>
            <a:off x="6084720" y="573408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11"/>
          <a:stretch/>
        </p:blipFill>
        <p:spPr>
          <a:xfrm flipH="1">
            <a:off x="3492000" y="981000"/>
            <a:ext cx="311400" cy="2160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2"/>
          <a:stretch/>
        </p:blipFill>
        <p:spPr>
          <a:xfrm>
            <a:off x="1763640" y="5734080"/>
            <a:ext cx="193680" cy="19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150"/>
                            </p:stCondLst>
                            <p:childTnLst>
                              <p:par>
                                <p:cTn id="38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11280" y="2205000"/>
            <a:ext cx="7993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Franklin Gothic Heavy"/>
              </a:rPr>
              <a:t>EN MARILYN LA ESENCIA DE MUJER</a:t>
            </a:r>
            <a:r>
              <a:rPr b="1" lang="es-ES_tradnl" sz="3600" spc="-1" strike="noStrike">
                <a:solidFill>
                  <a:srgbClr val="ffff00"/>
                </a:solidFill>
                <a:latin typeface="Franklin Gothic Heavy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Franklin Gothic Heavy"/>
              </a:rPr>
              <a:t>SE</a:t>
            </a:r>
            <a:r>
              <a:rPr b="1" lang="es-ES_tradnl" sz="3600" spc="-1" strike="noStrike">
                <a:solidFill>
                  <a:srgbClr val="ffff00"/>
                </a:solidFill>
                <a:latin typeface="Franklin Gothic Heavy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Franklin Gothic Heavy"/>
              </a:rPr>
              <a:t>ELEVA A LIMITES INSOSPECHADOS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84640"/>
            <a:ext cx="87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ffff"/>
                </a:solidFill>
                <a:latin typeface="Rockwell"/>
              </a:rPr>
              <a:t>CREO QUE NI EN MIL AÑOS,EL SEXO FEMENINO</a:t>
            </a:r>
            <a:r>
              <a:rPr b="1" lang="es-ES_tradnl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_tradnl" sz="4000" spc="-1" strike="noStrike">
                <a:solidFill>
                  <a:srgbClr val="00ffff"/>
                </a:solidFill>
                <a:latin typeface="Rockwell"/>
              </a:rPr>
              <a:t>PODRÁ ALCANZARL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851280" y="260280"/>
            <a:ext cx="1440000" cy="2055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1042920" y="1125360"/>
            <a:ext cx="696960" cy="696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1"/>
          <a:stretch/>
        </p:blipFill>
        <p:spPr>
          <a:xfrm>
            <a:off x="7740720" y="5661000"/>
            <a:ext cx="696960" cy="696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0920" y="530064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66"/>
                </a:solidFill>
                <a:latin typeface="Forte"/>
              </a:rPr>
              <a:t>Adaptacion:</a:t>
            </a:r>
            <a:r>
              <a:rPr b="0" lang="es-ES" sz="4400" spc="-1" strike="noStrike">
                <a:solidFill>
                  <a:srgbClr val="00ff00"/>
                </a:solidFill>
                <a:latin typeface="Forte"/>
              </a:rPr>
              <a:t>E.de la Puente (seni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8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385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40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8900"/>
                            </p:stCondLst>
                            <p:childTnLst>
                              <p:par>
                                <p:cTn id="1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2900"/>
                            </p:stCondLst>
                            <p:childTnLst>
                              <p:par>
                                <p:cTn id="187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6516720" y="5589720"/>
            <a:ext cx="696960" cy="696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464000" cy="3456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78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643280" cy="324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4500720" cy="3240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 rot="16200000">
            <a:off x="-333900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 rot="10800000">
            <a:off x="0" y="666864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 rot="10800000">
            <a:off x="0" y="-36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 rot="16200000">
            <a:off x="5625360" y="3339360"/>
            <a:ext cx="6858000" cy="179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3"/>
          <a:stretch/>
        </p:blipFill>
        <p:spPr>
          <a:xfrm>
            <a:off x="0" y="3357720"/>
            <a:ext cx="9144000" cy="14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4"/>
          <a:stretch/>
        </p:blipFill>
        <p:spPr>
          <a:xfrm rot="16200000">
            <a:off x="1214280" y="3357360"/>
            <a:ext cx="6858000" cy="14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431640" y="431640"/>
            <a:ext cx="696960" cy="696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9e9e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77080" y="2205000"/>
            <a:ext cx="2743200" cy="2228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-324000" y="2492280"/>
            <a:ext cx="2743200" cy="2229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234000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6948360" y="4321080"/>
            <a:ext cx="2195640" cy="2536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95640" cy="2536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2276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2050920" y="0"/>
            <a:ext cx="504684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 rot="5400000">
            <a:off x="-3375000" y="3375000"/>
            <a:ext cx="6858000" cy="108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1"/>
          <a:stretch/>
        </p:blipFill>
        <p:spPr>
          <a:xfrm rot="5400000">
            <a:off x="5660640" y="3375000"/>
            <a:ext cx="6858000" cy="10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20:19:17Z</dcterms:created>
  <dc:creator>Quique</dc:creator>
  <dc:description/>
  <dc:language>en-US</dc:language>
  <cp:lastModifiedBy>Quique</cp:lastModifiedBy>
  <dcterms:modified xsi:type="dcterms:W3CDTF">2009-01-12T19:37:24Z</dcterms:modified>
  <cp:revision>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33000000000001023620</vt:lpwstr>
  </property>
</Properties>
</file>