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38.jpeg" ContentType="image/jpeg"/>
  <Override PartName="/ppt/media/image3.gif" ContentType="image/gif"/>
  <Override PartName="/ppt/media/image42.jpeg" ContentType="image/jpeg"/>
  <Override PartName="/ppt/media/image19.jpeg" ContentType="image/jpeg"/>
  <Override PartName="/ppt/media/image4.gif" ContentType="image/gif"/>
  <Override PartName="/ppt/media/image33.jpeg" ContentType="image/jpeg"/>
  <Override PartName="/ppt/media/Marilyn%20Monroe%20-%20Diamonds%20are%20a%20girl's%20best%20friend.wav" ContentType="audio/x-wav"/>
  <Override PartName="/ppt/media/image25.gif" ContentType="image/gif"/>
  <Override PartName="/ppt/media/image43.jpeg" ContentType="image/jpeg"/>
  <Override PartName="/ppt/media/image36.jpeg" ContentType="image/jpeg"/>
  <Override PartName="/ppt/media/image2.jpeg" ContentType="image/jpeg"/>
  <Override PartName="/ppt/media/image5.gif" ContentType="image/gif"/>
  <Override PartName="/ppt/media/image23.jpeg" ContentType="image/jpeg"/>
  <Override PartName="/ppt/media/image48.jpeg" ContentType="image/jpeg"/>
  <Override PartName="/ppt/media/image9.gif" ContentType="image/gif"/>
  <Override PartName="/ppt/media/image16.jpeg" ContentType="image/jpeg"/>
  <Override PartName="/ppt/media/image13.gif" ContentType="image/gif"/>
  <Override PartName="/ppt/media/image1.gif" ContentType="image/gif"/>
  <Override PartName="/ppt/media/image59.gif" ContentType="image/gif"/>
  <Override PartName="/ppt/media/image18.jpeg" ContentType="image/jpeg"/>
  <Override PartName="/ppt/media/image22.gif" ContentType="image/gif"/>
  <Override PartName="/ppt/media/image27.jpeg" ContentType="image/jpeg"/>
  <Override PartName="/ppt/media/image50.jpeg" ContentType="image/jpeg"/>
  <Override PartName="/ppt/media/image24.jpeg" ContentType="image/jpeg"/>
  <Override PartName="/ppt/media/image17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31.jpeg" ContentType="image/jpeg"/>
  <Override PartName="/ppt/media/image53.jpeg" ContentType="image/jpeg"/>
  <Override PartName="/ppt/media/image6.gif" ContentType="image/gif"/>
  <Override PartName="/ppt/media/image11.gif" ContentType="image/gif"/>
  <Override PartName="/ppt/media/image26.jpeg" ContentType="image/jpeg"/>
  <Override PartName="/ppt/media/image7.gif" ContentType="image/gif"/>
  <Override PartName="/ppt/media/image10.gif" ContentType="image/gif"/>
  <Override PartName="/ppt/media/image52.jpeg" ContentType="image/jpeg"/>
  <Override PartName="/ppt/media/image29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media/image58.gif" ContentType="image/gif"/>
  <Override PartName="/ppt/media/image30.jpeg" ContentType="image/jpeg"/>
  <Override PartName="/ppt/media/image32.jpeg" ContentType="image/jpeg"/>
  <Override PartName="/ppt/media/image34.jpeg" ContentType="image/jpeg"/>
  <Override PartName="/ppt/media/image35.jpeg" ContentType="image/jpeg"/>
  <Override PartName="/ppt/media/th%20Century%20Fox.wav" ContentType="audio/x-wav"/>
  <Override PartName="/ppt/media/image37.jpeg" ContentType="image/jpeg"/>
  <Override PartName="/ppt/media/image14.gif" ContentType="image/gif"/>
  <Override PartName="/ppt/media/image39.jpeg" ContentType="image/jpeg"/>
  <Override PartName="/ppt/media/image40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8.gif" ContentType="image/gif"/>
  <Override PartName="/ppt/media/image49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669D-897B-4AC1-99A6-091807E340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E53B-09F4-4EFD-B703-9A8D49846BED}" type="slidenum">
              <a:rPr b="0" i="1" lang="fr-CA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DCC-88C6-49C2-B394-79F0B977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D96-7B60-4078-9644-E3358136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3F1-2279-4607-B3F6-E94E405F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EC9-147F-4CFA-A814-35A0520B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72C0-E0CF-49A1-85FF-4359B652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36C5-359A-43FA-AC7B-A788685E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8F2F-8A1D-41AC-9A92-D3C48A4A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1584-A12A-4F34-A0BD-EC956B40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8D86-CF43-47B5-B4B0-39CE629A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9B99-360D-460C-9CE5-97211EC5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A4BE-4DD6-405C-A927-F2735A92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F86-4307-42F7-AD0A-7F5FB0F4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CD06-9B45-40CB-BB88-60CFD404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4CAC-5902-46DD-8645-2E368B8F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3B56-7BBF-4A8F-AB62-85AD1FBC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5131-1159-4461-B8E2-8FEF6ADE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1439-F659-46C6-94CB-7CC8C5EB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1271-1220-413D-9EB7-CC4D26F4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2881-D6AB-429B-865C-68BC8CEF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4269E-A230-4D30-B171-ED302FF0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697F-BAD7-4534-89D1-562DADA5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D60B8-91FD-448D-B108-9D95648A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CC6-3EEB-4249-9AF3-89BEF9EC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51EE-4B69-4B10-8C7A-1B9A4C21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523A7-5C7C-4439-B087-08061173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1D45-1B06-43B2-8135-4E398873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4BB1-9ABB-468A-82BD-C04F47C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3B5F3-E308-41B3-AAF5-6B64BA66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BE93-CC84-4AA3-A76E-4B5C90B6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8E5F-4686-4AB5-A541-E3C3B958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27FC-36AE-4CAD-A342-720747E1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09F44-18B7-49D3-A046-5EEF26D6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D4C6-0606-4787-A6EF-E61ACFA9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C3D-8555-4195-9A3D-41B2958B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5B98-A18B-49C0-B072-1BF2348B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A421-C1A0-43EC-8833-D99B279A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2E3B8-39A2-49DE-9D13-E4EBFA7A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9402-AF1A-4F6A-BCD2-7CE0E67F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A94EB-3A73-46F1-80CE-7784530B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E4286-2DC6-4B16-A2E1-183404B1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788DB-9854-4347-B065-1A11529F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128C2-509A-4EE8-9049-BE9B6896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5E2DF-2D93-4212-961C-ADEC5443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5CE-C2BF-450C-A89A-68328F5D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AB6-3DBC-4D18-84FF-5879F318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490-02F4-44DE-AB14-2224DEB8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8B9-ED0D-44BA-803D-B6FC0862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F1F-7A5E-43B1-A55F-1166FC40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00D0-94C7-4010-BEFF-235FB87CD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D101-C454-43F8-8C63-6B8844972A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1500-B046-4C29-A718-245BD6F3A2E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9D1E-0149-4009-BEF5-2595B1E51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jpe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audio" Target="../media/th%20Century%20Fox.wav"/><Relationship Id="rId1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image" Target="../media/image25.gi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22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audio" Target="../media/Marilyn%20Monroe%20-%20Diamonds%20are%20a%20girl&apos;s%20best%20friend.wav"/><Relationship Id="rId1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11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55.jpe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57.jpe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58.gif"/><Relationship Id="rId7" Type="http://schemas.openxmlformats.org/officeDocument/2006/relationships/image" Target="../media/image58.gif"/><Relationship Id="rId8" Type="http://schemas.openxmlformats.org/officeDocument/2006/relationships/image" Target="../media/image59.gif"/><Relationship Id="rId9" Type="http://schemas.openxmlformats.org/officeDocument/2006/relationships/image" Target="../media/image59.gif"/><Relationship Id="rId10" Type="http://schemas.openxmlformats.org/officeDocument/2006/relationships/image" Target="../media/image59.gif"/><Relationship Id="rId11" Type="http://schemas.openxmlformats.org/officeDocument/2006/relationships/image" Target="../media/image59.gif"/><Relationship Id="rId12" Type="http://schemas.openxmlformats.org/officeDocument/2006/relationships/image" Target="../media/image59.gi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9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9.gif"/><Relationship Id="rId7" Type="http://schemas.openxmlformats.org/officeDocument/2006/relationships/image" Target="../media/image23.jpe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rot="16200000">
            <a:off x="-333900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 rot="10800000">
            <a:off x="0" y="666864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 rot="16200000">
            <a:off x="562536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473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000" y="3333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iero que todos sepáis que siempre hay 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y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112536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ranklin Gothic Heavy"/>
              </a:rPr>
              <a:t>!! EL CINE ¡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2276640"/>
            <a:ext cx="73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empre hay un presente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3284640"/>
            <a:ext cx="41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ranklin Gothic Heavy"/>
              </a:rPr>
              <a:t>!! EL CINE ¡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4529160"/>
            <a:ext cx="76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empre existirá un mañana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5516640"/>
            <a:ext cx="41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ranklin Gothic Heavy"/>
              </a:rPr>
              <a:t>!! EL CINE ¡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995640" y="5084640"/>
            <a:ext cx="495360" cy="48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3924360" y="4076640"/>
            <a:ext cx="495360" cy="48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924360" y="2852640"/>
            <a:ext cx="495360" cy="4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3924360" y="184464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6732720" y="1268280"/>
            <a:ext cx="208728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randomBar dir="vert"/>
    <p:sndAc>
      <p:stSnd>
        <p:snd r:embed="rId11" name="th%20Century%20Fox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664240" cy="648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611280" y="184464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8028000" y="33336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8101080" y="170028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8172360" y="342900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1"/>
          <a:stretch/>
        </p:blipFill>
        <p:spPr>
          <a:xfrm>
            <a:off x="8172360" y="472428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2"/>
          <a:stretch/>
        </p:blipFill>
        <p:spPr>
          <a:xfrm>
            <a:off x="8101080" y="5950080"/>
            <a:ext cx="503280" cy="4791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3"/>
          <a:stretch/>
        </p:blipFill>
        <p:spPr>
          <a:xfrm>
            <a:off x="539640" y="306864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4"/>
          <a:stretch/>
        </p:blipFill>
        <p:spPr>
          <a:xfrm>
            <a:off x="539640" y="4508640"/>
            <a:ext cx="503280" cy="4791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5"/>
          <a:stretch/>
        </p:blipFill>
        <p:spPr>
          <a:xfrm>
            <a:off x="539640" y="5805360"/>
            <a:ext cx="503280" cy="479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755640" y="3860640"/>
            <a:ext cx="1886040" cy="25369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900000" y="981000"/>
            <a:ext cx="2217960" cy="134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6372360" y="2708280"/>
            <a:ext cx="2217600" cy="134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6300720" y="5013360"/>
            <a:ext cx="2217960" cy="134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4000" y="692280"/>
            <a:ext cx="856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Pristina"/>
                <a:ea typeface="SimSun"/>
              </a:rPr>
              <a:t>Recomiendo que si estás con prisa,mejor lo dej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Pristina"/>
                <a:ea typeface="SimSun"/>
              </a:rPr>
              <a:t>para otro momento está programado y tarda u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Pristina"/>
                <a:ea typeface="SimSun"/>
              </a:rPr>
              <a:t>minutos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3573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urlz MT"/>
                <a:ea typeface="SimSun"/>
              </a:rPr>
              <a:t>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1008000" cy="1174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47640" y="4508640"/>
            <a:ext cx="5185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Curlz MT"/>
                <a:ea typeface="SimSun"/>
              </a:rPr>
              <a:t>Mejor, no uses el rat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80"/>
                </a:solidFill>
                <a:latin typeface="Curlz MT"/>
                <a:ea typeface="SimSun"/>
              </a:rPr>
              <a:t>dejar sol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804000" y="4581360"/>
            <a:ext cx="1944720" cy="1584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5877000"/>
            <a:ext cx="2376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radley Hand ITC"/>
                <a:ea typeface="SimSun"/>
              </a:rPr>
              <a:t>Son las </a:t>
            </a:r>
            <a:fld id="{9888FDD6-1A25-40A2-A626-102458FEFB78}" type="datetime10">
              <a:rPr b="1" lang="en-US" sz="2000" spc="-1" strike="noStrike">
                <a:solidFill>
                  <a:srgbClr val="ffff00"/>
                </a:solidFill>
                <a:latin typeface="Bradley Hand ITC"/>
                <a:ea typeface="SimSun"/>
              </a:rPr>
              <a:t>16:56</a:t>
            </a:fld>
            <a:r>
              <a:rPr b="1" lang="en-US" sz="2000" spc="-1" strike="noStrike">
                <a:solidFill>
                  <a:srgbClr val="ffff00"/>
                </a:solidFill>
                <a:latin typeface="Bradley Hand ITC"/>
                <a:ea typeface="SimSun"/>
              </a:rPr>
              <a:t>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539640" y="3933720"/>
            <a:ext cx="365400" cy="503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365040" cy="503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9"/>
          <a:stretch/>
        </p:blipFill>
        <p:spPr>
          <a:xfrm>
            <a:off x="7740720" y="4508640"/>
            <a:ext cx="365040" cy="502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0"/>
          <a:stretch/>
        </p:blipFill>
        <p:spPr>
          <a:xfrm>
            <a:off x="8172360" y="2276640"/>
            <a:ext cx="365040" cy="502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1"/>
          <a:stretch/>
        </p:blipFill>
        <p:spPr>
          <a:xfrm>
            <a:off x="5796000" y="5805360"/>
            <a:ext cx="365040" cy="5032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u"/>
    <p:sndAc>
      <p:stSnd>
        <p:snd r:embed="rId12" name="Marilyn%20Monroe%20-%20Diamonds%20are%20a%20girl's%20best%20friend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600"/>
                            </p:stCondLst>
                            <p:childTnLst>
                              <p:par>
                                <p:cTn id="68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100"/>
                            </p:stCondLst>
                            <p:childTnLst>
                              <p:par>
                                <p:cTn id="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1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450"/>
                            </p:stCondLst>
                            <p:childTnLst>
                              <p:par>
                                <p:cTn id="105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7950"/>
                            </p:stCondLst>
                            <p:childTnLst>
                              <p:par>
                                <p:cTn id="116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5473440" cy="7101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5545080" cy="7101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68000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56360" y="2708280"/>
            <a:ext cx="2274840" cy="1874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2411280" y="2924280"/>
            <a:ext cx="3961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urlz MT"/>
              </a:rPr>
              <a:t>Hoy....</a:t>
            </a:r>
            <a:endParaRPr b="1" lang="en-US" sz="44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404640"/>
            <a:ext cx="482472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5F0E-E6AC-478B-A6AB-59CDD0DEBA31}" type="datetime3">
              <a:rPr b="1" lang="es-ES" sz="2000" spc="-1" strike="noStrike">
                <a:solidFill>
                  <a:srgbClr val="ff3300"/>
                </a:solidFill>
                <a:latin typeface="Comic Sans MS"/>
                <a:ea typeface="SimSun"/>
              </a:rPr>
              <a:t>31 de julio de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Comic Sans MS"/>
                <a:ea typeface="SimSun"/>
              </a:rPr>
              <a:t> </a:t>
            </a:r>
            <a:r>
              <a:rPr b="1" lang="es-ES" sz="2000" spc="-1" strike="noStrike">
                <a:solidFill>
                  <a:srgbClr val="ff3300"/>
                </a:solidFill>
                <a:latin typeface="Comic Sans MS"/>
                <a:ea typeface="SimSun"/>
              </a:rPr>
              <a:t>son las </a:t>
            </a:r>
            <a:fld id="{E023BAF6-EED2-4F32-83BB-37E39EE9E942}" type="datetime10">
              <a:rPr b="1" lang="es-ES" sz="2000" spc="-1" strike="noStrike">
                <a:solidFill>
                  <a:srgbClr val="ff3300"/>
                </a:solidFill>
                <a:latin typeface="Comic Sans MS"/>
                <a:ea typeface="SimSun"/>
              </a:rPr>
              <a:t>16:56</a:t>
            </a:fld>
            <a:r>
              <a:rPr b="1" lang="es-ES" sz="2000" spc="-1" strike="noStrike">
                <a:solidFill>
                  <a:srgbClr val="99cc00"/>
                </a:solidFill>
                <a:latin typeface="Comic Sans MS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  <a:ea typeface="SimSun"/>
              </a:rPr>
              <a:t>Un abrazo y disfruta de de la R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  <a:ea typeface="SimSun"/>
              </a:rPr>
              <a:t>del glamou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403280" y="5300640"/>
            <a:ext cx="583272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urlz MT"/>
              </a:rPr>
              <a:t>¡¡ Presentamos !!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 rot="19930200">
            <a:off x="468360" y="549000"/>
            <a:ext cx="1511280" cy="1366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 flipH="1" rot="1832400">
            <a:off x="7235640" y="260280"/>
            <a:ext cx="1511280" cy="1440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6012000" y="2205000"/>
            <a:ext cx="2663640" cy="1925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1258920" y="1052640"/>
            <a:ext cx="593640" cy="582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7380360" y="836640"/>
            <a:ext cx="593640" cy="582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468360" y="5589720"/>
            <a:ext cx="593640" cy="582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7740720" y="5661000"/>
            <a:ext cx="593640" cy="5824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8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800"/>
                            </p:stCondLst>
                            <p:childTnLst>
                              <p:par>
                                <p:cTn id="138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3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300"/>
                            </p:stCondLst>
                            <p:childTnLst>
                              <p:par>
                                <p:cTn id="150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8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60498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3492360" y="4321080"/>
            <a:ext cx="1886040" cy="25369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cover dir="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468360" y="260280"/>
            <a:ext cx="2217600" cy="134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2217600" cy="134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 rot="16200000">
            <a:off x="-333900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0800000">
            <a:off x="0" y="666864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 rot="16200000">
            <a:off x="562536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925040" cy="6838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684360" y="3500280"/>
            <a:ext cx="2303280" cy="20894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radley Hand ITC"/>
              </a:rPr>
              <a:t>MARILYN  MONRO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067280" y="189000"/>
            <a:ext cx="696960" cy="696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1728720" y="1728720"/>
            <a:ext cx="399960" cy="411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250920" y="981000"/>
            <a:ext cx="241128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>
            <a:off x="3492360" y="2637000"/>
            <a:ext cx="2340000" cy="2160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6300720" y="907920"/>
            <a:ext cx="2016360" cy="1871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2"/>
          <a:stretch/>
        </p:blipFill>
        <p:spPr>
          <a:xfrm>
            <a:off x="179280" y="4292640"/>
            <a:ext cx="234000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6200000">
            <a:off x="-333900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 rot="10800000">
            <a:off x="0" y="666864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 rot="16200000">
            <a:off x="562536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1116000" y="407664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Era de carne y se fotografiaba de ca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Tenias la impresión que bastaba com alargar la mano para poder tocarla.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fué luz de Crepusculo de Dios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(Bylly Wil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16360" y="1628640"/>
            <a:ext cx="49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0000"/>
                </a:solidFill>
                <a:latin typeface="Forte"/>
              </a:rPr>
              <a:t>Fin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7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8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9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2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049800" cy="6858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39640" y="620640"/>
            <a:ext cx="824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Curlz MT"/>
                <a:ea typeface="Arial"/>
              </a:rPr>
              <a:t>Si te ha gustado,mandalo a tus amigos/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596360" y="5734080"/>
            <a:ext cx="730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urlz MT"/>
              </a:rPr>
              <a:t>E.P</a:t>
            </a:r>
            <a:endParaRPr b="1" lang="en-US" sz="4800" spc="1" strike="noStrike">
              <a:ln w="2232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7236000" y="620640"/>
            <a:ext cx="1908000" cy="11318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7"/>
          <a:stretch/>
        </p:blipFill>
        <p:spPr>
          <a:xfrm>
            <a:off x="0" y="404640"/>
            <a:ext cx="1908000" cy="11322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8"/>
          <a:stretch/>
        </p:blipFill>
        <p:spPr>
          <a:xfrm>
            <a:off x="3132000" y="573408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9"/>
          <a:stretch/>
        </p:blipFill>
        <p:spPr>
          <a:xfrm>
            <a:off x="4643280" y="573408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10"/>
          <a:stretch/>
        </p:blipFill>
        <p:spPr>
          <a:xfrm>
            <a:off x="6084720" y="573408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11"/>
          <a:stretch/>
        </p:blipFill>
        <p:spPr>
          <a:xfrm flipH="1">
            <a:off x="3492000" y="981000"/>
            <a:ext cx="311400" cy="2160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2"/>
          <a:stretch/>
        </p:blipFill>
        <p:spPr>
          <a:xfrm>
            <a:off x="1763640" y="5734080"/>
            <a:ext cx="193680" cy="19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150"/>
                            </p:stCondLst>
                            <p:childTnLst>
                              <p:par>
                                <p:cTn id="38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4" dur="5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8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11280" y="2205000"/>
            <a:ext cx="7993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Franklin Gothic Heavy"/>
              </a:rPr>
              <a:t>EN MARILYN LA ESENCIA DE MUJER</a:t>
            </a:r>
            <a:r>
              <a:rPr b="1" lang="es-ES_tradnl" sz="3600" spc="-1" strike="noStrike">
                <a:solidFill>
                  <a:srgbClr val="ffff00"/>
                </a:solidFill>
                <a:latin typeface="Franklin Gothic Heavy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Franklin Gothic Heavy"/>
              </a:rPr>
              <a:t>SE</a:t>
            </a:r>
            <a:r>
              <a:rPr b="1" lang="es-ES_tradnl" sz="3600" spc="-1" strike="noStrike">
                <a:solidFill>
                  <a:srgbClr val="ffff00"/>
                </a:solidFill>
                <a:latin typeface="Franklin Gothic Heavy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Franklin Gothic Heavy"/>
              </a:rPr>
              <a:t>ELEVA A LIMITES INSOSPECHADOS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284640"/>
            <a:ext cx="87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ffff"/>
                </a:solidFill>
                <a:latin typeface="Rockwell"/>
              </a:rPr>
              <a:t>CREO QUE NI EN MIL AÑOS,EL SEXO FEMENINO</a:t>
            </a:r>
            <a:r>
              <a:rPr b="1" lang="es-ES_tradnl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ES_tradnl" sz="4000" spc="-1" strike="noStrike">
                <a:solidFill>
                  <a:srgbClr val="00ffff"/>
                </a:solidFill>
                <a:latin typeface="Rockwell"/>
              </a:rPr>
              <a:t>PODRÁ ALCANZARL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 rot="16200000">
            <a:off x="-333900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 rot="10800000">
            <a:off x="0" y="666864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 rot="16200000">
            <a:off x="562536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851280" y="260280"/>
            <a:ext cx="1440000" cy="2055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1042920" y="1125360"/>
            <a:ext cx="696960" cy="696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1"/>
          <a:stretch/>
        </p:blipFill>
        <p:spPr>
          <a:xfrm>
            <a:off x="7740720" y="5661000"/>
            <a:ext cx="696960" cy="696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0920" y="530064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66"/>
                </a:solidFill>
                <a:latin typeface="Forte"/>
              </a:rPr>
              <a:t>Adaptacion:</a:t>
            </a:r>
            <a:r>
              <a:rPr b="0" lang="es-ES" sz="4400" spc="-1" strike="noStrike">
                <a:solidFill>
                  <a:srgbClr val="00ff00"/>
                </a:solidFill>
                <a:latin typeface="Forte"/>
              </a:rPr>
              <a:t>E.de la Puente (senio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8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385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38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38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40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8900"/>
                            </p:stCondLst>
                            <p:childTnLst>
                              <p:par>
                                <p:cTn id="1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2900"/>
                            </p:stCondLst>
                            <p:childTnLst>
                              <p:par>
                                <p:cTn id="187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6516720" y="5589720"/>
            <a:ext cx="696960" cy="696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464000" cy="3456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78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643280" cy="324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4643280" y="3429000"/>
            <a:ext cx="4500720" cy="3240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 rot="16200000">
            <a:off x="-333900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 rot="10800000">
            <a:off x="0" y="666864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 rot="10800000">
            <a:off x="0" y="-36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 rot="16200000">
            <a:off x="562536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2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3"/>
          <a:stretch/>
        </p:blipFill>
        <p:spPr>
          <a:xfrm>
            <a:off x="0" y="3357720"/>
            <a:ext cx="9144000" cy="14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4"/>
          <a:stretch/>
        </p:blipFill>
        <p:spPr>
          <a:xfrm rot="16200000">
            <a:off x="1214280" y="3357360"/>
            <a:ext cx="6858000" cy="14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431640" y="431640"/>
            <a:ext cx="696960" cy="696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9e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77080" y="2205000"/>
            <a:ext cx="2743200" cy="2228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-324000" y="2492280"/>
            <a:ext cx="2743200" cy="2229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234000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6948360" y="4321080"/>
            <a:ext cx="2195640" cy="2536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95640" cy="2536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2276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2050920" y="0"/>
            <a:ext cx="5046840" cy="685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1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20:19:17Z</dcterms:created>
  <dc:creator>Quique</dc:creator>
  <dc:description/>
  <dc:language>en-US</dc:language>
  <cp:lastModifiedBy>Quique</cp:lastModifiedBy>
  <dcterms:modified xsi:type="dcterms:W3CDTF">2009-01-12T19:37:24Z</dcterms:modified>
  <cp:revision>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33000000000001023620</vt:lpwstr>
  </property>
</Properties>
</file>