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cordeon%20-%20Le%20petit%20bac%20du%20samedi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FC5-B878-425A-AB4C-5E7633F2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768-602F-460A-B579-8E5CC0DA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E57-9E0D-42C8-9A74-1191C43A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C9A-24C3-4FAB-88E2-9736AB6A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A32E-45CD-4F6F-B371-FB48CF00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A2F4-FEA6-414E-937C-55C254D1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3D6F-9DCD-4D61-973E-97BCA06B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8780-08D3-48B6-85FA-40330EB1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507B-C73D-4CE0-ABB3-D35D701E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767E-862D-42F1-A69A-F38F07DC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217B-BC86-4D11-9765-33FF3FF0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34B-F778-4F28-8292-5B6E1A9E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C889-BB6C-4CEE-8D9B-6785C5D8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A62C-C176-4E37-946B-61D36C8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D071-7C60-4A31-8AEE-A1F02A59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25FA-983C-48A8-B92B-058A4263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7254-7852-4BB9-BD6B-1503E4F3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1E4-E34D-40F5-BB1C-38F15165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6EC-6C40-41DB-9C3F-5A307CEA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C73-DEBD-4A36-A03F-E9FDA009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AEC-3D5B-4444-A28C-C8DC277C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D8C-E2CF-43CA-9A02-7ECCCB30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246-919E-4ADD-8217-876E0965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70F-3F1A-4104-BB0D-40B8652D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B7F4-0F7E-420A-9982-0B2B9F29846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B701-AA01-4FEE-A2A2-349E8A948EC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cordeon%20-%20Le%20petit%20bac%20du%20samedi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7280" y="2276280"/>
            <a:ext cx="856944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8000"/>
                </a:solidFill>
                <a:latin typeface="Monotype Corsiva"/>
              </a:rPr>
              <a:t>Las edades del hombre</a:t>
            </a:r>
            <a:endParaRPr b="1" lang="en-US" sz="7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28600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¡Ah!, pero no crean                                           que sólo a los homb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Los científicos también han analizado  a las muje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2568600"/>
            <a:ext cx="856944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8000"/>
                </a:solidFill>
                <a:latin typeface="Monotype Corsiva"/>
              </a:rPr>
              <a:t>Las edades de la mujer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19280" y="2212920"/>
            <a:ext cx="7704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B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uba 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e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ca Cola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ualquiera con tal de estar acompañ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Leche para la osteopo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637000"/>
            <a:ext cx="72007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2060640"/>
            <a:ext cx="8569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Disculpara para librarse de citas no dese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s padres no me dejan 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 novio va a desconf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 marido va a desconf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s hijos van a desconf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¡¡¡Nunca rehusaría una cit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50920" y="2418840"/>
            <a:ext cx="8102520" cy="1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90560" y="2212920"/>
            <a:ext cx="5761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Deporte favo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, sexo y 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, sexo y 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mpras, sexo y se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mpras y algo de se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2637000"/>
            <a:ext cx="47527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90560" y="2212920"/>
            <a:ext cx="7561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Cómo terminar una buena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Mc Donald'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Cenar con </a:t>
            </a:r>
            <a:r>
              <a:rPr b="0" lang="es-ES_tradnl" sz="2000" spc="-1" strike="noStrike">
                <a:solidFill>
                  <a:srgbClr val="008000"/>
                </a:solidFill>
                <a:latin typeface="Arial Black"/>
              </a:rPr>
              <a:t>é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l y que pague un bue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Cenar, motel y un diam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Cena y un diam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Una cena b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079640" y="2637000"/>
            <a:ext cx="698472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90560" y="2087640"/>
            <a:ext cx="5761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Hombre i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Alto, rubio y gua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Alto, rubio, guapo y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Alto, rico e inteli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Un hombre con pelo pro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Un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73360" y="2491920"/>
            <a:ext cx="5595840" cy="1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1674720"/>
            <a:ext cx="7772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Envíale este corre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a una mujer intelig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que necesite una buena sonri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y a los hombres que pie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que pueden soporta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2000" y="2286000"/>
            <a:ext cx="882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Los científicos han realizado                       un estudio sobre las preferencias                   de los hombres en distintas materi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 Black"/>
              </a:rPr>
              <a:t>É</a:t>
            </a: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stos han sido los result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43280" y="2212920"/>
            <a:ext cx="5256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B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erv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ás cerv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e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Whi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Antiá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9548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0920" y="2637000"/>
            <a:ext cx="3816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2920" y="2087640"/>
            <a:ext cx="8856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étodo de s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s padres están fuera el fin de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 mujer está fuera el fin de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 mujer y mis hijos están fuera el fin de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e he comprado un súper coch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 segunda esposa mur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280" y="2491920"/>
            <a:ext cx="8299440" cy="716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90560" y="2087640"/>
            <a:ext cx="5761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Deporte favo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, sexo, se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, sexo, fút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 y fút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Fútbol y a veces se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Dorm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2492280"/>
            <a:ext cx="45370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90560" y="2349360"/>
            <a:ext cx="8353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ómo terminar una buena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ine y pol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n un des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omar el desayuno sin los h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ener alguna compañía para el des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Llegar a casa v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71640" y="2708280"/>
            <a:ext cx="698508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0920" y="234936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Fantasía favo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n dos ch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 en luga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 en 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Via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122560" y="2708280"/>
            <a:ext cx="489564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82560" y="2087640"/>
            <a:ext cx="5977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¿Mejor edad para casar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43280" y="2565360"/>
            <a:ext cx="52578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0000" y="2349360"/>
            <a:ext cx="7561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Encuentro i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Ir a ver una película de Stephen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Cenar, sexo y dormir abra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Cenar, sexo y ella </a:t>
            </a:r>
            <a:r>
              <a:rPr b="0" lang="es-ES_tradnl" sz="2000" spc="-1" strike="noStrike">
                <a:solidFill>
                  <a:srgbClr val="008000"/>
                </a:solidFill>
                <a:latin typeface="Arial Black"/>
              </a:rPr>
              <a:t>que 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se va</a:t>
            </a:r>
            <a:r>
              <a:rPr b="0" lang="es-ES_tradnl" sz="2000" spc="-1" strike="noStrike">
                <a:solidFill>
                  <a:srgbClr val="008000"/>
                </a:solidFill>
                <a:latin typeface="Arial Black"/>
              </a:rPr>
              <a:t>y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Ella aparece y decide coc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Tener una compañía para ce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71640" y="2708280"/>
            <a:ext cx="698508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8:08:26Z</dcterms:created>
  <dc:creator>Enrique</dc:creator>
  <dc:description/>
  <dc:language>en-US</dc:language>
  <cp:lastModifiedBy>Enrique</cp:lastModifiedBy>
  <dcterms:modified xsi:type="dcterms:W3CDTF">2008-08-18T21:26:03Z</dcterms:modified>
  <cp:revision>5</cp:revision>
  <dc:subject/>
  <dc:title>LAS EDADES DEL HOMBRE Y DE LA MUJER</dc:title>
</cp:coreProperties>
</file>