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cordeon%20-%20Le%20petit%20bac%20du%20samedi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143-10DE-45A5-9A39-7B2AA7FC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16F-C35C-432D-8EDD-A52E14F4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5C3-AAC3-4474-A338-BA474996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287-344F-478B-9E23-E33B1BD6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B130-8BE5-439B-90B4-EB2EE87A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CE18-152A-436B-9854-95DAB0AE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853F-CEC8-474D-A9B2-89E152EB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37A3-9486-46B2-A7DA-A5A65FD8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5AD8-D541-4B43-B455-F1541B50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4F28-5DAC-4BD6-A638-718E3AB2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98F6-E8DC-450B-B571-22EB0D92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E9B-4BB9-489B-AC13-3746AD98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50C2-4868-433A-BF13-41D5C131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DE00-B361-47CC-9E27-8FF80EEB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09CD-A94C-4831-9E9D-8591A45E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D6F0-7AD1-40A5-87FC-50AEE6B4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CA3-3174-4182-B1F7-54404EE0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236-EFA2-43D4-BDF4-7B272F30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4FB-A82A-45CF-9F2F-BBFAB5BF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DE9-D767-4F8E-8E80-EB9E5F08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E4E-CCF8-4114-A9AD-EACCFA2E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663-4A50-4E41-9404-D9AC74C2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150-FBC8-4AA1-A1D2-E90F8E3D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F3A-8D9E-49A1-A875-CA4E3691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CF28-B76F-4924-8397-707C5A0C6AB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81DC-B1F4-484A-AA32-1B679433944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cordeon%20-%20Le%20petit%20bac%20du%20samedi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7280" y="2276280"/>
            <a:ext cx="856944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8000"/>
                </a:solidFill>
                <a:latin typeface="Monotype Corsiva"/>
              </a:rPr>
              <a:t>Las edades del hombre</a:t>
            </a:r>
            <a:endParaRPr b="1" lang="en-US" sz="7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28600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¡Ah!, pero no crean                                           que sólo a los homb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Los científicos también han analizado  a las muje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2568600"/>
            <a:ext cx="856944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8000"/>
                </a:solidFill>
                <a:latin typeface="Monotype Corsiva"/>
              </a:rPr>
              <a:t>Las edades de la mujer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19280" y="2212920"/>
            <a:ext cx="7704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B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uba 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e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ca Cola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ualquiera con tal de estar acompañ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Leche para la osteopo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637000"/>
            <a:ext cx="72007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2060640"/>
            <a:ext cx="8569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Disculpara para librarse de citas no dese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s padres no me dejan 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 novio va a desconf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 marido va a desconf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s hijos van a desconf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¡¡¡Nunca rehusaría una cit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50920" y="2418840"/>
            <a:ext cx="8102520" cy="1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90560" y="2212920"/>
            <a:ext cx="576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Deporte favo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, sexo y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, sexo y 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mpras, sexo y se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mpras y algo de se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2637000"/>
            <a:ext cx="47527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90560" y="2212920"/>
            <a:ext cx="7561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ómo terminar una buena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Mc Donald'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enar con </a:t>
            </a:r>
            <a:r>
              <a:rPr b="0" lang="es-ES_tradnl" sz="2000" spc="-1" strike="noStrike">
                <a:solidFill>
                  <a:srgbClr val="008000"/>
                </a:solidFill>
                <a:latin typeface="Arial Black"/>
              </a:rPr>
              <a:t>é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l y que pague un bue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enar, motel y un diam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ena y un diam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Una cena b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079640" y="2637000"/>
            <a:ext cx="698472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90560" y="2087640"/>
            <a:ext cx="576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Hombre i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Alto, rubio y gua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Alto, rubio, guapo y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Alto, rico e inteli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Un hombre con pelo pro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Un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73360" y="2491920"/>
            <a:ext cx="5595840" cy="1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1674720"/>
            <a:ext cx="7772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Envíale este corr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a una mujer intelig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que necesite una buena sonri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y a los hombres que pie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que pueden soporta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2000" y="2286000"/>
            <a:ext cx="882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Los científicos han realizado                       un estudio sobre las preferencias                   de los hombres en distintas materi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 Black"/>
              </a:rPr>
              <a:t>É</a:t>
            </a:r>
            <a:r>
              <a:rPr b="0" lang="es-ES" sz="3200" spc="-1" strike="noStrike">
                <a:solidFill>
                  <a:srgbClr val="008000"/>
                </a:solidFill>
                <a:latin typeface="Arial Black"/>
              </a:rPr>
              <a:t>stos han sido los result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43280" y="2212920"/>
            <a:ext cx="5256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B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erv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ás cerv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e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Whi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Antiá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9548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0920" y="2637000"/>
            <a:ext cx="381636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2920" y="2087640"/>
            <a:ext cx="8856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étodo de se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s padres están fuera el fin de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 mujer está fuera el fin de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 mujer y mis hijos están fuera el fin de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e he comprado un súper coch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Mi segunda esposa mur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280" y="2491920"/>
            <a:ext cx="8299440" cy="716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90560" y="2087640"/>
            <a:ext cx="576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Deporte favo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, sexo, se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, sexo, fút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 y fút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Fútbol y a veces se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Dorm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2492280"/>
            <a:ext cx="45370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90560" y="2349360"/>
            <a:ext cx="8353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ómo terminar una buena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ine y pol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n un des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omar el desayuno sin los h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ener alguna compañía para el desay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Llegar a casa v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71640" y="2708280"/>
            <a:ext cx="698508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0920" y="234936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Fantasía favo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n dos ch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 en luga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 en 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Viag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122560" y="2708280"/>
            <a:ext cx="489564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82560" y="2087640"/>
            <a:ext cx="5977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¿Mejor edad para casar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43280" y="2565360"/>
            <a:ext cx="52578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c0bf"/>
            </a:gs>
            <a:gs pos="50000">
              <a:srgbClr val="ffffff"/>
            </a:gs>
            <a:gs pos="100000">
              <a:srgbClr val="9fc0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0000" y="2349360"/>
            <a:ext cx="7561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Edad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Encuentro i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17    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Ir a ver una película de Stephen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25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enar, sexo y dormir abra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35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Cenar, sexo y ella </a:t>
            </a:r>
            <a:r>
              <a:rPr b="0" lang="es-ES_tradnl" sz="2000" spc="-1" strike="noStrike">
                <a:solidFill>
                  <a:srgbClr val="008000"/>
                </a:solidFill>
                <a:latin typeface="Arial Black"/>
              </a:rPr>
              <a:t>que 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se va</a:t>
            </a:r>
            <a:r>
              <a:rPr b="0" lang="es-ES_tradnl" sz="2000" spc="-1" strike="noStrike">
                <a:solidFill>
                  <a:srgbClr val="008000"/>
                </a:solidFill>
                <a:latin typeface="Arial Black"/>
              </a:rPr>
              <a:t>y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48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Ella aparece y decide coc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66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 Black"/>
              </a:rPr>
              <a:t>Tener una compañía para ce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71640" y="2708280"/>
            <a:ext cx="698508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8:08:26Z</dcterms:created>
  <dc:creator>Enrique</dc:creator>
  <dc:description/>
  <dc:language>en-US</dc:language>
  <cp:lastModifiedBy>Enrique</cp:lastModifiedBy>
  <dcterms:modified xsi:type="dcterms:W3CDTF">2008-08-18T21:26:03Z</dcterms:modified>
  <cp:revision>5</cp:revision>
  <dc:subject/>
  <dc:title>LAS EDADES DEL HOMBRE Y DE LA MUJER</dc:title>
</cp:coreProperties>
</file>