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Marine%20Life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7A5-58D3-4A79-A8F7-93099A67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439-E861-4E15-9A5F-F168A6C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AE3-5298-4BC6-98FE-679233ED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A1B-0E86-459A-A41F-216B1AE2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FB9-D074-418E-A2FA-9AF3E77C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6CE-EA3E-4D1D-8273-C8E82468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772-11A4-438D-937C-9B01635F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F51-F497-407F-974C-2FF3520E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7AD-8AB8-47B6-BB66-6E1ADFBB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0A8-4C45-440E-878B-A7EE309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A3F-6289-4F5B-ADB3-A364FB9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77F-4B1D-487C-B3DC-FC16132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F6B3-E7E9-4FD7-8A1D-2B05DEDF1CB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rine%20Lif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Marine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2844720" y="0"/>
            <a:ext cx="748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Meridien Res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hiti French 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90600"/>
            <a:ext cx="63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a).. 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16360" y="0"/>
            <a:ext cx="74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nl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yd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b).. Cree en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).. No se rinde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opical Beach &amp; Sea near Dur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cot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105264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d).. Admira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as partes de tu persona (incluso las partes inacabad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).. Perdona tus err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81800" y="0"/>
            <a:ext cx="53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Nass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h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60280"/>
            <a:ext cx="51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f).. Se entrega incondicional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g).. Te ay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71240" y="171360"/>
            <a:ext cx="153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urj Al Ar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nited Arab Emi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620640"/>
            <a:ext cx="617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h).. Te invita a reintentarlo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i).. Te mantiene cerca de su coraz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27664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81560" y="189000"/>
            <a:ext cx="24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ge Larvo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ona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j).. Te ama por quien 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k).. Hace una diferencia en t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iweng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Zanzi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).. Nunca te juz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m).. Te ofrece su apo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97200" y="604836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unk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.S.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n).. Te ayuda a levan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 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ñ).. Calma tus temores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00800" y="171360"/>
            <a:ext cx="138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o).. Eleva tu espír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p).. Dice cosas lindas acerca de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3200" y="171360"/>
            <a:ext cx="131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inningup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estern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76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q).. Te dice la verdad cuando necesitas escuchar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).. Te comp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489276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e quiero decir en este momento por medio de esta carta y sinceramente te la merece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U AMISTAD VALE MUC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6035760"/>
            <a:ext cx="604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 Pearl Beach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59480" y="44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9480" y="521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11592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hurch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outhamp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rmu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692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).. Te val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).. Camina a tu 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27640" y="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gbulo Island Tayt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he Philipp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6271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).. Te explica cosas que no entie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v).. Grita si es necesario, cuando tú no quieres escuchar y te baja a la realid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56000" y="260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aianapan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(Black Sand Beach)</a:t>
            </a:r>
            <a:r>
              <a:rPr b="1" lang="en-GB" sz="10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i - 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I TIENES UN AMIGO O AMIGA MANDASELO... Y SI NO REGRESA ES QUE VERDADERAMENTE NO ES TU AM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72280"/>
            <a:ext cx="199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ian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eny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236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una prueba para ver cuántos ¡¡amigos tienes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No te sientas herido si nadie más te lo vuelve a enviar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00720" y="6127920"/>
            <a:ext cx="22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lift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sm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4080" y="33336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De hecho ya alguien te lo ha enviado: (Yo),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15000" y="6119640"/>
            <a:ext cx="14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ya de San 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bi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learic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189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sólo una prue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6272280"/>
            <a:ext cx="306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i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440" y="4905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Cuando recibas esto, inmediatamente, debes enviarlo al menos a diez personas, incluyendo la persona que te lo envió a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ti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272280"/>
            <a:ext cx="293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ach Bottom B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b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440" y="1159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Recuerda, esto solo es una prueba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803000" y="634536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les aux Ce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440" y="333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Aparte de decirte que te aprecio y te quiero, disfruta con las maravillosas playas del mundo a las que yo te invito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920" y="61279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ld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44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No olvides nunca el valor de la amis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9640" y="6416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Phi Phi Is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Thai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4100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 si mañana dejo de existir, te observare en el cielo, te cuidaré y, sobre todo, trataré de que no sufras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231320" y="6207120"/>
            <a:ext cx="148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Aru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therlands Ant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2874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ecuerda: 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900000" y="11592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ea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Barthele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aribb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90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o espero de vuel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hao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61240" y="5527800"/>
            <a:ext cx="17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. BENITE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49920" y="6335640"/>
            <a:ext cx="62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Dique - Anse Source D'A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eyche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877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, si dejas este mundo, Dios no lo quiera, te recordaré y siempre te querré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6256440"/>
            <a:ext cx="540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- Oldeniz Bea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ethiy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ur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4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Quiero que sepas que te quiero mucho y eso es algo muy importante para mi ya que hay veces que uno cree que no es conveniente decirlo por cualquier razón.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442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Sé que debí decirte antes cuanto te aprecio, pero si por alguna razón no nos volvemos a ver, te dejo esta nota para que sepas lo mucho que te qui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609300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even Mile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g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Jama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70680" y="6119640"/>
            <a:ext cx="32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muggler's C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Tort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British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2200" y="260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Y si no alcanzaste a decírmelo tú, y yo dejo de existir, no te preocupes que por el simple hecho de que nació nuestra amistad, sabré que me apre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92360" y="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obago C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indward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89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Recuerda que nunca sabemos cuando dejaremos de existir, por eso déjame decirte hoy con es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!QUE TE APRECIO, TE QUIERO MUCHO 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13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484360" y="6264360"/>
            <a:ext cx="61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Lanika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Kail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59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MANDALE ESTO A LAS PERSONAS QUE APR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(INCLUYENDOME A MI SI ASI LO SIENTES) YA QUE NO SABRAS SI MAÑANA TENDRAS LA OPORTUNIDAD DE HACE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Y SI REGRESA A TI ESTE E-MAIL SABRAS QUE ESA PERSONA TE QUIERE MUCHO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9:19:38Z</dcterms:created>
  <dc:creator>acredel</dc:creator>
  <dc:description/>
  <dc:language>en-US</dc:language>
  <cp:lastModifiedBy>Rafael</cp:lastModifiedBy>
  <dcterms:modified xsi:type="dcterms:W3CDTF">2007-03-08T15:56:42Z</dcterms:modified>
  <cp:revision>4</cp:revision>
  <dc:subject/>
  <dc:title>Diapositiva 1</dc:title>
</cp:coreProperties>
</file>