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Marine%20Life.wav" ContentType="audio/x-wav"/>
  <Override PartName="/ppt/media/image15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54D-BD0E-4A8B-8720-0FACE95A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C32-C243-4B14-A09E-F3DF3EB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F93-64CA-488D-A9CE-90CB7D1A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DCB-A7AD-4EE0-8935-EFAC48FA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847-A6F1-465B-AAC7-E1363A38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41A-83CF-4206-97CC-7524F76B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5A0-0802-4F46-90F3-4F9B4C80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779-9C82-498D-AD3B-32CDD1EE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797-343A-47C3-A587-BDFFBC1F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4E4-EF89-447D-A41F-BAF3CB3A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9B1-C1A5-42AA-A3C0-FD7C130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B12-11D6-4BE5-9DF6-2E72BE1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D652-61C9-489C-B374-0508AF1B611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rine%20Lif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El Valor de u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TE QUIER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1" name="Marine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2844720" y="0"/>
            <a:ext cx="748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La Meridien Res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ora B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hiti French Polyne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90600"/>
            <a:ext cx="63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Un Amig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a).. Te acepta tal cual eres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16360" y="0"/>
            <a:ext cx="74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nl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yd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1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b).. Cree en 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).. No se rinde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0"/>
            <a:ext cx="76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ropical Beach &amp; Sea near Dur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cot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105264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d).. Admira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as partes de tu persona (incluso las partes inacabad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e).. Perdona tus err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81800" y="0"/>
            <a:ext cx="53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Nass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h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60280"/>
            <a:ext cx="516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f).. Se entrega incondicional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g).. Te ay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8436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71240" y="171360"/>
            <a:ext cx="153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urj Al Ar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Dub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United Arab Emi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620640"/>
            <a:ext cx="617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h).. Te invita a reintentarlo cont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i).. Te mantiene cerca de su coraz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227664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81560" y="189000"/>
            <a:ext cx="24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lage Larvo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ona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936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j).. Te ama por quien e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k).. Hace una diferencia en tu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2000" y="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Kiweng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Zanzib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765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).. Nunca te juz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m).. Te ofrece su apo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97200" y="6048360"/>
            <a:ext cx="132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runk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Joh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U.S. Virgin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n).. Te ayuda a levan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 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ñ).. Calma tus temores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00800" y="171360"/>
            <a:ext cx="138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rit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54936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o).. Eleva tu espír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p).. Dice cosas lindas acerca de 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3200" y="171360"/>
            <a:ext cx="131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inningup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estern 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765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q).. Te dice la verdad cuando necesitas escuchar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r).. Te compr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280" y="4892760"/>
            <a:ext cx="60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Kristen ITC"/>
              </a:rPr>
              <a:t>Te quiero decir en este momento por medio de esta carta y sinceramente te la merece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Kristen ITC"/>
              </a:rPr>
              <a:t>TU AMISTAD VALE MUC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6035760"/>
            <a:ext cx="604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ora Bora Pearl Beach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olyne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59480" y="449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9480" y="521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11592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hurch Bay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outhamp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ermu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692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s).. Te val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  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t).. Camina a tu 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27640" y="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gbulo Island Tayt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he Philipp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62712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u).. Te explica cosas que no entie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v).. Grita si es necesario, cuando tú no quieres escuchar y te baja a la realida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356000" y="260280"/>
            <a:ext cx="727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aianapana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(Black Sand Beach)</a:t>
            </a:r>
            <a:r>
              <a:rPr b="1" lang="en-GB" sz="10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i - Hawa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0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SI TIENES UN AMIGO O AMIGA MANDASELO... Y SI NO REGRESA ES QUE VERDADERAMENTE NO ES TU AM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72280"/>
            <a:ext cx="199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Diani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Keny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2360" y="40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Esto es una prueba para ver cuántos ¡¡amigos tienes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No te sientas herido si nadie más te lo vuelve a enviar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00720" y="6127920"/>
            <a:ext cx="228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lift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asm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34080" y="33336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De hecho ya alguien te lo ha enviado: (Yo),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15000" y="6119640"/>
            <a:ext cx="144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Playa de San Migu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Ibi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learic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1890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Esto es sólo una prue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3280" y="6272280"/>
            <a:ext cx="306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Fi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440" y="4905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Cuando recibas esto, inmediatamente, debes enviarlo al menos a diez personas, incluyendo la persona que te lo envió a 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ti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6272280"/>
            <a:ext cx="293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each Bottom B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rb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440" y="11592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Recuerda, esto solo es una prueba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803000" y="6345360"/>
            <a:ext cx="10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Iles aux Ce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urit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440" y="3333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Kristen ITC"/>
              </a:rPr>
              <a:t>Aparte de decirte que te aprecio y te quiero, disfruta con las maravillosas playas del mundo a las que yo te invito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4920" y="6127920"/>
            <a:ext cx="151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a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Mald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44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No olvides nunca el valor de la amis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9640" y="6416640"/>
            <a:ext cx="532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Kristen ITC"/>
              </a:rPr>
              <a:t>Phi Phi Is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99"/>
                </a:solidFill>
                <a:latin typeface="Kristen ITC"/>
              </a:rPr>
              <a:t>Thai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4100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Te Quiero decir que si mañana dejo de existir, te observare en el cielo, te cuidaré y, sobre todo, trataré de que no sufras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231320" y="6207120"/>
            <a:ext cx="148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Aru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Netherlands Anti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2874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Recuerda: Un Amig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Te acepta tal cual eres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900000" y="11592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Jean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t. Barthele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Caribb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90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Lo espero de vuel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Chao          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El Valor de u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TE QUIER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61240" y="5527800"/>
            <a:ext cx="17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. BENITEZ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49920" y="6335640"/>
            <a:ext cx="627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La Dique - Anse Source D'Ar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Seychel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877000"/>
            <a:ext cx="66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Te quiero decir que, si dejas este mundo, Dios no lo quiera, te recordaré y siempre te querré.</a:t>
            </a:r>
            <a:r>
              <a:rPr b="1" lang="es-ES" sz="24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6256440"/>
            <a:ext cx="540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Blue Lagoon - Oldeniz Bea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Fethiy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ur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428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Quiero que sepas que te quiero mucho y eso es algo muy importante para mi ya que hay veces que uno cree que no es conveniente decirlo por cualquier razón.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4428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Sé que debí decirte antes cuanto te aprecio, pero si por alguna razón no nos volvemos a ver, te dejo esta nota para que sepas lo mucho que te qui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6093000"/>
            <a:ext cx="49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Seven Mile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Neg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Jama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70680" y="6119640"/>
            <a:ext cx="325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Smuggler's C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Torto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British Virgin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2200" y="260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Y si no alcanzaste a decírmelo tú, y yo dejo de existir, no te preocupes que por el simple hecho de que nació nuestra amistad, sabré que me apre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92360" y="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Tobago C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Kristen ITC"/>
              </a:rPr>
              <a:t>Windward Is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8900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Recuerda que nunca sabemos cuando dejaremos de existir, por eso déjame decirte hoy con es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!QUE TE APRECIO, TE QUIERO MUCHO !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87c"/>
            </a:gs>
            <a:gs pos="100000">
              <a:srgbClr val="70be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13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484360" y="6264360"/>
            <a:ext cx="61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Lanikai B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Kail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Kristen ITC"/>
              </a:rPr>
              <a:t>Hawa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159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MANDALE ESTO A LAS PERSONAS QUE APR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(INCLUYENDOME A MI SI ASI LO SIENTES) YA QUE NO SABRAS SI MAÑANA TENDRAS LA OPORTUNIDAD DE HACERL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Y SI REGRESA A TI ESTE E-MAIL SABRAS QUE ESA PERSONA TE QUIERE MUCHO!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9:19:38Z</dcterms:created>
  <dc:creator>acredel</dc:creator>
  <dc:description/>
  <dc:language>en-US</dc:language>
  <cp:lastModifiedBy>Rafael</cp:lastModifiedBy>
  <dcterms:modified xsi:type="dcterms:W3CDTF">2007-03-08T15:56:42Z</dcterms:modified>
  <cp:revision>4</cp:revision>
  <dc:subject/>
  <dc:title>Diapositiva 1</dc:title>
</cp:coreProperties>
</file>