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chard%20Clayderman%20-%20La%20Vie%20en%20Rose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C8E-019B-41F5-BE38-DA82C3AE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E80-426B-4625-88B4-F028C4DC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89E-BECE-4CE6-905D-989849D1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1CA-A107-4625-BAA8-0CCD1B17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DBB-24F6-4D65-BE80-68E0062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428-940E-4549-8555-94AC382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66B-D447-408F-91D3-446DCF31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2F7-0F40-462F-95DF-CBE26920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136-62BC-4849-B32D-B7AECAF9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109-2D3B-4897-8304-963436F8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4D3-55B0-411E-B63A-2B02AE4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31C-AC86-406B-9F6F-95FE7516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1B4-83A2-4587-9D2C-2B09DF07D3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hard%20Clayderman%20-%20La%20Vie%20en%20Ro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agem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73440" y="47628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Segoe Print"/>
              </a:rPr>
              <a:t>EL PUNTO NEGRO</a:t>
            </a:r>
            <a:r>
              <a:rPr b="0" lang="pt-BR" sz="4000" spc="-1" strike="noStrike">
                <a:solidFill>
                  <a:srgbClr val="ffff00"/>
                </a:solidFill>
                <a:latin typeface="Segoe Pri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magem135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427640" y="765000"/>
            <a:ext cx="4457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Segoe Print"/>
              </a:rPr>
              <a:t>¡Sin embargo insistimos en fijarnos solo en las manchas negr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Segoe Print"/>
              </a:rPr>
              <a:t>El problema de salud que nos preocupa, la falta de </a:t>
            </a:r>
            <a:r>
              <a:rPr b="1" lang="pt-BR" sz="2400" spc="-1" strike="noStrike">
                <a:solidFill>
                  <a:srgbClr val="00b0f0"/>
                </a:solidFill>
                <a:latin typeface="Segoe Print"/>
              </a:rPr>
              <a:t>dinero, la relación difícil con un familiar, la decepción con un amigo. </a:t>
            </a:r>
            <a:br>
              <a:rPr sz="2400"/>
            </a:br>
            <a:r>
              <a:rPr b="1" lang="pt-BR" sz="2400" spc="-1" strike="noStrike">
                <a:solidFill>
                  <a:srgbClr val="00b0f0"/>
                </a:solidFill>
                <a:latin typeface="Segoe Print"/>
              </a:rPr>
              <a:t>Los puntos negros son mínimos en comparación con todo aquello que </a:t>
            </a:r>
            <a:r>
              <a:rPr b="1" lang="pt-BR" sz="2400" spc="-1" strike="noStrike">
                <a:solidFill>
                  <a:srgbClr val="ffc000"/>
                </a:solidFill>
                <a:latin typeface="Segoe Print"/>
              </a:rPr>
              <a:t>tenemos diariamente, mas son los puntos negros los que pueblan nuestra ment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agem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214200"/>
            <a:ext cx="53928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Print"/>
              </a:rPr>
              <a:t>Quita los ojos de los puntos negros de tu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Segoe Print"/>
              </a:rPr>
              <a:t>Disfruta de cada bendición, cada momento que te da el Creador</a:t>
            </a:r>
            <a:r>
              <a:rPr b="1" lang="es-ES" sz="2400" spc="-1" strike="noStrike">
                <a:solidFill>
                  <a:srgbClr val="ffffff"/>
                </a:solidFill>
                <a:latin typeface="Segoe Print"/>
              </a:rPr>
              <a:t>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Segoe Print"/>
              </a:rPr>
              <a:t>Tranquilí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SIEMP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Print"/>
              </a:rPr>
              <a:t> </a:t>
            </a: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FEL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Segoe Print"/>
              </a:rPr>
              <a:t>VIVE COM AMOR</a:t>
            </a:r>
            <a:br>
              <a:rPr sz="24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agem116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942120" y="115920"/>
            <a:ext cx="390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Segoe Print"/>
              </a:rPr>
              <a:t>¡Piensa en eso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06600" y="5950080"/>
            <a:ext cx="643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Segoe Print"/>
              </a:rPr>
              <a:t>¡¡¡Jesús bendice tu vida!!!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magem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031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260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635280" y="2205000"/>
            <a:ext cx="446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Cierto día, un profesor entró en el aula y les dijo a los alumnos que se prepararan para una prueba relámpago.</a:t>
            </a: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os se ubicaron en sus asientos aguardando asustados el examen que venía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agem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979640" y="333360"/>
            <a:ext cx="60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00360" y="189000"/>
            <a:ext cx="54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ntonces el profesor fue entregando las pruebas con el texto para abajo, como era costumbre. </a:t>
            </a: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Despu</a:t>
            </a:r>
            <a:r>
              <a:rPr b="1" lang="es-ES" sz="2400" spc="-1" strike="noStrike">
                <a:solidFill>
                  <a:srgbClr val="ffff66"/>
                </a:solidFill>
                <a:latin typeface="Segoe Print"/>
              </a:rPr>
              <a:t>é</a:t>
            </a: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s que todos recibieron la prueba pidió que voltearan la hoj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m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671480" y="738360"/>
            <a:ext cx="57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692360" y="189000"/>
            <a:ext cx="612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Para sorpresa de todos, no había ninguna pregunta o escrito,  Solo un punto negro al centro de la ho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l profesor, viendo la expresión de sorpresa que todos tenían, dijo lo siguient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m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023840" y="74448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429080" y="344160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Ahora, ustedes van a escribir un comentario sobre lo que están v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os los alumnos, confundidos, comenzaron entonces la terrible e inexplicable t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m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203640" y="33336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286240" y="0"/>
            <a:ext cx="361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erminado el tiempo, el maestro recogió las hojas, se puso al frente de la clase y comenzó a leer las redacciones una a una en voz alta. </a:t>
            </a:r>
            <a:br>
              <a:rPr sz="2400"/>
            </a:b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as, sin excepción, definían el punto negro intentando dar explicaciones por su presencia al centro de la hoj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m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692360" y="1197000"/>
            <a:ext cx="67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erminada la lectura, con la sala en silencio, el profesor comenzó a explicar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Imagem1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50920" y="3284640"/>
            <a:ext cx="4964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sta prueba no será para la nota, solo sirve de lección para t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-Nadie en la sala habló sobre la hoja en bl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Todos centraron su atención en el punto n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66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Segoe Print"/>
              </a:rPr>
              <a:t>Eso acontece en nuestras v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m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3071880"/>
            <a:ext cx="899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Tenemos una hoja en blanco entera para observar y aprovechar, pero siempre nos centramos en los puntos neg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La vida es un regalo que Dios nos dió a cada uno de nosotros con mucho cariño y cui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¡Siempre tenemos motivos para celebrar!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La naturaleza que se renueva, los amigos que se hacen presentes, el empleo que nos dá sustento, los milagros que presenciamos cada día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9:18:13Z</dcterms:created>
  <dc:creator>Derol &amp; Ferreira</dc:creator>
  <dc:description/>
  <dc:language>en-US</dc:language>
  <cp:lastModifiedBy>SONY</cp:lastModifiedBy>
  <dcterms:modified xsi:type="dcterms:W3CDTF">2012-09-07T02:22:11Z</dcterms:modified>
  <cp:revision>12</cp:revision>
  <dc:subject/>
  <dc:title>Slide 1</dc:title>
</cp:coreProperties>
</file>