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yanni%20-%20in%20the%20morning%20light%20178%201.3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5FF-1EE7-4D53-9BAA-1B572CA5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2E5-A024-43E8-86B6-5AABFF3C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E23-7E0A-4DBD-9512-E314B39F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DE0-74E6-43B8-9241-5B262009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B04-108E-4F66-8A45-36CE405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AA9-7106-414F-A58E-BD3092E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113-0206-4B73-BF54-3DC6930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EBF-54F1-4587-8E72-F50F2211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C2C-60EF-4B13-BF99-E00DE5B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073-187C-4495-93DE-D0E9C2F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8DA-7EBA-48FB-8CE7-37205D6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995-7F1B-472C-ACBE-4ADE776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E3E-2CC8-406C-B0E0-C4DC115BC6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6000" y="333360"/>
            <a:ext cx="244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A HISTORIA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 nombre era Fleming, y era un granjero escocés p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día, mientras intentaba ganarse la vida par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amilia, oyó un 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idiendo ayuda que provenía de un pantano cer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zoom dir="in"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1989000"/>
            <a:ext cx="72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620640"/>
            <a:ext cx="456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Alguien dijo una vez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Lo que va, regres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540720" cy="73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57200"/>
            <a:ext cx="860436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rabaja como si no necesitaras el di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ma como si nunca hubieses sido h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Baila como si nadie estuviera mir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79640" y="4797360"/>
            <a:ext cx="90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No puedes arreg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19280" y="383760"/>
            <a:ext cx="6408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anta como si nadie escucha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Vive como si fuera el Cielo en la Tier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48360" y="476280"/>
            <a:ext cx="356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sta es la Semana 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Internaci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onal </a:t>
            </a: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e la Amist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981680" cy="6077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51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48360" y="1125360"/>
            <a:ext cx="3095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nvía este mensaje a todos los que consideres </a:t>
            </a: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tu ami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08720" y="1433880"/>
            <a:ext cx="32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transmítelo y alégrale el día a alguien, nada pasará 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o lo h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ero si lo haces, alguien sonreirá gracias a 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5546880"/>
            <a:ext cx="997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66ff33"/>
                </a:solidFill>
                <a:latin typeface="Monotype Corsiva"/>
              </a:rPr>
              <a:t> </a:t>
            </a:r>
            <a:r>
              <a:rPr b="0" lang="es-MX" sz="8000" spc="-1" strike="noStrike">
                <a:solidFill>
                  <a:srgbClr val="66ff33"/>
                </a:solidFill>
                <a:latin typeface="Monotype Corsiva"/>
              </a:rPr>
              <a:t>Sonríe siemp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896760"/>
            <a:ext cx="7777080" cy="44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jó caer sus herramientas y corrió al pantano. Allí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contró hast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intura en el estiércol húmedo y negro a un much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terrado, gritando y  esforzándose por lib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90920" y="476280"/>
            <a:ext cx="47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granjero Fleming salvó al muchacho de lo que podría ser una lent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spantosa m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 día siguiente, llegó un carruaje elegante a la gr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n noble, elegantemente vestido, salió y se presentó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adre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uchacho al que el granjero Fleming había ayud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69228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Yo quiero recompensarlo", dijo el noble. "Usted salvó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da de mi hij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, yo no puedo aceptar un pago por lo que hice", contes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g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oc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se momento, el hijo del granjero vino a la puer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caba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¿Es su hijo?" preguntó el no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Sí", contestó el granjero orgullos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56000" y="573120"/>
            <a:ext cx="46083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e propongo hacer un trato. Permítame proporcionarle a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hijo 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nivel de educación que mi hijo disfrutará. Si el much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parece a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adre, no dudo que crecerá hasta convertirse en el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l que nos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os estaremos orgulloso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12536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el granjero aceptó. El hijo del granjero Fleming asist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 las mej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cuelas y, al tiempo, se graduó en la Escuela Médica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t. Mary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Hospital en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512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siguió hasta darse a conocer en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mundo como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renombra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Dr. Alexander Fleming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el descubridor de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Penicil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3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Que siempre nos consuel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997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Nos gu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1989000"/>
            <a:ext cx="525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ños después, el hijo del mismo noble que fue salvado 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Pantan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Estaba  enfermo de pulmon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1700280"/>
            <a:ext cx="31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584360"/>
            <a:ext cx="3924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é salvo su vida esta vez? 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a penici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¿El nombre del nob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ir Randolph Churc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¿El nombre de su hijo? !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ir Winston Church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5:42:19Z</dcterms:created>
  <dc:creator>Ria Ellwanger   riaellw@globo.com</dc:creator>
  <dc:description/>
  <dc:language>en-US</dc:language>
  <cp:lastModifiedBy>TULI</cp:lastModifiedBy>
  <dcterms:modified xsi:type="dcterms:W3CDTF">2006-10-09T13:39:46Z</dcterms:modified>
  <cp:revision>51</cp:revision>
  <dc:subject>Categoria: Reflexão</dc:subject>
  <dc:title>PAUSA</dc:title>
</cp:coreProperties>
</file>