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Kittyclock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D0206-AD42-4CD6-BD83-20824B62C3E0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63286-699B-4ECE-B5EA-2FE1BA163838}" type="slidenum">
              <a:rPr b="0" lang="es-ES_trad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46A6-E304-4991-97D9-112315E5C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C65F-4614-45CC-B691-F2BD85F2D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C6FC-EBD6-4FD3-8A2D-24F642F08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6E1A-2593-4EEB-83EC-66341DB6E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AEDC-DAF3-4650-A54B-7790B00B8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9C5F-F1F9-4D66-8F1B-B0145D3BA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B356-AFA2-4A34-8AD8-9E6E4DB6C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47AC-B1AA-4717-83E8-B190D1E26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0B5E-764F-4709-AC44-D7E0E0DDD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D866-C306-4B31-8928-53CDC7ED0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1591-A231-4259-AEBC-A2EF4D43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3154-7216-46D0-9768-370687BB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laboutiquedelpowerpoint.com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A4CD0-4934-4A01-805C-4B56DED8FDDA}" type="slidenum">
              <a:rPr b="0" lang="es-ES_trad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" name="6 Rectángulo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04120" y="5632560"/>
            <a:ext cx="2414520" cy="1225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Kittyclock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676160"/>
            <a:ext cx="9144000" cy="25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0" spc="-1" strike="noStrike">
                <a:solidFill>
                  <a:srgbClr val="e5ffff"/>
                </a:solidFill>
                <a:latin typeface="Tahoma"/>
              </a:rPr>
              <a:t>El</a:t>
            </a:r>
            <a:br>
              <a:rPr sz="8000"/>
            </a:br>
            <a:r>
              <a:rPr b="1" lang="es-ES_tradnl" sz="8000" spc="-1" strike="noStrike">
                <a:solidFill>
                  <a:srgbClr val="e5ffff"/>
                </a:solidFill>
                <a:latin typeface="Tahoma"/>
              </a:rPr>
              <a:t>Matri-Moño</a:t>
            </a:r>
            <a:endParaRPr b="0" lang="en-US" sz="8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No me preocupa el terrorismo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stuve casado por dos años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Sam Kinis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9858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Dos secretos para mantener vivo el matrimonio </a:t>
            </a:r>
            <a:br>
              <a:rPr sz="3200"/>
            </a:b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1. Cuando estés errado, admítelo </a:t>
            </a:r>
            <a:br>
              <a:rPr sz="3200"/>
            </a:b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2. Cuando tengas razón, cállate.</a:t>
            </a:r>
            <a:br>
              <a:rPr sz="3200"/>
            </a:b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Nash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213840" y="1981080"/>
            <a:ext cx="8929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La manera mas efectiva de recordar el cumpleaños de tu esposa es olvidarlo una vez</a:t>
            </a:r>
            <a:br>
              <a:rPr sz="3200"/>
            </a:b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Anónimo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¿Sabes qué hice antes de casarme?, lo que quería.</a:t>
            </a:r>
            <a:br>
              <a:rPr sz="3200"/>
            </a:b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Henny Youngman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85480" y="1981080"/>
            <a:ext cx="8643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Mi esposa y yo fuimos felices por veinte años. Después nos conocimos.</a:t>
            </a:r>
            <a:br>
              <a:rPr sz="3200"/>
            </a:b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Rodney Dangerfield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Una buena esposa siempre perdona a su marido cuando está equivocada.</a:t>
            </a:r>
            <a:br>
              <a:rPr sz="3200"/>
            </a:b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Milton Berl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Las ex-esposas te trataran el resto de tus días como si aun lo fueran</a:t>
            </a:r>
            <a:br>
              <a:rPr sz="3200"/>
            </a:b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Oscar Said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Siempre que salimos mi mujer y yo, caminamos tomados de la mano...</a:t>
            </a:r>
            <a:br>
              <a:rPr sz="3200"/>
            </a:b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Si la suelto, se pone a comprar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Ella tiene una batidora eléctrica, una tostadora eléctrica, una máquina de hacer pan eléctrica...Un día me dijo: "Caramba, tenemos un montón de aparatos eléctricos y no tenemos nada para sentarnos..."</a:t>
            </a:r>
            <a:br>
              <a:rPr sz="3200"/>
            </a:b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Pensé en comprar una SILLA ELÉCTRICA, pero me contuve...</a:t>
            </a:r>
            <a:br>
              <a:rPr sz="3200"/>
            </a:b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Yo me casé con doña "Tengo Razón".. Solo que no sabía que su segundo apellido era "Siempre".</a:t>
            </a:r>
            <a:br>
              <a:rPr sz="3200"/>
            </a:b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Cuando un hombre te roba tu mujer no hay mayor venganza que dejar que se la quede.</a:t>
            </a:r>
            <a:br>
              <a:rPr sz="3200"/>
            </a:b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Sacha Guitry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Ya hace 18 meses que no hablo con ella...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Es que no me gusta interrumpirla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Tengo que admitir que nuestra última discusión fue culpa mía. Cuando ella me preguntó: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-"Que estás viendo en la tele...?"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Yo le contesté: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-"Bastante polvo. Deberías limpiar"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0" y="428760"/>
            <a:ext cx="9144000" cy="56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Un día se estropeó nuestra cortadora de césped (eléctrica). Mi mujer me colmaba la paciencia dándome a entender que yo debería arreglarla. Por mi parte, siempre acababa teniendo otras cosas mas importantes que hacer, tipo: lavar el coche, hacer un informe, en fin, lo que para mi parecía más importante. Un día ella encontró un muy sutil modo de convencerme: Cuando llegué a casa, me la encontré agachada en el césped, que estaba muy alto, recortándolo con su tijerita de costura. Eso me llegó al alma, me emocioné y decidí entrar en la casa y volví después de unos minutos, llevándole su cepillo de dientes. Se lo entregué, y se me ocurrió decirle: "Cuando termines con el césped, podrías también barrer el patio"</a:t>
            </a: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Después de aquello, no me acuerdo de nada. Estoy en blanco. Los médicos dicen que volveré a andar, pero que cojearé el resto de mi vida!!!</a:t>
            </a: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El matrimonio es una relación entre dos personas, en la que una siempre tiene razón, </a:t>
            </a: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Tahoma"/>
              </a:rPr>
              <a:t>y la otra es el marid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6 CuadroTexto"/>
          <p:cNvSpPr/>
          <p:nvPr/>
        </p:nvSpPr>
        <p:spPr>
          <a:xfrm rot="21141600">
            <a:off x="531000" y="875520"/>
            <a:ext cx="842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MANDALE ESTO A TODOS LOS HOMBRES PARA QUE SE RIAN MUCHO.......Y A AQUELLAS MUJERES CON SENTIDO DEL HUMOR QUE PUEDAN MANEJARLO!!!!!!!</a:t>
            </a:r>
            <a:br>
              <a:rPr sz="3600"/>
            </a:b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Después del casamiento, marido y mujer se vuelven caras de una misma moneda; no pueden verse, pero siguen juntos.</a:t>
            </a:r>
            <a:br>
              <a:rPr sz="3200"/>
            </a:b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Hemant Joshi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Por todos los medios, cásate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Si tu mujer es buena, serás feliz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Si tu mujer es mala, serás un filósofo.</a:t>
            </a:r>
            <a:br>
              <a:rPr sz="3600"/>
            </a:b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Sócrates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13840" y="1981080"/>
            <a:ext cx="8929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Las mujeres nos inspiran grandes cosas, y no nos dejan conseguirlas. </a:t>
            </a:r>
            <a:br>
              <a:rPr sz="3600"/>
            </a:b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Dumas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Recientemente leí que el amor es una cuestión de química. </a:t>
            </a:r>
            <a:br>
              <a:rPr sz="3200"/>
            </a:b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Debe ser por eso que mi esposa me trata como si fuera un desecho tóxico.</a:t>
            </a:r>
            <a:br>
              <a:rPr sz="3200"/>
            </a:b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David Bissonett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La gran pregunta... que no he podido responder... es, ¿Qué quiere una mujer?</a:t>
            </a:r>
            <a:br>
              <a:rPr sz="3200"/>
            </a:b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Sigmund Freud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13840" y="1981080"/>
            <a:ext cx="8929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Crucé unas palabras con mi mujer, y ella cruzó unos párrafos conmigo.</a:t>
            </a:r>
            <a:br>
              <a:rPr sz="3600"/>
            </a:b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Anónimo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1500120"/>
            <a:ext cx="914400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Algunas personas nos preguntan el secreto de nuestro largo matrimonio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Nos reservamos tiempo para ir a un restaurant dos veces por semana. Luz de velas, cena, música suave y bail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Ella va los jueves y yo los viernes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Henny Youngman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2T16:21:15Z</dcterms:created>
  <dc:creator>L´etor MDQ</dc:creator>
  <dc:description/>
  <dc:language>en-US</dc:language>
  <cp:lastModifiedBy> </cp:lastModifiedBy>
  <dcterms:modified xsi:type="dcterms:W3CDTF">2010-05-24T05:53:38Z</dcterms:modified>
  <cp:revision>21</cp:revision>
  <dc:subject/>
  <dc:title>El Matri-Moño</dc:title>
</cp:coreProperties>
</file>