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Kittyclo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E6E-0E7B-4367-9FC1-900EA0777AB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B082-F2C1-423C-B802-2B8CC3732D84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FF6-522B-4EBA-AB6E-55B2407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E37-3203-4F61-9B28-203FDA9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61D-4D50-4E18-98EC-678B4331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A45-4D6A-40D4-8E00-4429BF37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910-B1AD-4FF3-B2F3-A4A4880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5E5-C5BF-4E0E-9538-6F97AED3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F8E-F8AD-46D8-9BD0-7508EEB4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1AF-5DED-4CF7-B92E-0ED8781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4D7-4797-43CB-8007-C890FE7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554-D141-41FD-82AB-B69F0E8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284-DC68-47C9-BA48-9CF645DD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2BE-3F30-4CE0-BF11-2419D43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laboutiquedelpowerpoin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70B5-4A85-4050-BAD1-1D3B95534C5F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6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4120" y="5632560"/>
            <a:ext cx="241452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Kittyclo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25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e5ffff"/>
                </a:solidFill>
                <a:latin typeface="Tahoma"/>
              </a:rPr>
              <a:t>El</a:t>
            </a:r>
            <a:br>
              <a:rPr sz="8000"/>
            </a:br>
            <a:r>
              <a:rPr b="1" lang="es-ES_tradnl" sz="8000" spc="-1" strike="noStrike">
                <a:solidFill>
                  <a:srgbClr val="e5ffff"/>
                </a:solidFill>
                <a:latin typeface="Tahoma"/>
              </a:rPr>
              <a:t>Matri-Moño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No me preocupa el terrorism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uve casado por dos añ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am Kinis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858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os secretos para mantener vivo el matrimoni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1. Cuando estés errado, admítel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2. Cuando tengas razón, cállate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as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manera mas efectiva de recordar el cumpleaños de tu esposa es olvidarlo una vez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Sabes qué hice antes de casarme?, lo que querí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9810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 esposa y yo fuimos felices por veinte años. Después nos conocimos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odney Dangerfiel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a buena esposa siempre perdona a su marido cuando está equivocad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lton Ber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s ex-esposas te trataran el resto de tus días como si aun lo fueran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Oscar Sai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empre que salimos mi mujer y yo, caminamos tomados de la mano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 la suelto, se pone a compra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tiene una batidora eléctrica, una tostadora eléctrica, una máquina de hacer pan eléctrica...Un día me dijo: "Caramba, tenemos un montón de aparatos eléctricos y no tenemos nada para sentarnos..."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ensé en comprar una SILLA ELÉCTRICA, pero me contuve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me casé con doña "Tengo Razón".. Solo que no sabía que su segundo apellido era "Siempre"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uando un hombre te roba tu mujer no hay mayor venganza que dejar que se la quede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acha Guitr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a hace 18 meses que no hablo con ella..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s que no me gusta interrumpir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Tengo que admitir que nuestra última discusión fue culpa mía. Cuando ella me preguntó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Que estás viendo en la tele...?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le contesté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Bastante polvo. Deberías limpiar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4287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 se estropeó nuestra cortadora de césped (eléctrica). Mi mujer me colmaba la paciencia dándome a entender que yo debería arreglarla. Por mi parte, siempre acababa teniendo otras cosas mas importantes que hacer, tipo: lavar el coche, hacer un informe, en fin, lo que para mi parecía más importante. Un día ella encontró un muy sutil modo de convencerme: Cuando llegué a casa, me la encontré agachada en el césped, que estaba muy alto, recortándolo con su tijerita de costura. Eso me llegó al alma, me emocioné y decidí entrar en la casa y volví después de unos minutos, llevándole su cepillo de dientes. Se lo entregué, y se me ocurrió decirle: "Cuando termines con el césped, podrías también barrer el patio"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espués de aquello, no me acuerdo de nada. Estoy en blanco. Los médicos dicen que volveré a andar, pero que cojearé el resto de mi vida!!!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 matrimonio es una relación entre dos personas, en la que una siempre tiene razón, 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y la otra es el mar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6 CuadroTexto"/>
          <p:cNvSpPr/>
          <p:nvPr/>
        </p:nvSpPr>
        <p:spPr>
          <a:xfrm rot="21141600">
            <a:off x="531000" y="87552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MANDALE ESTO A TODOS LOS HOMBRES PARA QUE SE RIAN MUCHO.......Y A AQUELLAS MUJERES CON SENTIDO DEL HUMOR QUE PUEDAN MANEJARLO!!!!!!!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del casamiento, marido y mujer se vuelven caras de una misma moneda; no pueden verse, pero siguen juntos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mant Joshi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r todos los medios, cás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buena, serás feliz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mala, serás un filósofo.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ócrat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Las mujeres nos inspiran grandes cosas, y no nos dejan conseguirlas.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Duma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ecientemente leí que el amor es una cuestión de química.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be ser por eso que mi esposa me trata como si fuera un desecho tóxico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avid Bissonett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gran pregunta... que no he podido responder... es, ¿Qué quiere una mujer?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gmund Fre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Crucé unas palabras con mi mujer, y ella cruzó unos párrafos conmigo.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lgunas personas nos preguntan el secreto de nuestro largo matrimon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s reservamos tiempo para ir a un restaurant dos veces por semana. Luz de velas, cena, música suave y ba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va los jueves y yo los viern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21:15Z</dcterms:created>
  <dc:creator>L´etor MDQ</dc:creator>
  <dc:description/>
  <dc:language>en-US</dc:language>
  <cp:lastModifiedBy> </cp:lastModifiedBy>
  <dcterms:modified xsi:type="dcterms:W3CDTF">2010-05-24T05:53:38Z</dcterms:modified>
  <cp:revision>21</cp:revision>
  <dc:subject/>
  <dc:title>El Matri-Moño</dc:title>
</cp:coreProperties>
</file>