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69A-FE4B-4A19-B7F3-428C19BB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ABF-5962-443A-BF27-64706B22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CBE-6238-4577-9D18-471F270F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EB6-3DFF-49ED-B872-AC67D1BF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413-6183-46C3-9FB3-814112BA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50F-F86B-4C7B-95EC-E06D6B98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D15-ECDF-48E2-986E-9CEE44AB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B6D-1768-4963-AF78-65237C5D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606-FC63-4AEA-89B7-787830DC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523D-9AFE-4862-910A-444515A7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F55-AA09-4CE3-8F0D-29788588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6BD-E161-4EC6-9670-C7096130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3993-EA74-4721-B9CB-F885DE19D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770400"/>
            <a:ext cx="76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¡Servicio de utilidad publica!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LAMADA DE ATENCIO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¿Sabes que la leche en cartón que no se vende dentro del plazo de caducidad regresa a la fábrica para ser re-pasteurizada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uelve al supermercado de nuevo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creíble ¿verd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ues la Ley permite a las Centrales Lecheras repetir este cic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asta 5 veces, lo que termina dejando la leche casi sin sa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y con una significativa reducción de su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y valor nutriciona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uando la leche llega al supermercado para la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 consumidor final, el cartón debe exhib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un pequeño número que está ma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n su parte infer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71640" y="90792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e número varía del 1 al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mas que se debe tolerar es comprar leche hasta el número 3, es decir, leche que ha sido re-pasteurizada 2 veces, recomendándose no comprar cartones de leche cuyo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a 4 o 5 ya que ello significa que la calidad de la lecha estará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gradad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mpras una caja cerrada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asta verificar el número de la caj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a que todos los cartones en su interior tendrán la misma num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r ejemplo, si un cartón tiene el número 1, significa que es la primera vez que sale de la fábrica y llega al supermercado para su venta, pero si tiene el número 4, significa que caducó 3 vec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que fue re-pasteurizada 3 veces volviendo al supermercado para tratar de ser vendida y así sucesivamente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51012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sí es que, ya sabes, cuando compres leche, mira el fondo del cart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y no compres cajas que tengan los números 4 o 5, y para los mas escrupulosos, ni siquiera el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bajo, puedes observar un ejemplo y ver el número en cuest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Ir al super, tomar una caja de leche y comprobar el númer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dudo que encuentren  el 1 o el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¡¡¡SI TIENES CONCIENCIA CIUDADANA, DIVULGA ESTE MENSAJ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35280" y="3357720"/>
            <a:ext cx="20005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8:23:58Z</dcterms:created>
  <dc:creator>Ramón</dc:creator>
  <dc:description/>
  <dc:language>en-US</dc:language>
  <cp:lastModifiedBy>.</cp:lastModifiedBy>
  <dcterms:modified xsi:type="dcterms:W3CDTF">2007-06-04T11:27:57Z</dcterms:modified>
  <cp:revision>2</cp:revision>
  <dc:subject/>
  <dc:title>Diapositiva 1</dc:title>
</cp:coreProperties>
</file>