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85F-7E49-4162-A533-68577299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E5C-20D8-4CD9-8EB4-18E79DDC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DE2-42CA-4BD6-8C78-2312253D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85D-70E3-4DCC-B494-0A9047C7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2E1-E99B-4411-AFFC-D04037FF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E74-0B8A-46D8-BDAD-F623FF28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ED9-57A7-4611-A41F-D47DA506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71B-EA51-4536-B187-C0C36ED1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F6B-E459-4400-AFB5-0E7324B2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C4A-21E6-48A1-BEF2-E4A769C7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B21-987A-49C9-95AA-DB41D8C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0B4-11E4-4B2F-9F65-D14D38DA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C598-E4C9-4661-A201-F048DBC36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770400"/>
            <a:ext cx="76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¡Servicio de utilidad publica!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AMADA DE ATENCI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Sabes que la leche en cartón que no se vende dentro del plazo de caducidad regresa a la fábrica para ser re-pasteurizad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uelve al supermercado de nuevo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creíble ¿ver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es la Ley permite a las Centrales Lecheras repetir este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asta 5 veces, lo que termina dejando la leche casi sin s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con una significativa reducción de su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valor nutricion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uando la leche llega al supermercado para la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 consumidor final, el cartón debe exh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 pequeño número que está ma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su parte infer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90792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e número varía del 1 al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mas que se debe tolerar es comprar leche hasta el número 3, es decir, leche que ha sido re-pasteurizada 2 veces, recomendándose no comprar cartones de leche cuyo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 4 o 5 ya que ello significa que la calidad de la lecha estará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gradad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mpras una caja cerrada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sta verificar el número de la caj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a que todos los cartones en su interior tendrán la misma num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ejemplo, si un cartón tiene el número 1, significa que es la primera vez que sale de la fábrica y llega al supermercado para su venta, pero si tiene el número 4, significa que caducó 3 vec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que fue re-pasteurizada 3 veces volviendo al supermercado para tratar de ser vendida y así sucesivamente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51012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sí es que, ya sabes, cuando compres leche, mira el fondo del cart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no compres cajas que tengan los números 4 o 5, y para los mas escrupulosos, ni siquiera el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bajo, puedes observar un ejemplo y ver el número en cuest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Ir al super, tomar una caja de leche y comprobar el núm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dudo que encuentren  el 1 o el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¡¡¡SI TIENES CONCIENCIA CIUDADANA, DIVULGA ESTE MENSAJ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2000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8:23:58Z</dcterms:created>
  <dc:creator>Ramón</dc:creator>
  <dc:description/>
  <dc:language>en-US</dc:language>
  <cp:lastModifiedBy>.</cp:lastModifiedBy>
  <dcterms:modified xsi:type="dcterms:W3CDTF">2007-06-04T11:27:57Z</dcterms:modified>
  <cp:revision>2</cp:revision>
  <dc:subject/>
  <dc:title>Diapositiva 1</dc:title>
</cp:coreProperties>
</file>