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F21-4BB9-4EBC-8FE2-C82CD787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F98-A398-4336-BE28-F9704F3B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009-4C98-47BE-A729-CA6F5AEA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E43-81D0-4775-A510-7E15FB71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8A7-F62D-459A-B846-ED5303A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D41-6A4A-4B35-843A-A778DC5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90D-3960-47AF-A3C9-1A821133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55C-C382-4C92-A94A-939BECF9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E39-4CD1-4E37-B18C-427235BA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F03-54C2-40D8-ABB7-1A7CE82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33F-6AB2-4781-A23A-D0F5AA90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41C-352C-4FFF-BCC6-2C3645C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18D3-4197-4600-821C-EF15C538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CuadroTexto"/>
          <p:cNvSpPr/>
          <p:nvPr/>
        </p:nvSpPr>
        <p:spPr>
          <a:xfrm>
            <a:off x="2057400" y="2743200"/>
            <a:ext cx="5791320" cy="155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ff0000"/>
                </a:solidFill>
                <a:latin typeface="Arial"/>
              </a:rPr>
              <a:t>Y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CuadroTexto"/>
          <p:cNvSpPr/>
          <p:nvPr/>
        </p:nvSpPr>
        <p:spPr>
          <a:xfrm>
            <a:off x="76320" y="3352680"/>
            <a:ext cx="9067680" cy="302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0000"/>
                </a:solidFill>
                <a:latin typeface="Arial"/>
              </a:rPr>
              <a:t>$100,000,000,000*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en mil millones de dó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gastados cada año por los Consumidores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otellas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 monto como este hace ver pequeño el monto del </a:t>
            </a: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Presupuesto Federal anu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CuadroTexto"/>
          <p:cNvSpPr/>
          <p:nvPr/>
        </p:nvSpPr>
        <p:spPr>
          <a:xfrm>
            <a:off x="228600" y="152280"/>
            <a:ext cx="8839080" cy="180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Investigaciones demuestran que por una fracción de este mon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da persona en el Pla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Podría tener agua potable y saneamiento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adroTexto"/>
          <p:cNvSpPr/>
          <p:nvPr/>
        </p:nvSpPr>
        <p:spPr>
          <a:xfrm>
            <a:off x="76320" y="4775040"/>
            <a:ext cx="9067680" cy="91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Arial"/>
              </a:rPr>
              <a:t>Crees que puedes ayudar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CuadroTexto"/>
          <p:cNvSpPr/>
          <p:nvPr/>
        </p:nvSpPr>
        <p:spPr>
          <a:xfrm>
            <a:off x="152280" y="76320"/>
            <a:ext cx="8839440" cy="375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26"/>
                </a:solidFill>
                <a:latin typeface="Arial"/>
              </a:rPr>
              <a:t>Si solo tomas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gua embotell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26"/>
                </a:solidFill>
                <a:latin typeface="Arial"/>
              </a:rPr>
              <a:t>Estas seguro que conoces todos los resultados de este consu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SI NO, DEJAME DECIRTE QUE TE LLEVARAS UNA GRAN SOR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Gastas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Diner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Contaminas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El plane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y riesgo de contaminación del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Nicho ecológic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Todo ocasionad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or las Botellas de Agua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Estudios muestran que el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35%</a:t>
            </a: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 de los consumidores de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gua embotel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Piensan que es mas saludable que el agua de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Garraf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3 Rectángulo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Guardas botellas de agua en el a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Rectángulo"/>
          <p:cNvSpPr/>
          <p:nvPr/>
        </p:nvSpPr>
        <p:spPr>
          <a:xfrm>
            <a:off x="609480" y="3111480"/>
            <a:ext cx="8153640" cy="1373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rees que es bu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Sabias 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228600" y="4876920"/>
            <a:ext cx="85345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lor en el auto y las botellas plásticas pueden filtrar qu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produce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ánce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Seno y otros tipos de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CuadroTexto"/>
          <p:cNvSpPr/>
          <p:nvPr/>
        </p:nvSpPr>
        <p:spPr>
          <a:xfrm>
            <a:off x="228600" y="533520"/>
            <a:ext cx="8534520" cy="131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aún que no dejes botellas en el au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bias que han sido sometidas a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temperaturas extre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s de que las adquie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 CuadroTexto"/>
          <p:cNvSpPr/>
          <p:nvPr/>
        </p:nvSpPr>
        <p:spPr>
          <a:xfrm>
            <a:off x="304920" y="1981080"/>
            <a:ext cx="1676160" cy="70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las Bodegas de almacen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26F y 85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1905120" y="3176640"/>
            <a:ext cx="1523880" cy="85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la transportación por cam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100F y 150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3505320" y="4094280"/>
            <a:ext cx="1676160" cy="550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la carga y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45F y 100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9 CuadroTexto"/>
          <p:cNvSpPr/>
          <p:nvPr/>
        </p:nvSpPr>
        <p:spPr>
          <a:xfrm>
            <a:off x="5334120" y="3406680"/>
            <a:ext cx="1676160" cy="70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el transporte a los almac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55F y 100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858000" y="2266920"/>
            <a:ext cx="1676520" cy="39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inalmente, son puestas para su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CuadroTexto"/>
          <p:cNvSpPr/>
          <p:nvPr/>
        </p:nvSpPr>
        <p:spPr>
          <a:xfrm>
            <a:off x="228600" y="838080"/>
            <a:ext cx="85345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importa cual escojas cuando se piensa en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se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ver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228600" y="5029200"/>
            <a:ext cx="87631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scartando las botellas de agua mantienes al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Planeta Tier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a 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Cartera en ver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152280" y="5983200"/>
            <a:ext cx="883944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UA EMBOTELLADA- </a:t>
            </a: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La necesita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228600" y="1200240"/>
            <a:ext cx="853452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Fuentes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0" y="4038480"/>
            <a:ext cx="9067680" cy="10087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Este es un mensaj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sin papel </a:t>
            </a: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…El reenviarlo es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Gr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Y si tan solo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1 persona </a:t>
            </a: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para de usar Agua embotell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20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botellas menos terminaran en la basura este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3 CuadroTexto"/>
          <p:cNvSpPr/>
          <p:nvPr/>
        </p:nvSpPr>
        <p:spPr>
          <a:xfrm>
            <a:off x="762120" y="457200"/>
            <a:ext cx="586728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El agua embotellada 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cuesta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mas de 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$1.50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por bot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2819520" y="5300640"/>
            <a:ext cx="586728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Esto es 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1,900 veces 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el precio del agua de garraf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3 CuadroTexto"/>
          <p:cNvSpPr/>
          <p:nvPr/>
        </p:nvSpPr>
        <p:spPr>
          <a:xfrm>
            <a:off x="2362320" y="347760"/>
            <a:ext cx="50292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Lo que significa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malas noti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4 CuadroTexto"/>
          <p:cNvSpPr/>
          <p:nvPr/>
        </p:nvSpPr>
        <p:spPr>
          <a:xfrm>
            <a:off x="2514600" y="1066680"/>
            <a:ext cx="13716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Car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2362320" y="2800440"/>
            <a:ext cx="13716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7 CuadroTexto"/>
          <p:cNvSpPr/>
          <p:nvPr/>
        </p:nvSpPr>
        <p:spPr>
          <a:xfrm>
            <a:off x="2362320" y="5072040"/>
            <a:ext cx="281916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CuadroTexto"/>
          <p:cNvSpPr/>
          <p:nvPr/>
        </p:nvSpPr>
        <p:spPr>
          <a:xfrm>
            <a:off x="2514600" y="1549440"/>
            <a:ext cx="472428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En promedio un ciudadano norteamericano gasta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$400 usd </a:t>
            </a: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cada año en botellas de 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CuadroTexto"/>
          <p:cNvSpPr/>
          <p:nvPr/>
        </p:nvSpPr>
        <p:spPr>
          <a:xfrm>
            <a:off x="2590920" y="3124080"/>
            <a:ext cx="5715000" cy="855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Puede ser afectada por químicos tóxicos como Bisphenol-A (BPA), lixiviados del agua embotell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d0d0d"/>
                </a:solidFill>
                <a:latin typeface="Arial"/>
              </a:rPr>
              <a:t>**El consumo de BPA, puede también causar </a:t>
            </a:r>
            <a:r>
              <a:rPr b="1" lang="es-MX" sz="900" spc="-1" strike="noStrike">
                <a:solidFill>
                  <a:srgbClr val="ff0000"/>
                </a:solidFill>
                <a:latin typeface="Arial"/>
              </a:rPr>
              <a:t>células cancerígenas </a:t>
            </a:r>
            <a:r>
              <a:rPr b="1" lang="es-MX" sz="900" spc="-1" strike="noStrike">
                <a:solidFill>
                  <a:srgbClr val="0d0d0d"/>
                </a:solidFill>
                <a:latin typeface="Arial"/>
              </a:rPr>
              <a:t>en tu cuerp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CuadroTexto"/>
          <p:cNvSpPr/>
          <p:nvPr/>
        </p:nvSpPr>
        <p:spPr>
          <a:xfrm>
            <a:off x="2514600" y="5486400"/>
            <a:ext cx="624852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Puede ser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Contaminado</a:t>
            </a: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 por la Producción, Transportación, Embalaje y Eliminación de plásticos de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Agua Embotellad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838080" y="2144880"/>
            <a:ext cx="746784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añ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2004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sumo de agua embotellada fu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7924680" y="3809880"/>
            <a:ext cx="1143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i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228600" y="304920"/>
            <a:ext cx="6934320" cy="703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26,000,000,000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de litros 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838080" y="1219320"/>
            <a:ext cx="792504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Casi 28,000,000,00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Botellas Plásticas en un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990720" y="4191120"/>
            <a:ext cx="70102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d0d0d"/>
                </a:solidFill>
                <a:latin typeface="Arial"/>
              </a:rPr>
              <a:t>De las cuales el </a:t>
            </a: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86%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minan como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Rectángulo"/>
          <p:cNvSpPr/>
          <p:nvPr/>
        </p:nvSpPr>
        <p:spPr>
          <a:xfrm>
            <a:off x="76320" y="152280"/>
            <a:ext cx="3429000" cy="4360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*1500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botellas de agua termi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 la basu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cada segu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CuadroTexto"/>
          <p:cNvSpPr/>
          <p:nvPr/>
        </p:nvSpPr>
        <p:spPr>
          <a:xfrm>
            <a:off x="304920" y="282600"/>
            <a:ext cx="6933960" cy="703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26,000,000,000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de litros 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1066680" y="1143000"/>
            <a:ext cx="69343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17,000,000  </a:t>
            </a: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d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arriles de petróleo usado para producir esas botellas p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3886200" y="4165560"/>
            <a:ext cx="5181480" cy="10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Este petróleo  pudo haber sido su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para abastecer de combustible a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100,000</a:t>
            </a: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 carros durante un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CuadroTexto"/>
          <p:cNvSpPr/>
          <p:nvPr/>
        </p:nvSpPr>
        <p:spPr>
          <a:xfrm>
            <a:off x="76320" y="293760"/>
            <a:ext cx="8991360" cy="1068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26,000,000,00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itros también contribuye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228600" y="1600200"/>
            <a:ext cx="8839080" cy="1373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La producción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2,500,000</a:t>
            </a: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 toneladas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dióxido de carbono</a:t>
            </a: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, producido por la fabricación de botellas de plá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42:03Z</dcterms:created>
  <dc:creator>rosario</dc:creator>
  <dc:description/>
  <dc:language>en-US</dc:language>
  <cp:lastModifiedBy>rsanchezsan</cp:lastModifiedBy>
  <dcterms:modified xsi:type="dcterms:W3CDTF">2009-05-14T16:55:26Z</dcterms:modified>
  <cp:revision>40</cp:revision>
  <dc:subject/>
  <dc:title>Slide 1</dc:title>
</cp:coreProperties>
</file>