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2.jpeg" ContentType="image/jpeg"/>
  <Override PartName="/ppt/media/danza%20con%20lobos(2)(2).wav" ContentType="audio/x-wav"/>
  <Override PartName="/ppt/media/image7.jpeg" ContentType="image/jpeg"/>
  <Override PartName="/ppt/media/image28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F42C-2A8F-4DE4-B52E-C8D2717A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D60-AB84-44CA-AEF8-7AAE5C8E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F41B-5E38-4679-824A-536441C3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C431-7EC7-406D-AE65-C4DEDE92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516B-5553-4C21-8B46-AF492FBF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C87-31AC-418A-92D1-4DD66BF5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09FC-BD2B-4F85-B3FD-1FC1F7FE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D6E6-F75B-4025-9B43-7F5647F3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38C8-643B-48B3-9D11-189362FF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871-E9A7-4751-BC35-CD7569D9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3FC2-F164-4942-B6F3-35833CBA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94A7-DA80-4751-8DC5-2E5FE0FF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39D9E0-5489-4DE3-AC4F-5193539E60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anza%20con%20lobos(2)(2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05080" y="0"/>
            <a:ext cx="4676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33640" y="0"/>
            <a:ext cx="6867360" cy="6851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85840" y="0"/>
            <a:ext cx="496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923760"/>
            <a:ext cx="9144000" cy="47912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44640" y="0"/>
            <a:ext cx="5622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68738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210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33480" y="0"/>
            <a:ext cx="5472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51200" y="0"/>
            <a:ext cx="5287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serpf</cp:lastModifiedBy>
  <dcterms:modified xsi:type="dcterms:W3CDTF">2012-10-05T19:51:19Z</dcterms:modified>
  <cp:revision>3</cp:revision>
  <dc:subject/>
  <dc:title>PowerPoint-Präsentation</dc:title>
</cp:coreProperties>
</file>