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danza%20con%20lobos(2)(2).wav" ContentType="audio/x-wav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37A-4E7F-4354-BE6A-15402BA1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B82-BD41-4E02-B47A-6AFB3780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FB9-D70C-4B84-AED7-3372AC3F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277-EA24-46B4-8D15-195731D6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26E-3118-4859-9DCD-326BCC01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E1E-642B-40EE-BB22-2E86068A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8BA-EC25-4B39-940E-8B35E402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868-C224-4FA6-94B1-4604340F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346-E55B-4CE2-9717-49FD4AAA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213-F392-496A-AD43-0DE3578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4A2-5847-43E3-8C7D-71CDFEF0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F73-36F2-4C89-96FE-1235624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C3D336-9801-4BCF-8C66-BE754544EB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anza%20con%20lobos(2)(2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05080" y="0"/>
            <a:ext cx="4676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6736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8584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4791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44640" y="0"/>
            <a:ext cx="5622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1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348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51200" y="0"/>
            <a:ext cx="5287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serpf</cp:lastModifiedBy>
  <dcterms:modified xsi:type="dcterms:W3CDTF">2012-10-05T19:51:19Z</dcterms:modified>
  <cp:revision>3</cp:revision>
  <dc:subject/>
  <dc:title>PowerPoint-Präsentation</dc:title>
</cp:coreProperties>
</file>