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50C-D7A9-44D2-86A9-6467CDF6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602-1F3C-4AD3-B3FE-91A36E03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ADA-2A1C-4108-B836-9F1C900C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BB1-618D-4CE1-AAB0-11A8A7EA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C1B-D50B-4101-AD79-CC25D85E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066-5593-4D3D-9F02-720DB7CF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180-403D-40C8-A588-59290D91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078-6634-4B4E-867C-F457102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6BC-5CC4-43EC-A645-E6BC55F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FE7-E1FB-42AA-9A75-5659FA13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F8A-438D-48E1-BC17-2B692CE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CFE-6812-45CB-A86A-759A4141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014-4075-49E9-8681-930FCF869D5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its_more_than_just_a_photo_part_10_46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  <p:pic>
        <p:nvPicPr>
          <p:cNvPr id="42" name="文字方塊 2" descr=""/>
          <p:cNvPicPr/>
          <p:nvPr/>
        </p:nvPicPr>
        <p:blipFill>
          <a:blip r:embed="rId2"/>
          <a:stretch/>
        </p:blipFill>
        <p:spPr>
          <a:xfrm>
            <a:off x="42840" y="0"/>
            <a:ext cx="5041800" cy="37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圖片 1" descr="its_more_than_just_a_photo_part_4_640_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圖片 1" descr="its_more_than_just_a_photo_part_21_640_04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圖片 1" descr="its_more_than_just_a_photo_640_40"/>
          <p:cNvPicPr/>
          <p:nvPr/>
        </p:nvPicPr>
        <p:blipFill>
          <a:blip r:embed="rId1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1" descr="its_more_than_just_a_photo_part_11_640_15"/>
          <p:cNvPicPr/>
          <p:nvPr/>
        </p:nvPicPr>
        <p:blipFill>
          <a:blip r:embed="rId1"/>
          <a:stretch/>
        </p:blipFill>
        <p:spPr>
          <a:xfrm>
            <a:off x="392040" y="0"/>
            <a:ext cx="835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圖片 1" descr="its_more_than_just_a_photo_part_2_46"/>
          <p:cNvPicPr/>
          <p:nvPr/>
        </p:nvPicPr>
        <p:blipFill>
          <a:blip r:embed="rId1"/>
          <a:stretch/>
        </p:blipFill>
        <p:spPr>
          <a:xfrm>
            <a:off x="176364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圖片 1" descr="its_more_than_just_a_photo_part_9_12"/>
          <p:cNvPicPr/>
          <p:nvPr/>
        </p:nvPicPr>
        <p:blipFill>
          <a:blip r:embed="rId1"/>
          <a:stretch/>
        </p:blipFill>
        <p:spPr>
          <a:xfrm>
            <a:off x="228600" y="0"/>
            <a:ext cx="8685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圖片 1" descr="its_more_than_just_a_photo_part_9_30"/>
          <p:cNvPicPr/>
          <p:nvPr/>
        </p:nvPicPr>
        <p:blipFill>
          <a:blip r:embed="rId1"/>
          <a:stretch/>
        </p:blipFill>
        <p:spPr>
          <a:xfrm>
            <a:off x="183348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1" descr="its_more_than_just_a_photo_part_3_35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圖片 1" descr="its_more_than_just_a_photo_part_12_41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1" descr="its_more_than_just_a_photo_part_2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its_more_than_just_a_photo_640_07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圖片 1" descr="its_more_than_just_a_photo_part_12_33"/>
          <p:cNvPicPr/>
          <p:nvPr/>
        </p:nvPicPr>
        <p:blipFill>
          <a:blip r:embed="rId1"/>
          <a:stretch/>
        </p:blipFill>
        <p:spPr>
          <a:xfrm>
            <a:off x="1847880" y="0"/>
            <a:ext cx="5446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圖片 1" descr="its_more_than_just_a_photo_part_11_640_10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1" descr="its_more_than_just_a_photo_part_6_640_35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圖片 1" descr="its_more_than_just_a_photo_part_11_08"/>
          <p:cNvPicPr/>
          <p:nvPr/>
        </p:nvPicPr>
        <p:blipFill>
          <a:blip r:embed="rId1"/>
          <a:stretch/>
        </p:blipFill>
        <p:spPr>
          <a:xfrm>
            <a:off x="1147680" y="0"/>
            <a:ext cx="6846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圖片 1" descr="its_more_than_just_a_photo_part_9_51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圖片 1" descr="its_more_than_just_a_photo_part_6_14"/>
          <p:cNvPicPr/>
          <p:nvPr/>
        </p:nvPicPr>
        <p:blipFill>
          <a:blip r:embed="rId1"/>
          <a:stretch/>
        </p:blipFill>
        <p:spPr>
          <a:xfrm>
            <a:off x="1108080" y="0"/>
            <a:ext cx="6926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圖片 1" descr="its_more_than_just_a_photo_part_4_41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圖片 1" descr="its_more_than_just_a_photo_part_7_40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圖片 1" descr="its_more_than_just_a_photo_part_4_640_36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圖片 1" descr="its_more_than_just_a_photo_part_10_41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its_more_than_just_a_photo_part_14_640_48"/>
          <p:cNvPicPr/>
          <p:nvPr/>
        </p:nvPicPr>
        <p:blipFill>
          <a:blip r:embed="rId1"/>
          <a:stretch/>
        </p:blipFill>
        <p:spPr>
          <a:xfrm>
            <a:off x="28440" y="0"/>
            <a:ext cx="9087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圖片 1" descr="its_more_than_just_a_photo_part_10_20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片 1" descr="its_more_than_just_a_photo_part_9_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圖片 1" descr="its_more_than_just_a_photo_part_9_16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圖片 1" descr="its_more_than_just_a_photo_part_7_36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圖片 1" descr="its_more_than_just_a_photo_part_7_14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3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圖片 1" descr="its_more_than_just_a_photo_part_2_640_high_12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圖片 1" descr="its_more_than_just_a_photo_part_6_04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圖片 1" descr="its_more_than_just_a_photo_part_5_17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圖片 1" descr="its_more_than_just_a_photo_part_5_12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圖片 1" descr="its_more_than_just_a_photo_part_4_640_46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4772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its_more_than_just_a_photo_part_8_640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圖片 1" descr="its_more_than_just_a_photo_part_4_08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圖片 1" descr="its_more_than_just_a_photo_part_3_27"/>
          <p:cNvPicPr/>
          <p:nvPr/>
        </p:nvPicPr>
        <p:blipFill>
          <a:blip r:embed="rId1"/>
          <a:stretch/>
        </p:blipFill>
        <p:spPr>
          <a:xfrm>
            <a:off x="1779480" y="0"/>
            <a:ext cx="5585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圖片 1" descr="its_more_than_just_a_photo_part_3_26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圖片 1" descr="its_more_than_just_a_photo_part_12_13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圖片 1" descr="its_more_than_just_a_photo_part_24_640_33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圖片 1" descr="its_more_than_just_a_photo_part_25_640_37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圖片 1" descr="its_more_than_just_a_photo_part_2_15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74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its_more_than_just_a_photo_part_12_08"/>
          <p:cNvPicPr/>
          <p:nvPr/>
        </p:nvPicPr>
        <p:blipFill>
          <a:blip r:embed="rId1"/>
          <a:stretch/>
        </p:blipFill>
        <p:spPr>
          <a:xfrm>
            <a:off x="2066760" y="0"/>
            <a:ext cx="5008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its_more_than_just_a_photo_part_10_14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its_more_than_just_a_photo_part_24_640_15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4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圖片 1" descr="its_more_than_just_a_photo_part_15_640_23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" descr="its_more_than_just_a_photo_part_15_640_27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2:38:36Z</dcterms:created>
  <dc:creator/>
  <dc:description/>
  <dc:language>en-US</dc:language>
  <cp:lastModifiedBy>bus</cp:lastModifiedBy>
  <dcterms:modified xsi:type="dcterms:W3CDTF">2013-04-22T07:47:25Z</dcterms:modified>
  <cp:revision>4</cp:revision>
  <dc:subject/>
  <dc:title>Mehr-als-nur-ein-Foto</dc:title>
</cp:coreProperties>
</file>