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890-A53C-4549-BE95-666484B5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D66-172E-4EDD-9989-184803B2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57F-2295-4B00-94CC-49206F8E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2ED-D6B3-47AD-AC41-1E1C8542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4DD-C6A9-4BA0-8A6F-8AEF4BB7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E79-D9E5-47C5-863F-C0C806B8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7D7-718A-480F-855C-C5CC2C55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651-7002-4A94-A28C-20B1ECBF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C52-BCDF-4049-9CD0-02083F6F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48B-C2EB-49E1-A680-76F2B83A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921-89C0-4875-97AC-F14CD6AA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AB9-C540-4629-9451-B9A5A1B3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0C97-959A-4B21-A508-04FD0905CD7C}" type="slidenum">
              <a:rPr b="0" lang="es-E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" descr="its_more_than_just_a_photo_part_10_46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3800"/>
          </a:xfrm>
          <a:prstGeom prst="rect">
            <a:avLst/>
          </a:prstGeom>
          <a:ln w="0">
            <a:noFill/>
          </a:ln>
        </p:spPr>
      </p:pic>
      <p:pic>
        <p:nvPicPr>
          <p:cNvPr id="42" name="文字方塊 2" descr=""/>
          <p:cNvPicPr/>
          <p:nvPr/>
        </p:nvPicPr>
        <p:blipFill>
          <a:blip r:embed="rId2"/>
          <a:stretch/>
        </p:blipFill>
        <p:spPr>
          <a:xfrm>
            <a:off x="42840" y="0"/>
            <a:ext cx="5041800" cy="37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圖片 1" descr="its_more_than_just_a_photo_part_4_640_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圖片 1" descr="its_more_than_just_a_photo_part_21_640_04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757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圖片 1" descr="its_more_than_just_a_photo_640_40"/>
          <p:cNvPicPr/>
          <p:nvPr/>
        </p:nvPicPr>
        <p:blipFill>
          <a:blip r:embed="rId1"/>
          <a:stretch/>
        </p:blipFill>
        <p:spPr>
          <a:xfrm>
            <a:off x="0" y="942840"/>
            <a:ext cx="9144000" cy="4972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圖片 1" descr="its_more_than_just_a_photo_part_11_640_15"/>
          <p:cNvPicPr/>
          <p:nvPr/>
        </p:nvPicPr>
        <p:blipFill>
          <a:blip r:embed="rId1"/>
          <a:stretch/>
        </p:blipFill>
        <p:spPr>
          <a:xfrm>
            <a:off x="392040" y="0"/>
            <a:ext cx="8359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圖片 1" descr="its_more_than_just_a_photo_part_2_46"/>
          <p:cNvPicPr/>
          <p:nvPr/>
        </p:nvPicPr>
        <p:blipFill>
          <a:blip r:embed="rId1"/>
          <a:stretch/>
        </p:blipFill>
        <p:spPr>
          <a:xfrm>
            <a:off x="1763640" y="0"/>
            <a:ext cx="5614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圖片 1" descr="its_more_than_just_a_photo_part_9_12"/>
          <p:cNvPicPr/>
          <p:nvPr/>
        </p:nvPicPr>
        <p:blipFill>
          <a:blip r:embed="rId1"/>
          <a:stretch/>
        </p:blipFill>
        <p:spPr>
          <a:xfrm>
            <a:off x="228600" y="0"/>
            <a:ext cx="8685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圖片 1" descr="its_more_than_just_a_photo_part_9_30"/>
          <p:cNvPicPr/>
          <p:nvPr/>
        </p:nvPicPr>
        <p:blipFill>
          <a:blip r:embed="rId1"/>
          <a:stretch/>
        </p:blipFill>
        <p:spPr>
          <a:xfrm>
            <a:off x="1833480" y="0"/>
            <a:ext cx="5477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圖片 1" descr="its_more_than_just_a_photo_part_3_35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圖片 1" descr="its_more_than_just_a_photo_part_12_41"/>
          <p:cNvPicPr/>
          <p:nvPr/>
        </p:nvPicPr>
        <p:blipFill>
          <a:blip r:embed="rId1"/>
          <a:stretch/>
        </p:blipFill>
        <p:spPr>
          <a:xfrm>
            <a:off x="0" y="57312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圖片 1" descr="its_more_than_just_a_photo_part_2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圖片 1" descr="its_more_than_just_a_photo_640_07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圖片 1" descr="its_more_than_just_a_photo_part_12_33"/>
          <p:cNvPicPr/>
          <p:nvPr/>
        </p:nvPicPr>
        <p:blipFill>
          <a:blip r:embed="rId1"/>
          <a:stretch/>
        </p:blipFill>
        <p:spPr>
          <a:xfrm>
            <a:off x="1847880" y="0"/>
            <a:ext cx="54468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圖片 1" descr="its_more_than_just_a_photo_part_11_640_10"/>
          <p:cNvPicPr/>
          <p:nvPr/>
        </p:nvPicPr>
        <p:blipFill>
          <a:blip r:embed="rId1"/>
          <a:stretch/>
        </p:blipFill>
        <p:spPr>
          <a:xfrm>
            <a:off x="0" y="363600"/>
            <a:ext cx="9144000" cy="6129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圖片 1" descr="its_more_than_just_a_photo_part_6_640_35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圖片 1" descr="its_more_than_just_a_photo_part_11_08"/>
          <p:cNvPicPr/>
          <p:nvPr/>
        </p:nvPicPr>
        <p:blipFill>
          <a:blip r:embed="rId1"/>
          <a:stretch/>
        </p:blipFill>
        <p:spPr>
          <a:xfrm>
            <a:off x="1147680" y="0"/>
            <a:ext cx="6846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圖片 1" descr="its_more_than_just_a_photo_part_9_51"/>
          <p:cNvPicPr/>
          <p:nvPr/>
        </p:nvPicPr>
        <p:blipFill>
          <a:blip r:embed="rId1"/>
          <a:stretch/>
        </p:blipFill>
        <p:spPr>
          <a:xfrm>
            <a:off x="0" y="490680"/>
            <a:ext cx="9144000" cy="5876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圖片 1" descr="its_more_than_just_a_photo_part_6_14"/>
          <p:cNvPicPr/>
          <p:nvPr/>
        </p:nvPicPr>
        <p:blipFill>
          <a:blip r:embed="rId1"/>
          <a:stretch/>
        </p:blipFill>
        <p:spPr>
          <a:xfrm>
            <a:off x="1108080" y="0"/>
            <a:ext cx="6926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圖片 1" descr="its_more_than_just_a_photo_part_4_41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圖片 1" descr="its_more_than_just_a_photo_part_7_40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圖片 1" descr="its_more_than_just_a_photo_part_4_640_36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圖片 1" descr="its_more_than_just_a_photo_part_10_41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its_more_than_just_a_photo_part_14_640_48"/>
          <p:cNvPicPr/>
          <p:nvPr/>
        </p:nvPicPr>
        <p:blipFill>
          <a:blip r:embed="rId1"/>
          <a:stretch/>
        </p:blipFill>
        <p:spPr>
          <a:xfrm>
            <a:off x="28440" y="0"/>
            <a:ext cx="9087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圖片 1" descr="its_more_than_just_a_photo_part_10_20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94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圖片 1" descr="its_more_than_just_a_photo_part_9_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圖片 1" descr="its_more_than_just_a_photo_part_9_16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圖片 1" descr="its_more_than_just_a_photo_part_7_36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圖片 1" descr="its_more_than_just_a_photo_part_7_14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13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圖片 1" descr="its_more_than_just_a_photo_part_2_640_high_12"/>
          <p:cNvPicPr/>
          <p:nvPr/>
        </p:nvPicPr>
        <p:blipFill>
          <a:blip r:embed="rId1"/>
          <a:stretch/>
        </p:blipFill>
        <p:spPr>
          <a:xfrm>
            <a:off x="1998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圖片 1" descr="its_more_than_just_a_photo_part_6_04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圖片 1" descr="its_more_than_just_a_photo_part_5_17"/>
          <p:cNvPicPr/>
          <p:nvPr/>
        </p:nvPicPr>
        <p:blipFill>
          <a:blip r:embed="rId1"/>
          <a:stretch/>
        </p:blipFill>
        <p:spPr>
          <a:xfrm>
            <a:off x="176040" y="0"/>
            <a:ext cx="8791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圖片 1" descr="its_more_than_just_a_photo_part_5_12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5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圖片 1" descr="its_more_than_just_a_photo_part_4_640_46"/>
          <p:cNvPicPr/>
          <p:nvPr/>
        </p:nvPicPr>
        <p:blipFill>
          <a:blip r:embed="rId1"/>
          <a:stretch/>
        </p:blipFill>
        <p:spPr>
          <a:xfrm>
            <a:off x="0" y="1042920"/>
            <a:ext cx="9144000" cy="4772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its_more_than_just_a_photo_part_8_640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圖片 1" descr="its_more_than_just_a_photo_part_4_08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圖片 1" descr="its_more_than_just_a_photo_part_3_27"/>
          <p:cNvPicPr/>
          <p:nvPr/>
        </p:nvPicPr>
        <p:blipFill>
          <a:blip r:embed="rId1"/>
          <a:stretch/>
        </p:blipFill>
        <p:spPr>
          <a:xfrm>
            <a:off x="1779480" y="0"/>
            <a:ext cx="5585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圖片 1" descr="its_more_than_just_a_photo_part_3_26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圖片 1" descr="its_more_than_just_a_photo_part_12_13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圖片 1" descr="its_more_than_just_a_photo_part_24_640_33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圖片 1" descr="its_more_than_just_a_photo_part_25_640_37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圖片 1" descr="its_more_than_just_a_photo_part_2_15"/>
          <p:cNvPicPr/>
          <p:nvPr/>
        </p:nvPicPr>
        <p:blipFill>
          <a:blip r:embed="rId1"/>
          <a:stretch/>
        </p:blipFill>
        <p:spPr>
          <a:xfrm>
            <a:off x="0" y="557280"/>
            <a:ext cx="9144000" cy="5742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its_more_than_just_a_photo_part_12_08"/>
          <p:cNvPicPr/>
          <p:nvPr/>
        </p:nvPicPr>
        <p:blipFill>
          <a:blip r:embed="rId1"/>
          <a:stretch/>
        </p:blipFill>
        <p:spPr>
          <a:xfrm>
            <a:off x="2066760" y="0"/>
            <a:ext cx="5008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its_more_than_just_a_photo_part_10_14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its_more_than_just_a_photo_part_24_640_15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4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圖片 1" descr="its_more_than_just_a_photo_part_15_640_23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圖片 1" descr="its_more_than_just_a_photo_part_15_640_27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2:38:36Z</dcterms:created>
  <dc:creator/>
  <dc:description/>
  <dc:language>en-US</dc:language>
  <cp:lastModifiedBy>bus</cp:lastModifiedBy>
  <dcterms:modified xsi:type="dcterms:W3CDTF">2013-04-22T07:47:25Z</dcterms:modified>
  <cp:revision>4</cp:revision>
  <dc:subject/>
  <dc:title>Mehr-als-nur-ein-Foto</dc:title>
</cp:coreProperties>
</file>