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la%20a%C3%B1era%20%C2%BFjuanjo%20y%20(2m%2005s).wav" ContentType="audio/x-wav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F093-4ED2-40EB-BC8E-7AFF5335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D3CB-B3C8-4D8A-A3E0-4A3CF7BB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5249-02DE-48D8-B8E1-7C920330F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CE92-6687-4CAA-A601-C9144D20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D35A-6B1C-4300-9D14-6FE580F7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8032-BCC2-41B2-8CD1-52246DBE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C992-97E7-48BB-818A-DCD99377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62B1-4D1A-491E-A377-19E1D5E6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E6E4-25EF-489B-8383-6D9CDC00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99F7-EF2D-4FC3-8D19-68CB4EB9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FEAE-A754-47FB-9CA0-1CF296BF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9D81-D222-4A14-A2A3-8833B83A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14D8-8625-437E-8B75-E71B8C2BB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%20a&#241;era%20&#191;juanjo%20y%20(2m%2005s)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za%20Volando%20sobre%20Potrerillos%20%5B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556272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veman"/>
              </a:rPr>
              <a:t>POST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95680" y="563868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Freehand591 BT"/>
              </a:rPr>
              <a:t>del fin del mun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la%20a%C3%B1era%20%C2%BFjuanjo%20y%20(2m%2005s)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que%20Nac%20Lanín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572680" cy="6134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5800" y="617220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Parque Nacional Lanin Patago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.Valdes%20Ballenas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72320" cy="6105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62120" y="631656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Peninsula Valdes Chub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Sta.Cruz%20Puerto%20Deseado%204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572320" cy="6467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62120" y="640080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Puerto Deseado Santa Cru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Ushuaia%20Ladera%20Nevada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572320" cy="6338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5800" y="632448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rigitte"/>
              </a:rPr>
              <a:t>Ladera Nevada Ushuaia Tierra del Fu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Fitz%20Roy%203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629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09480" y="640080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Fitz Roy El Chalten Patago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Lago%20Lacar%20Neuquen" descr=""/>
          <p:cNvPicPr/>
          <p:nvPr/>
        </p:nvPicPr>
        <p:blipFill>
          <a:blip r:embed="rId1"/>
          <a:stretch/>
        </p:blipFill>
        <p:spPr>
          <a:xfrm>
            <a:off x="304920" y="0"/>
            <a:ext cx="8572320" cy="6620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38080" y="640080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Lago Lacar Neuqu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Sta.Cruz%20Puerto%20Deseado%202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572320" cy="6467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62120" y="6324480"/>
            <a:ext cx="76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Puerto Deseado Santa Cru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Glaciar%20Upsala%20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80880" y="6172200"/>
            <a:ext cx="83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Glaciar Upsala Patago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Volcán%20Lanín" descr=""/>
          <p:cNvPicPr/>
          <p:nvPr/>
        </p:nvPicPr>
        <p:blipFill>
          <a:blip r:embed="rId1"/>
          <a:stretch/>
        </p:blipFill>
        <p:spPr>
          <a:xfrm>
            <a:off x="304920" y="181080"/>
            <a:ext cx="8572320" cy="6676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0880" y="6400800"/>
            <a:ext cx="83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Volcan Lanin Patago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Usuhaia%20Cormoranes%20y%20el%20Cóndor" descr=""/>
          <p:cNvPicPr/>
          <p:nvPr/>
        </p:nvPicPr>
        <p:blipFill>
          <a:blip r:embed="rId1"/>
          <a:stretch/>
        </p:blipFill>
        <p:spPr>
          <a:xfrm>
            <a:off x="285840" y="271440"/>
            <a:ext cx="8572320" cy="6315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04920" y="6172200"/>
            <a:ext cx="84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Cormoranes y Condor Ushuaia Tierra del Fu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Glaciar%20Spegazzini%20Patagoni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38080" y="6324480"/>
            <a:ext cx="746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Glaciar Spegazzini Santa Cru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Ushuaia%20Lago%20Escondido" descr=""/>
          <p:cNvPicPr/>
          <p:nvPr/>
        </p:nvPicPr>
        <p:blipFill>
          <a:blip r:embed="rId1"/>
          <a:stretch/>
        </p:blipFill>
        <p:spPr>
          <a:xfrm>
            <a:off x="285840" y="14400"/>
            <a:ext cx="8572320" cy="6691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09480" y="632448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Lago Escondido Ushuaia Tierra del Fu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Ushuaia%20Iceberg%20Upsala%20Lago%20Argentino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572320" cy="5857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62120" y="6095880"/>
            <a:ext cx="76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Tempanos Glaciar Upsala Patago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Ushuaia%20Pinguinos" descr=""/>
          <p:cNvPicPr/>
          <p:nvPr/>
        </p:nvPicPr>
        <p:blipFill>
          <a:blip r:embed="rId1"/>
          <a:stretch/>
        </p:blipFill>
        <p:spPr>
          <a:xfrm>
            <a:off x="304920" y="0"/>
            <a:ext cx="8572320" cy="6581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09480" y="640080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Punta Tombo Chub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Lago%20Huechulafquen%20Pque.Lanin2" descr=""/>
          <p:cNvPicPr/>
          <p:nvPr/>
        </p:nvPicPr>
        <p:blipFill>
          <a:blip r:embed="rId1"/>
          <a:stretch/>
        </p:blipFill>
        <p:spPr>
          <a:xfrm>
            <a:off x="304920" y="0"/>
            <a:ext cx="8572320" cy="6620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5800" y="640080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Lago Huechulafquen Parque Lanin Patago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Ushuaia%20Veleros%20en%20la%20Bahia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72320" cy="6238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09480" y="632448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Ushuaia Tierra del Fu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Mza%20Cacheuta%20L.de%20Cuy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04920" y="304920"/>
            <a:ext cx="3581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51A1-673A-4A14-B1AE-A3CF28F62663}" type="datetime2">
              <a:rPr b="0" i="1" lang="en-US" sz="1200" spc="-1" strike="noStrike">
                <a:solidFill>
                  <a:srgbClr val="ffffff"/>
                </a:solidFill>
                <a:latin typeface="AvantGarde Bk BT"/>
              </a:rPr>
              <a:t>Wednesday, July 29, 2026</a:t>
            </a:fld>
            <a:r>
              <a:rPr b="0" i="1" lang="en-US" sz="1200" spc="-1" strike="noStrike">
                <a:solidFill>
                  <a:srgbClr val="ffffff"/>
                </a:solidFill>
                <a:latin typeface="AvantGarde Bk BT"/>
              </a:rPr>
              <a:t>  ♣ </a:t>
            </a:r>
            <a:fld id="{F6B7F78E-0742-46A2-B7BB-C83DD7A6CFD9}" type="datetime10">
              <a:rPr b="0" i="1" lang="en-US" sz="1200" spc="-1" strike="noStrike">
                <a:solidFill>
                  <a:srgbClr val="ffffff"/>
                </a:solidFill>
                <a:latin typeface="AvantGarde Bk BT"/>
              </a:rPr>
              <a:t>07:3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48520" y="106668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Freehand591 BT"/>
              </a:rPr>
              <a:t>Música: La Añera zamba Juan Falu y Marcelo Mogilevsk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005%20Logo" descr=""/>
          <p:cNvPicPr/>
          <p:nvPr/>
        </p:nvPicPr>
        <p:blipFill>
          <a:blip r:embed="rId2"/>
          <a:stretch/>
        </p:blipFill>
        <p:spPr>
          <a:xfrm>
            <a:off x="7467480" y="6095880"/>
            <a:ext cx="1212840" cy="30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4" name="aves0" descr=""/>
          <p:cNvPicPr/>
          <p:nvPr/>
        </p:nvPicPr>
        <p:blipFill>
          <a:blip r:embed="rId3"/>
          <a:stretch/>
        </p:blipFill>
        <p:spPr>
          <a:xfrm>
            <a:off x="7924680" y="5638680"/>
            <a:ext cx="789120" cy="490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600" y="3657600"/>
            <a:ext cx="541008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Monotype Corsiva"/>
              </a:rPr>
              <a:t>Una voz bella ¡quién la tuviera! Para cantarte toda la vida, pero mi estrella me dio este acento, y así te siento, tierra querid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5943600"/>
            <a:ext cx="289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vantGarde Bk BT"/>
              </a:rPr>
              <a:t>Atahualpa Yupanq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Ushuaia%20Canal%20Beagle%20Faro" descr=""/>
          <p:cNvPicPr/>
          <p:nvPr/>
        </p:nvPicPr>
        <p:blipFill>
          <a:blip r:embed="rId1"/>
          <a:stretch/>
        </p:blipFill>
        <p:spPr>
          <a:xfrm>
            <a:off x="304920" y="0"/>
            <a:ext cx="8572320" cy="6620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62120" y="6400800"/>
            <a:ext cx="76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Canal de Beagle Ushuaia Tierra del Fu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Ushuaia%20Isla%20de%20Pajaros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72320" cy="6105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2120" y="624060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 </a:t>
            </a: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Isla de los Pajaros Ushuaia Tierra del Fu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ta.Cruz%20Cerca%20del%20Cjhalten" descr=""/>
          <p:cNvPicPr/>
          <p:nvPr/>
        </p:nvPicPr>
        <p:blipFill>
          <a:blip r:embed="rId1"/>
          <a:stretch/>
        </p:blipFill>
        <p:spPr>
          <a:xfrm>
            <a:off x="304920" y="0"/>
            <a:ext cx="8572320" cy="662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62120" y="63244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Cerro El Chalten Fitz Roy Patago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ta.Cruz%20Bosques%20Petrificados" descr=""/>
          <p:cNvPicPr/>
          <p:nvPr/>
        </p:nvPicPr>
        <p:blipFill>
          <a:blip r:embed="rId1"/>
          <a:stretch/>
        </p:blipFill>
        <p:spPr>
          <a:xfrm>
            <a:off x="304920" y="0"/>
            <a:ext cx="8572320" cy="6620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62120" y="6400800"/>
            <a:ext cx="76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Bosques Petrificados Santa Cru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ta.Piramides%20P.Valdes%20Patagonia" descr=""/>
          <p:cNvPicPr/>
          <p:nvPr/>
        </p:nvPicPr>
        <p:blipFill>
          <a:blip r:embed="rId1"/>
          <a:stretch/>
        </p:blipFill>
        <p:spPr>
          <a:xfrm>
            <a:off x="304920" y="0"/>
            <a:ext cx="8572320" cy="6705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2120" y="632448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Punta Piramide Peninsula Valdes Chub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ta.Cruz%20Puerto%20Deseado%205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572320" cy="6257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14400" y="617220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Puerto Deseado Santa Cru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que%20Nac%20N.Huapi%20Patagonia" descr=""/>
          <p:cNvPicPr/>
          <p:nvPr/>
        </p:nvPicPr>
        <p:blipFill>
          <a:blip r:embed="rId1"/>
          <a:stretch/>
        </p:blipFill>
        <p:spPr>
          <a:xfrm>
            <a:off x="285840" y="119160"/>
            <a:ext cx="8572320" cy="6510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5800" y="640080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Brigitte"/>
              </a:rPr>
              <a:t>Parque Nacional Nahuel Huapi Patago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02:25:15Z</dcterms:created>
  <dc:creator>Jose</dc:creator>
  <dc:description/>
  <dc:language>en-US</dc:language>
  <cp:lastModifiedBy>Jose</cp:lastModifiedBy>
  <dcterms:modified xsi:type="dcterms:W3CDTF">2008-11-30T20:46:11Z</dcterms:modified>
  <cp:revision>41</cp:revision>
  <dc:subject/>
  <dc:title>Presentación de PowerPoint</dc:title>
</cp:coreProperties>
</file>