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la%20a%C3%B1era%20%C2%BFjuanjo%20y%20(2m%2005s).wav" ContentType="audio/x-wav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0B5-FB27-46DA-B304-D7B7980B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F61-77BB-4CED-B757-82A907BD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A8B-ECB7-4874-B22E-815AB962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797-AD6E-41B9-A3FD-C15D39C4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6B5-6CC6-4D68-903B-70EB1A97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A8C-0DE1-4FDC-95B4-68A0BAF2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2D2-3B35-4841-8C41-DD22C026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CEB-8F5A-4E7D-8AFC-05F6775A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7B2-72BF-43F7-9772-92B5D629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BB4-77AA-4C90-BD0C-F3D38C4C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8AA-0224-488A-9160-3BD61FD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951-D20D-4F84-8048-0575AC5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4D38-93C4-42A3-B327-996C7997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a&#241;era%20&#191;juanjo%20y%20(2m%2005s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za%20Volando%20sobre%20Potrerillos%20%5B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5627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veman"/>
              </a:rPr>
              <a:t>POS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56386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Freehand591 BT"/>
              </a:rPr>
              <a:t>del fin del mu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la%20a%C3%B1era%20%C2%BFjuanjo%20y%20(2m%2005s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que%20Nac%20Lanín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72680" cy="6134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617220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arque Nacional Lanin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.Valdes%20Ballena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72320" cy="6105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63165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eninsula Valdes Chu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ta.Cruz%20Puerto%20Deseado%20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72320" cy="6467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640080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erto Deseado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Ushuaia%20Ladera%20Nevada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72320" cy="6338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63244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igitte"/>
              </a:rPr>
              <a:t>Ladera Nevada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tz%20Roy%20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64008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Fitz Roy El Chalten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Lago%20Lacar%20Neuquen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38080" y="64008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Lago Lacar Neuqu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ta.Cruz%20Puerto%20Deseado%20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72320" cy="646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63244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erto Deseado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Glaciar%20Upsala%20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617220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Glaciar Upsala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Volcán%20Lanín" descr=""/>
          <p:cNvPicPr/>
          <p:nvPr/>
        </p:nvPicPr>
        <p:blipFill>
          <a:blip r:embed="rId1"/>
          <a:stretch/>
        </p:blipFill>
        <p:spPr>
          <a:xfrm>
            <a:off x="304920" y="181080"/>
            <a:ext cx="8572320" cy="667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640080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Volcan Lanin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suhaia%20Cormoranes%20y%20el%20Cóndor" descr=""/>
          <p:cNvPicPr/>
          <p:nvPr/>
        </p:nvPicPr>
        <p:blipFill>
          <a:blip r:embed="rId1"/>
          <a:stretch/>
        </p:blipFill>
        <p:spPr>
          <a:xfrm>
            <a:off x="285840" y="271440"/>
            <a:ext cx="8572320" cy="6315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617220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Cormoranes y Condor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laciar%20Spegazzini%20Patagon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632448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Glaciar Spegazzini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Ushuaia%20Lago%20Escondido" descr=""/>
          <p:cNvPicPr/>
          <p:nvPr/>
        </p:nvPicPr>
        <p:blipFill>
          <a:blip r:embed="rId1"/>
          <a:stretch/>
        </p:blipFill>
        <p:spPr>
          <a:xfrm>
            <a:off x="285840" y="14400"/>
            <a:ext cx="8572320" cy="6691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632448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Lago Escondido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Ushuaia%20Iceberg%20Upsala%20Lago%20Argentino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72320" cy="5857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60958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Tempanos Glaciar Upsala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Ushuaia%20Pinguinos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58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64008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nta Tombo Chu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Lago%20Huechulafquen%20Pque.Lanin2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64008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Lago Huechulafquen Parque Lanin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Ushuaia%20Veleros%20en%20la%20Bahia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72320" cy="623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63244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za%20Cacheuta%20L.de%20Cuy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304920"/>
            <a:ext cx="358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57BC-08B3-4B69-8DAD-D14F24AAC20F}" type="datetime2">
              <a:rPr b="0" i="1" lang="en-US" sz="1200" spc="-1" strike="noStrike">
                <a:solidFill>
                  <a:srgbClr val="ffffff"/>
                </a:solidFill>
                <a:latin typeface="AvantGarde Bk BT"/>
              </a:rPr>
              <a:t>Friday, July 31, 2026</a:t>
            </a:fld>
            <a:r>
              <a:rPr b="0" i="1" lang="en-US" sz="1200" spc="-1" strike="noStrike">
                <a:solidFill>
                  <a:srgbClr val="ffffff"/>
                </a:solidFill>
                <a:latin typeface="AvantGarde Bk BT"/>
              </a:rPr>
              <a:t>  ♣ </a:t>
            </a:r>
            <a:fld id="{2D8B9B72-880D-4F42-AE4B-2967FD6C27BD}" type="datetime10">
              <a:rPr b="0" i="1" lang="en-US" sz="1200" spc="-1" strike="noStrike">
                <a:solidFill>
                  <a:srgbClr val="ffffff"/>
                </a:solidFill>
                <a:latin typeface="AvantGarde Bk BT"/>
              </a:rPr>
              <a:t>17:0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106668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Freehand591 BT"/>
              </a:rPr>
              <a:t>Música: La Añera zamba Juan Falu y Marcelo Mogilev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005%20Logo" descr=""/>
          <p:cNvPicPr/>
          <p:nvPr/>
        </p:nvPicPr>
        <p:blipFill>
          <a:blip r:embed="rId2"/>
          <a:stretch/>
        </p:blipFill>
        <p:spPr>
          <a:xfrm>
            <a:off x="7467480" y="6095880"/>
            <a:ext cx="1212840" cy="30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aves0" descr=""/>
          <p:cNvPicPr/>
          <p:nvPr/>
        </p:nvPicPr>
        <p:blipFill>
          <a:blip r:embed="rId3"/>
          <a:stretch/>
        </p:blipFill>
        <p:spPr>
          <a:xfrm>
            <a:off x="7924680" y="5638680"/>
            <a:ext cx="789120" cy="49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657600"/>
            <a:ext cx="54100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Monotype Corsiva"/>
              </a:rPr>
              <a:t>Una voz bella ¡quién la tuviera! Para cantarte toda la vida, pero mi estrella me dio este acento, y así te siento, tierra quer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594360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vantGarde Bk BT"/>
              </a:rPr>
              <a:t>Atahualpa Yupanq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shuaia%20Canal%20Beagle%20Faro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64008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Canal de Beagle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shuaia%20Isla%20de%20Pajaro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72320" cy="610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62406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Isla de los Pajaros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ta.Cruz%20Cerca%20del%20Cjhalten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63244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Cerro El Chalten Fitz Roy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ta.Cruz%20Bosques%20Petrificados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64008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Bosques Petrificados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ta.Piramides%20P.Valdes%20Patagonia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70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63244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nta Piramide Peninsula Valdes Chu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ta.Cruz%20Puerto%20Deseado%20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72320" cy="6257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1722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erto Deseado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que%20Nac%20N.Huapi%20Patagonia" descr=""/>
          <p:cNvPicPr/>
          <p:nvPr/>
        </p:nvPicPr>
        <p:blipFill>
          <a:blip r:embed="rId1"/>
          <a:stretch/>
        </p:blipFill>
        <p:spPr>
          <a:xfrm>
            <a:off x="285840" y="119160"/>
            <a:ext cx="8572320" cy="6510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640080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arque Nacional Nahuel Huapi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2:25:15Z</dcterms:created>
  <dc:creator>Jose</dc:creator>
  <dc:description/>
  <dc:language>en-US</dc:language>
  <cp:lastModifiedBy>Jose</cp:lastModifiedBy>
  <dcterms:modified xsi:type="dcterms:W3CDTF">2008-11-30T20:46:11Z</dcterms:modified>
  <cp:revision>41</cp:revision>
  <dc:subject/>
  <dc:title>Presentación de PowerPoint</dc:title>
</cp:coreProperties>
</file>