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violin%20italiano%20-%20musica%20de%20peliculas%20-%20el%20padrino.wav" ContentType="audio/x-wav"/>
  <Override PartName="/ppt/media/image7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A37-C83E-490E-9ABD-3EE0EA1A1D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C275-D706-44D7-9D56-CDB38B6E6F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1BC3-4443-407D-8D63-9314A1DD55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EAB-F806-4234-BC77-3ACE915D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73F-F2A9-4834-9B7C-9DDEF70E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333-F3BB-4461-91CD-5DBFE12F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018-7C41-4B31-B785-BBF39AC6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9BF-9260-4D0D-B024-86DBBB6E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600-2820-4664-90D8-AA6293D0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DF9-0112-46A5-B643-B0F9F652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C7F-CD7D-48BC-A915-69EDF02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299-8C4A-4307-842F-6DB48F7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0F5-28F9-4058-9432-E1D90B0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FD9-9CF8-4A62-B2A3-D5604F79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0D7-6917-4F40-ABF6-B37ED94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E31-3AC3-42FD-8392-D3D1965D7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iolin%20italiano%20-%20musica%20de%20peliculas%20-%20el%20padrin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miguelo\Mis documentos\Mis imágenes\416__T2V4253border.jpg"/>
          <p:cNvPicPr/>
          <p:nvPr/>
        </p:nvPicPr>
        <p:blipFill>
          <a:blip r:embed="rId1"/>
          <a:stretch/>
        </p:blipFill>
        <p:spPr>
          <a:xfrm>
            <a:off x="2077920" y="0"/>
            <a:ext cx="51372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5390640"/>
            <a:ext cx="514332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TA LEVI-MONTALCINI </a:t>
            </a:r>
            <a:br>
              <a:rPr sz="3000"/>
            </a:br>
            <a:r>
              <a:rPr b="1" lang="es-D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ÓLOGA  ITAL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5640" y="5314680"/>
            <a:ext cx="4714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ntrevista el  </a:t>
            </a:r>
            <a:r>
              <a:rPr b="1" lang="es-DO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2/12/2005,  </a:t>
            </a:r>
            <a:r>
              <a:rPr b="1" lang="es-DO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37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C:\Documents and Settings\miguelo\Mis documentos\Mis imágenes\T232052A.jpg"/>
          <p:cNvPicPr/>
          <p:nvPr/>
        </p:nvPicPr>
        <p:blipFill>
          <a:blip r:embed="rId1"/>
          <a:srcRect l="0" t="0" r="4141" b="0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5 Rectángulo"/>
          <p:cNvSpPr/>
          <p:nvPr/>
        </p:nvSpPr>
        <p:spPr>
          <a:xfrm>
            <a:off x="5143680" y="2000160"/>
            <a:ext cx="392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eo que convirtió eso en un estímulo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Me estimuló también el ejemplo del médico Albert Schweitzer,  que estaba en África para paliar la lepra. Deseé ayudar a  los que sufren, ¡ése era mi gran sueño...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 Imagen" descr="newsimage68671.jpg"/>
          <p:cNvPicPr/>
          <p:nvPr/>
        </p:nvPicPr>
        <p:blipFill>
          <a:blip r:embed="rId1"/>
          <a:stretch/>
        </p:blipFill>
        <p:spPr>
          <a:xfrm>
            <a:off x="0" y="0"/>
            <a:ext cx="5229360" cy="6835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929120" y="1785600"/>
            <a:ext cx="3929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Y lo ha hecho...               con su ciencia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Y, hoy, ayudando a niñas de África para que estudien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chemos contra la enfermedad, sí, ¡pero todo mejorará si acaba la opresión de la mujer en  esos países islamistas...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12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5 Imagen" descr="_090301054533_Levi-Montalcini,Rita.jpg"/>
          <p:cNvPicPr/>
          <p:nvPr/>
        </p:nvPicPr>
        <p:blipFill>
          <a:blip r:embed="rId1"/>
          <a:stretch/>
        </p:blipFill>
        <p:spPr>
          <a:xfrm>
            <a:off x="0" y="0"/>
            <a:ext cx="5038560" cy="6878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176800" y="1828800"/>
            <a:ext cx="368136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a religión ¿frena el desarrollo cognitivo?   (del conocimiento)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i la religión margina   a la mujer frente al hombre, la aparta del desarrollo cognitivo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c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4 Imagen" descr="untitled.ri.bmp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6873840"/>
          </a:xfrm>
          <a:prstGeom prst="rect">
            <a:avLst/>
          </a:prstGeom>
          <a:ln w="0">
            <a:noFill/>
          </a:ln>
        </p:spPr>
      </p:pic>
      <p:sp>
        <p:nvSpPr>
          <p:cNvPr id="76" name="6 Rectángulo"/>
          <p:cNvSpPr/>
          <p:nvPr/>
        </p:nvSpPr>
        <p:spPr>
          <a:xfrm>
            <a:off x="71280" y="1643040"/>
            <a:ext cx="3500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Existen diferencias entre el cerebro del hombre y el de la mujer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ólo en las funciones cerebrales relacionadas con las emociones, vinculadas al sistema endocrino. Pero en cuanto a las funciones cognitivas, no hay diferencia algu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d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Imagen" descr="esterne301728543012172926_big.jpg"/>
          <p:cNvPicPr/>
          <p:nvPr/>
        </p:nvPicPr>
        <p:blipFill>
          <a:blip r:embed="rId1"/>
          <a:stretch/>
        </p:blipFill>
        <p:spPr>
          <a:xfrm>
            <a:off x="2417760" y="0"/>
            <a:ext cx="6726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13880"/>
            <a:ext cx="30002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Por qué todavía hay pocas científicas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¡No es así! ¡Muchos hallazgos científicos atribuidos a hombres los hicieron en verdad sus hermanas, esposas e hijas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9 Imagen" descr="rita_levi_manos_226x283.jpg"/>
          <p:cNvPicPr/>
          <p:nvPr/>
        </p:nvPicPr>
        <p:blipFill>
          <a:blip r:embed="rId1"/>
          <a:stretch/>
        </p:blipFill>
        <p:spPr>
          <a:xfrm>
            <a:off x="366696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6 Rectángulo"/>
          <p:cNvSpPr/>
          <p:nvPr/>
        </p:nvSpPr>
        <p:spPr>
          <a:xfrm>
            <a:off x="142920" y="500040"/>
            <a:ext cx="35719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De veras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No se admitía la inteligencia femenina, y      la dejaban en la sombra.   Hoy, felizmente, hay más mujeres que hombres en la investigación científica:   ¡las herederas de Hipatia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La sabia alejandrina del siglo IV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Ya no acabaremos asesinadas en la calle por monjes cristianos misóginos, como ella.    Desde luego, el mundo ha mejorado algo..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2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 Imagen" descr="610x.jpg"/>
          <p:cNvPicPr/>
          <p:nvPr/>
        </p:nvPicPr>
        <p:blipFill>
          <a:blip r:embed="rId1"/>
          <a:srcRect l="20093" t="0" r="0" b="0"/>
          <a:stretch/>
        </p:blipFill>
        <p:spPr>
          <a:xfrm>
            <a:off x="0" y="0"/>
            <a:ext cx="3693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571560" y="1590840"/>
            <a:ext cx="54291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adie ha intentado asesinarla a usted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Durante el fascismo, Mussolini quiso imitar a Hitler en la persecución de judíos... y tuve que ocultarme por un tiempo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o no dejé de investigar : monté mi laboratorio en mi dormitorio...               ¡y descubrí la apoptosis, que es la muerte programada de las células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Documents and Settings\miguelo\Mis documentos\Mis imágenes\417__T2V4255border.jpg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  <p:sp>
        <p:nvSpPr>
          <p:cNvPr id="84" name="5 Rectángulo"/>
          <p:cNvSpPr/>
          <p:nvPr/>
        </p:nvSpPr>
        <p:spPr>
          <a:xfrm>
            <a:off x="4929120" y="1714680"/>
            <a:ext cx="3786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Por qué hay tan alto porcentaje de judíos entre científicos e intelectuales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La exclusión fomentó   entre los judíos los trabajos intelectivos: pueden prohibírtelo todo,  ¡pero no que pienses! Y es cierto que hay muchos judíos entre los premios Nobel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 Imagen" descr="Rita_1240165910.jpg"/>
          <p:cNvPicPr/>
          <p:nvPr/>
        </p:nvPicPr>
        <p:blipFill>
          <a:blip r:embed="rId1"/>
          <a:stretch/>
        </p:blipFill>
        <p:spPr>
          <a:xfrm>
            <a:off x="3149640" y="0"/>
            <a:ext cx="5994360" cy="6864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3929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Cómo se explica usted    la locura nazi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itler y Mussolini supieron hablar a las masas, en las que siempre predomina el cerebro emocional sobre el neocortical, el intelectual. ¡Manejaron emociones,     no razones!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¿Sucede eso ahora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Por qué cree que en muchas escuelas de Estados Unidos se enseña el creacionismo en vez del evolucionismo?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7 Imagen" descr="image0048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2560" y="2609640"/>
            <a:ext cx="37148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La ideología es emoción,   es sinrazón?</a:t>
            </a:r>
            <a:br>
              <a:rPr sz="2000"/>
            </a:b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a razón es hija de la imperfección. En los invertebrados todo está programado: son perfectos. ¡Nosotros, no! Y, al ser  imperfectos, hemos recurrido a la razón,             a los valores éticos: ¡discernir entre el bien y el mal es el más alto grado de  la evolución darwiniana!</a:t>
            </a:r>
            <a:br>
              <a:rPr sz="2000"/>
            </a:br>
            <a:br>
              <a:rPr sz="2000"/>
            </a:b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14880" y="1371240"/>
            <a:ext cx="49291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Cómo celebrará sus 100 años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- Ah, no sé si viviré, y además no me placen las celebraciones.                  ¡Lo que me interesa y me da placer es lo que hago cada día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¿Y qué hace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- Trabajo para becar a niñas africanas para que estudien y prosperen ellas y sus países.                Y sigo investigando, sigo  pensando..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7 Imagen" descr="pict_20070515PHT06703.jpg"/>
          <p:cNvPicPr/>
          <p:nvPr/>
        </p:nvPicPr>
        <p:blipFill>
          <a:blip r:embed="rId1"/>
          <a:stretch/>
        </p:blipFill>
        <p:spPr>
          <a:xfrm>
            <a:off x="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286080" y="-360"/>
            <a:ext cx="57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man Old Style"/>
              </a:rPr>
              <a:t>Premio Novel de Medicina en </a:t>
            </a:r>
            <a:r>
              <a:rPr b="1" lang="es-ES" sz="2000" spc="-1" strike="noStrike">
                <a:solidFill>
                  <a:srgbClr val="ffffff"/>
                </a:solidFill>
                <a:latin typeface="Bookman Old Style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0 Imagen" descr="1866934.jpg"/>
          <p:cNvPicPr/>
          <p:nvPr/>
        </p:nvPicPr>
        <p:blipFill>
          <a:blip r:embed="rId1"/>
          <a:srcRect l="0" t="0" r="0" b="5206"/>
          <a:stretch/>
        </p:blipFill>
        <p:spPr>
          <a:xfrm>
            <a:off x="1857240" y="0"/>
            <a:ext cx="7215480" cy="6838920"/>
          </a:xfrm>
          <a:prstGeom prst="rect">
            <a:avLst/>
          </a:prstGeom>
          <a:ln w="0">
            <a:noFill/>
          </a:ln>
        </p:spPr>
      </p:pic>
      <p:sp>
        <p:nvSpPr>
          <p:cNvPr id="90" name="6 Rectángulo"/>
          <p:cNvSpPr/>
          <p:nvPr/>
        </p:nvSpPr>
        <p:spPr>
          <a:xfrm>
            <a:off x="214200" y="3684600"/>
            <a:ext cx="357192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Nunca se ha casado,          no ha tenido hij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. Entré en la jungla del sistema nervioso ¡y quedé tan fascinada por su belleza que decidí dedicarle todo   mi tiempo, mi vida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8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 Imagen" descr="levi_montalcini.gif"/>
          <p:cNvPicPr/>
          <p:nvPr/>
        </p:nvPicPr>
        <p:blipFill>
          <a:blip r:embed="rId1"/>
          <a:stretch/>
        </p:blipFill>
        <p:spPr>
          <a:xfrm>
            <a:off x="0" y="0"/>
            <a:ext cx="5045040" cy="6861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71680" y="571680"/>
            <a:ext cx="4071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 </a:t>
            </a: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Lograremos un día curar el alzheimer, el parkinson,          la demencia senil...?                                                          - Curar... Lo que lograremos será frenar, retrasar, minimizar todas esas enfermedades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¿Cuál es hoy su gran sueño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Que un día logremos utilizar al máximo la capacidad cognitiva de nuestros cerebros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¿Cuándo dejó de sentirse patito feo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¡Aún sigo consciente           de mis limitaciones!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Imagen" descr="untitled.rl.bmp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071960" y="842760"/>
            <a:ext cx="4929120" cy="15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Qué ha sido lo mejor de su vida?   - Ayudar a los demá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Qué haría hoy si tuviese 20 años? - ¡Pero si estoy haciéndol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CuadroTexto"/>
          <p:cNvSpPr/>
          <p:nvPr/>
        </p:nvSpPr>
        <p:spPr>
          <a:xfrm>
            <a:off x="5072040" y="4184640"/>
            <a:ext cx="3500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ita Levi –Montalcini cumplió 100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22 de abril.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¡FELICIDAD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CuadroTexto"/>
          <p:cNvSpPr/>
          <p:nvPr/>
        </p:nvSpPr>
        <p:spPr>
          <a:xfrm>
            <a:off x="8289720" y="6386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7 Rectángulo"/>
          <p:cNvSpPr/>
          <p:nvPr/>
        </p:nvSpPr>
        <p:spPr>
          <a:xfrm>
            <a:off x="142920" y="87624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 se jubila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- ¡Jamás! ¡La jubilación está destruyendo cerebros!  Mucha gente se jubila, y se abandona... Y eso mata su cerebro. Y  enfer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10 Rectángulo"/>
          <p:cNvSpPr/>
          <p:nvPr/>
        </p:nvSpPr>
        <p:spPr>
          <a:xfrm>
            <a:off x="142920" y="323388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Y cómo anda su cerebro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- ¡Igual que a mis 20 años! No noto diferencia en 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usiones ni en capacidad. Mañana vuelo a un congreso médico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:\Documents and Settings\miguelo\Mis documentos\Mis imágenes\Goeppert.jpg"/>
          <p:cNvPicPr/>
          <p:nvPr/>
        </p:nvPicPr>
        <p:blipFill>
          <a:blip r:embed="rId1"/>
          <a:stretch/>
        </p:blipFill>
        <p:spPr>
          <a:xfrm>
            <a:off x="3908520" y="142920"/>
            <a:ext cx="50925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 Imagen" descr="levi-montalcini.jpg"/>
          <p:cNvPicPr/>
          <p:nvPr/>
        </p:nvPicPr>
        <p:blipFill>
          <a:blip r:embed="rId1"/>
          <a:stretch/>
        </p:blipFill>
        <p:spPr>
          <a:xfrm>
            <a:off x="181080" y="142920"/>
            <a:ext cx="5033880" cy="657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71680" y="1071360"/>
            <a:ext cx="4000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ero algún límite genético habrá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No. Mi cerebro pronto tendrá un siglo..., pero no conoce la senilidad.              El cuerpo se me arruga,       es inevitable, ¡pero no el  cerebr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 Imagen" descr="LeviMontalcini3.jpg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38320"/>
            <a:ext cx="42861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Cómo lo hace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ozamos de gran plasticidad neuronal: aunque mueran neuronas, las restantes se reorganizan para mantener las mismas funciones, ¡pero para ello conviene estimularlas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Ayúdeme a hacerlo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Mantén tu cerebro ilusionado, activo, hazlo funcionar y nunca se degenerará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1471680"/>
            <a:ext cx="4357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Y viviré más años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ivirá mejor los años que viva, que eso es lo interesante. La clave es mantener curiosidades, empeños,       tener pasiones..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suya fue la investigación científica...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í, y sigue siéndolo. 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Documents and Settings\miguelo\Mis documentos\Mis imágenes\418 T2vrlm.jpg"/>
          <p:cNvPicPr/>
          <p:nvPr/>
        </p:nvPicPr>
        <p:blipFill>
          <a:blip r:embed="rId1"/>
          <a:stretch/>
        </p:blipFill>
        <p:spPr>
          <a:xfrm>
            <a:off x="4917960" y="0"/>
            <a:ext cx="42260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C:\Documents and Settings\miguelo\Mis documentos\Mis imágenes\4209RitaLevi-Montalcini.jpg"/>
          <p:cNvPicPr/>
          <p:nvPr/>
        </p:nvPicPr>
        <p:blipFill>
          <a:blip r:embed="rId1"/>
          <a:stretch/>
        </p:blipFill>
        <p:spPr>
          <a:xfrm>
            <a:off x="1000080" y="-30240"/>
            <a:ext cx="7075440" cy="6888240"/>
          </a:xfrm>
          <a:prstGeom prst="rect">
            <a:avLst/>
          </a:prstGeom>
          <a:ln w="0">
            <a:noFill/>
          </a:ln>
        </p:spPr>
      </p:pic>
      <p:sp>
        <p:nvSpPr>
          <p:cNvPr id="64" name="6 Rectángulo"/>
          <p:cNvSpPr/>
          <p:nvPr/>
        </p:nvSpPr>
        <p:spPr>
          <a:xfrm>
            <a:off x="71280" y="5340240"/>
            <a:ext cx="907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Descubrió cómo crecen y se renuevan las células del sistema nervioso...</a:t>
            </a:r>
            <a:br>
              <a:rPr sz="2200"/>
            </a:br>
            <a:r>
              <a:rPr b="1" lang="es-DO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Sí, en 1942: lo llamé “nerve growth factor” (NGF, Factor de Crecimiento Nervioso), y durante casi medio siglo estuvo en  entredicho, ¡hasta que se reconoció su validez y en 1986 me dieron por ello el premio Nobe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9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428800" y="1213920"/>
            <a:ext cx="3357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Cómo fue que una chica italiana de los años veinte se convirtió en neurocientífica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sde niña tuve el empeño de estudiar.  Mi padre quería casarme bien, que  fuese buena esposa, buena madre...                         Y yo me negué.          Me planté y le confesé que quería estudiar..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 Imagen" descr="EU-Italy-People-Levi-Montalcini-69329a1d-429c-4d18-9cb0-1b37321e71cb.jpg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6 Imagen" descr="VC089007.jpg"/>
          <p:cNvPicPr/>
          <p:nvPr/>
        </p:nvPicPr>
        <p:blipFill>
          <a:blip r:embed="rId1"/>
          <a:stretch/>
        </p:blipFill>
        <p:spPr>
          <a:xfrm>
            <a:off x="0" y="0"/>
            <a:ext cx="5802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4 Rectángulo"/>
          <p:cNvSpPr/>
          <p:nvPr/>
        </p:nvSpPr>
        <p:spPr>
          <a:xfrm>
            <a:off x="5786280" y="1879560"/>
            <a:ext cx="32864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ué disgusto para papá, ¿no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í. Pero es que yo no tenía una infancia feliz: me sentía patito feo,  tonta y poca cosa...      Mis hermanos mayores eran muy brillantes,        y  yo me sentía tan inferior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4:38:38Z</dcterms:created>
  <dc:creator>ana_nieves</dc:creator>
  <dc:description>Modificación: C.Ochoa</dc:description>
  <dc:language>en-US</dc:language>
  <cp:lastModifiedBy>JOSÉ LUIS</cp:lastModifiedBy>
  <dcterms:modified xsi:type="dcterms:W3CDTF">2009-05-19T23:53:47Z</dcterms:modified>
  <cp:revision>37</cp:revision>
  <dc:subject/>
  <dc:title>RITA LEVI-MONTALCINI,  NEURÓLOGA </dc:title>
</cp:coreProperties>
</file>