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axel%20-%20celebra%20la%20vida-%20universo%20nuevo%20disco.wav" ContentType="audio/x-wav"/>
  <Override PartName="/ppt/media/image19.jpeg" ContentType="image/jpeg"/>
  <Override PartName="/ppt/media/image1.gif" ContentType="image/gif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B69-42B1-4131-A48A-4ED45D00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71A-8C49-40D9-A193-D4264731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E1A-943A-483C-94C4-B781BE93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26E-2751-48F7-BEEF-D3FDCD55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BD9-2F18-4C99-8B49-E6B3232E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903-6B17-43DF-BB46-FDA6723A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153-2408-4FC7-A5DE-6F5BA422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A84-510A-4353-A8C7-29A6D19C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471-C3EE-4CA4-80AE-CC1F3AA9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3E8-C2EC-46B4-956E-6767F5C0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B22-415A-4D18-B382-BC40C5A4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320-107C-41C3-9BFF-D488872C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ECC4-ED6C-4588-9D2F-39FAB9C95C2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xel%20-%20celebra%20la%20vida-%20universo%20nuevo%20disc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lor"/>
          <p:cNvPicPr/>
          <p:nvPr/>
        </p:nvPicPr>
        <p:blipFill>
          <a:blip r:embed="rId1"/>
          <a:stretch/>
        </p:blipFill>
        <p:spPr>
          <a:xfrm>
            <a:off x="6715080" y="600084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428760" y="428760"/>
            <a:ext cx="82864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ustralian Sunrise"/>
              </a:rPr>
              <a:t>¡Celebra la Vida!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ustralian Sunrise"/>
              <a:ea typeface="Australian Sunrise"/>
            </a:endParaRPr>
          </a:p>
        </p:txBody>
      </p:sp>
      <p:pic>
        <p:nvPicPr>
          <p:cNvPr id="43" name="Picture 10" descr="CA33103"/>
          <p:cNvPicPr/>
          <p:nvPr/>
        </p:nvPicPr>
        <p:blipFill>
          <a:blip r:embed="rId2"/>
          <a:stretch/>
        </p:blipFill>
        <p:spPr>
          <a:xfrm>
            <a:off x="6858000" y="2500200"/>
            <a:ext cx="1846440" cy="263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72200395"/>
          <p:cNvPicPr/>
          <p:nvPr/>
        </p:nvPicPr>
        <p:blipFill>
          <a:blip r:embed="rId3"/>
          <a:stretch/>
        </p:blipFill>
        <p:spPr>
          <a:xfrm>
            <a:off x="3000240" y="2857680"/>
            <a:ext cx="3543480" cy="229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200168731-002"/>
          <p:cNvPicPr/>
          <p:nvPr/>
        </p:nvPicPr>
        <p:blipFill>
          <a:blip r:embed="rId4"/>
          <a:stretch/>
        </p:blipFill>
        <p:spPr>
          <a:xfrm>
            <a:off x="571680" y="2500200"/>
            <a:ext cx="2090520" cy="2579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7000920" y="60721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P 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5335200" y="333360"/>
            <a:ext cx="335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Y si alguien te eng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 decir “te quiero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pon más leña al f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y empieza de nue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6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2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24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08880" y="1700280"/>
            <a:ext cx="362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Verdana"/>
              </a:rPr>
              <a:t>No dejes que ca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Verdana"/>
              </a:rPr>
              <a:t>tus sueños al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Verdana"/>
              </a:rPr>
              <a:t>que mientras más 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Verdana"/>
              </a:rPr>
              <a:t>más cerca está el ci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8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6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12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55440" y="692280"/>
            <a:ext cx="364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Verdana"/>
              </a:rPr>
              <a:t>Grita contra el od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Verdana"/>
              </a:rPr>
              <a:t>contra la menti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Verdana"/>
              </a:rPr>
              <a:t>que la guerra es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Verdana"/>
              </a:rPr>
              <a:t>y la paz es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6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4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24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39640" y="620640"/>
            <a:ext cx="34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¡Celebra la vi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¡Celebra la vi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que nada se guarda, que todo te bri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003640" y="48690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¡Celebra la vi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¡Celebra la vida!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segundo a segund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4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28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60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24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92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871880" y="1700280"/>
            <a:ext cx="317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¡Valen las palma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la percusió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¡siéntete lib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¡Alimenta tu energí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49"/>
          <p:cNvPicPr/>
          <p:nvPr/>
        </p:nvPicPr>
        <p:blipFill>
          <a:blip r:embed="rId1"/>
          <a:stretch/>
        </p:blipFill>
        <p:spPr>
          <a:xfrm>
            <a:off x="755640" y="620640"/>
            <a:ext cx="3654360" cy="525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1332000" y="1047960"/>
            <a:ext cx="650232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No sé si soñab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No sé si dormí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y la voz de un án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dijo que te d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¡Celebra l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¡Celebra l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Y deja en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tu mejor sem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¡Celebra l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¡Celebra l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Qué es mucho más b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Verdana"/>
              </a:rPr>
              <a:t>cuando Tú me mi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Cj01044360000[1]"/>
          <p:cNvPicPr/>
          <p:nvPr/>
        </p:nvPicPr>
        <p:blipFill>
          <a:blip r:embed="rId1"/>
          <a:stretch/>
        </p:blipFill>
        <p:spPr>
          <a:xfrm rot="5400000">
            <a:off x="1254960" y="-1146960"/>
            <a:ext cx="6742080" cy="903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MCj01044360000[1]"/>
          <p:cNvPicPr/>
          <p:nvPr/>
        </p:nvPicPr>
        <p:blipFill>
          <a:blip r:embed="rId2"/>
          <a:stretch/>
        </p:blipFill>
        <p:spPr>
          <a:xfrm rot="5400000">
            <a:off x="1799640" y="-351720"/>
            <a:ext cx="5689440" cy="734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971640" y="260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Verdana"/>
              </a:rPr>
              <a:t>¡Celebra la vid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Verdana"/>
              </a:rPr>
              <a:t>¡Celebra la vid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9"/>
          <p:cNvSpPr/>
          <p:nvPr/>
        </p:nvSpPr>
        <p:spPr>
          <a:xfrm>
            <a:off x="428760" y="28584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y ahor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¡Invita a los tuy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a cantar y transformar su estado de ánim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428777306_46bc4be4a8"/>
          <p:cNvPicPr/>
          <p:nvPr/>
        </p:nvPicPr>
        <p:blipFill>
          <a:blip r:embed="rId1"/>
          <a:stretch/>
        </p:blipFill>
        <p:spPr>
          <a:xfrm>
            <a:off x="1908000" y="1844640"/>
            <a:ext cx="5384880" cy="3584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1214280" y="5572080"/>
            <a:ext cx="63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¡Refleja al universo el Amor que E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2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44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yberHandsfromSistineChapel"/>
          <p:cNvPicPr/>
          <p:nvPr/>
        </p:nvPicPr>
        <p:blipFill>
          <a:blip r:embed="rId1"/>
          <a:stretch/>
        </p:blipFill>
        <p:spPr>
          <a:xfrm>
            <a:off x="0" y="0"/>
            <a:ext cx="9144000" cy="4224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357120" y="4143240"/>
            <a:ext cx="8429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ube el volumen de las bocina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¡anímate a cantar con nosotros a viva vo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ayúdate con el click para seguir la letra de la can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51720" y="6357960"/>
            <a:ext cx="29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Verdana"/>
              </a:rPr>
              <a:t>(Esta diapositiva no tiene son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785880" y="785880"/>
            <a:ext cx="684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0000"/>
                </a:solidFill>
                <a:latin typeface="Verdana"/>
              </a:rPr>
              <a:t>¿Listo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89560" y="2637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00ff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500120" y="400068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00cc00"/>
                </a:solidFill>
                <a:latin typeface="Verdana"/>
              </a:rPr>
              <a:t>¡Vamo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9920" y="2637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3399ff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01200" y="2637000"/>
            <a:ext cx="81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6000" spc="-1" strike="noStrike">
                <a:solidFill>
                  <a:srgbClr val="ffff00"/>
                </a:solidFill>
                <a:latin typeface="Verdan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56280" y="6215040"/>
            <a:ext cx="32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dddddd"/>
                </a:solidFill>
                <a:latin typeface="Verdana"/>
              </a:rPr>
              <a:t>(</a:t>
            </a:r>
            <a:r>
              <a:rPr b="0" lang="es-ES_tradnl" sz="1600" spc="-1" strike="noStrike">
                <a:solidFill>
                  <a:srgbClr val="dddddd"/>
                </a:solidFill>
                <a:latin typeface="Verdana"/>
              </a:rPr>
              <a:t>Esta diapositiva no tiene son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292000" y="476280"/>
            <a:ext cx="300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Verdana"/>
              </a:rPr>
              <a:t>No se si soñab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Verdana"/>
              </a:rPr>
              <a:t>no se si dorm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Verdana"/>
              </a:rPr>
              <a:t>y la voz de un án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Verdana"/>
              </a:rPr>
              <a:t>dijo que te dig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axel%20-%20celebra%20la%20vida-%20universo%20nuevo%20disco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910160" y="1125360"/>
            <a:ext cx="53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0000"/>
                </a:solidFill>
                <a:latin typeface="Verdana"/>
              </a:rPr>
              <a:t>¡Celebra la Vid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706360" y="4869000"/>
            <a:ext cx="311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Piensa libremen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ayuda a la gen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y por lo que quier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lucha y se pa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2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4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5"/>
          <p:cNvPicPr/>
          <p:nvPr/>
        </p:nvPicPr>
        <p:blipFill>
          <a:blip r:embed="rId1"/>
          <a:stretch/>
        </p:blipFill>
        <p:spPr>
          <a:xfrm>
            <a:off x="611280" y="333360"/>
            <a:ext cx="4046400" cy="6080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70520" y="2205000"/>
            <a:ext cx="354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ff"/>
                </a:solidFill>
                <a:latin typeface="Verdana"/>
              </a:rPr>
              <a:t>Lleva poca carg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ff"/>
                </a:solidFill>
                <a:latin typeface="Verdana"/>
              </a:rPr>
              <a:t>a nada de afer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ff"/>
                </a:solidFill>
                <a:latin typeface="Verdana"/>
              </a:rPr>
              <a:t>porque en este mun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ff"/>
                </a:solidFill>
                <a:latin typeface="Verdana"/>
              </a:rPr>
              <a:t>nada es para siemp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153440" y="907920"/>
            <a:ext cx="307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Búscate una est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que sea tu gu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no hieras a nad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reparte aleg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3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6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638080" y="549360"/>
            <a:ext cx="595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¡Celebra la vida!¡Celebra la vi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que nada se guarda, que todo te bri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¡Celebra la vida!¡Celebra la vida!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segundo a segundo y todos los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3:54:50Z</dcterms:created>
  <dc:creator>Refleja</dc:creator>
  <dc:description/>
  <dc:language>en-US</dc:language>
  <cp:lastModifiedBy>Oscar</cp:lastModifiedBy>
  <dcterms:modified xsi:type="dcterms:W3CDTF">2008-10-11T20:17:42Z</dcterms:modified>
  <cp:revision>38</cp:revision>
  <dc:subject/>
  <dc:title>Diapositiva 1</dc:title>
</cp:coreProperties>
</file>