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LAST-CLAYDERMAN%20-%20COEURS%20D'OR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41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4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4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T-CLAYDERMAN%20-%20COEURS%20D&apos;OR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63204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(SED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4000">
    <p:randomBar dir="vert"/>
    <p:sndAc>
      <p:stSnd>
        <p:snd r:embed="rId2" name="LAST-CLAYDERMAN%20-%20COEURS%20D'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0240" y="6615000"/>
            <a:ext cx="949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Mientras que tú puedes seguir casi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un mes sin comida..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62940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Tu cuerpo no puede sobrevivir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una semana sin agua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553080"/>
            <a:ext cx="101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Helvetica Neue Light"/>
              </a:rPr>
              <a:t>(La misma agua</a:t>
            </a:r>
            <a:r>
              <a:rPr b="0" lang="es-MX" sz="3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s-MX" sz="3200" spc="-1" strike="noStrike">
                <a:solidFill>
                  <a:srgbClr val="a9d1db"/>
                </a:solidFill>
                <a:latin typeface="Helvetica Neue Light"/>
              </a:rPr>
              <a:t>que ha existido en la Tierra desde</a:t>
            </a:r>
            <a:r>
              <a:rPr b="0" lang="es-MX" sz="3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s-MX" sz="3200" spc="-1" strike="noStrike">
                <a:solidFill>
                  <a:srgbClr val="a9d1db"/>
                </a:solidFill>
                <a:latin typeface="Helvetica Neue Light"/>
              </a:rPr>
              <a:t>hace billones de años,</a:t>
            </a:r>
            <a:r>
              <a:rPr b="0" lang="es-MX" sz="32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Helvetica Neue Light"/>
              </a:rPr>
              <a:t>todavía existe hoy.)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716292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Cubre la mayoría del planeta,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1" lang="es-MX" sz="2400" spc="-1" strike="noStrike">
                <a:solidFill>
                  <a:srgbClr val="99ccff"/>
                </a:solidFill>
                <a:latin typeface="Helvetica Neue Light"/>
              </a:rPr>
              <a:t>pero sólo el 3% es agua fresc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17440" y="7162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Y la mayor parte de ella es hielo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648320"/>
            <a:ext cx="44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(Menos del 1% de toda el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agua fresca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esta accesible para el consumo humano.)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1480" y="64008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Poniéndolo de otra manera..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5680" y="51814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ffffff"/>
                </a:solidFill>
                <a:latin typeface="Helvetica Neue Light"/>
              </a:rPr>
              <a:t>Menos del 0.007%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de toda el agua sobre la Tierra está disponible para tomar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6560" y="6629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¿LO SABÍAS TÚ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934320"/>
            <a:ext cx="1015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93432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Una cuarta parte de toda el agua limpia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que entra en tu casa..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5519880"/>
            <a:ext cx="101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ccff"/>
                </a:solidFill>
                <a:latin typeface="Helvetica Neue Light"/>
              </a:rPr>
              <a:t>(Sed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8080"/>
                </a:solidFill>
                <a:latin typeface="Helvetica Neue Light"/>
              </a:rPr>
              <a:t>(Verbo (intransitivo)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*Sentir una necesidad de beber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*Tener un deseo fuerte por alguna cosa)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89440" y="46483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...es utilizada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para operar sanitarios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9360" y="60958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Una operación del sanitario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utiliza 3 galones (11.355 Lts.)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9360" y="251460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Una carga sencilla de lavandería: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40 Galones / 151.4 Lt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89240" y="51055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ddddd"/>
                </a:solidFill>
                <a:latin typeface="Helvetica Neue Light"/>
              </a:rPr>
              <a:t>(Una ducha de 10 minutos: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Helvetica Neue Light"/>
              </a:rPr>
              <a:t>50 galones / 189.25 Lts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78168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Cepillarse con la llave abierta: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4 galones / 15.14 Lt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85800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Cepillarse con la llave cerrada: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0.25 galones/ 0.946 Lt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9360" y="6858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¿LO SABÍAS TÚ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78168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Una crisis de agua está desarrollándose.)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60640" y="48769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0" lang="es-MX" sz="3200" spc="-1" strike="noStrike">
                <a:solidFill>
                  <a:srgbClr val="006699"/>
                </a:solidFill>
                <a:latin typeface="Helvetica Neue Light"/>
              </a:rPr>
              <a:t>Nuestras fuentes de agua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Helvetica Neue Light"/>
              </a:rPr>
              <a:t>están bajo presión.)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4800600"/>
            <a:ext cx="80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En el siglo 20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la población mundial se triplicó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1911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El uso de agua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creció 6 vece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10552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Para mitad de siglo, habrán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3000 millones de personas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mas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105520"/>
            <a:ext cx="1015992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La mayoría nacerá en países que actualmente experimentan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carencias de agu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70572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¿Qué significará eso para el uso del agua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4038480"/>
            <a:ext cx="101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La cuenca de Los Ángeles puede soportar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un millón de personas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con su propia agu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558720" y="4343400"/>
            <a:ext cx="112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Para el año 2020, la población se estima que alcance los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22 millone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276720"/>
            <a:ext cx="101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El Paso y San Antonio pueden quedarse sin agua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de 10 a 20 año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78168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El centro de la Florida puede quedarse </a:t>
            </a:r>
            <a:r>
              <a:rPr b="1" lang="es-MX" sz="2400" spc="-1" strike="noStrike">
                <a:solidFill>
                  <a:srgbClr val="99ccff"/>
                </a:solidFill>
                <a:latin typeface="Helvetica Neue Light"/>
              </a:rPr>
              <a:t>sin agua en menos de 5.</a:t>
            </a: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0240" y="6553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Helvetica Neue Light"/>
              </a:rPr>
              <a:t>(¿LO SABÍASTÚ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172200"/>
            <a:ext cx="1015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Millones de personas en el mundo viven con menos de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3 galones / 11.355 Lts. cada día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1640" y="67816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¿LO SABÍAS TÚ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655308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El americano promedio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utiliza cerca de 160 galones / 605.6 Lt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0240" y="5029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ccff"/>
                </a:solidFill>
                <a:latin typeface="Helvetica Neue Light"/>
              </a:rPr>
              <a:t>25 millones de refugiados</a:t>
            </a: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 fueron reubicados por ríos contaminados el año pasado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934320"/>
            <a:ext cx="101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Eso es más de los que fueron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forzados a dejar las zonas en guerra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01992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1 en 3 gentes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carece de acceso a una sanidad adecuad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20040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1 en 5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no tiene acceso a un agua segura para tomar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1640" y="44956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De acuerdo a la O.N.U., un niño muere de una enfermedad relacionada con el agua </a:t>
            </a:r>
            <a:r>
              <a:rPr b="1" lang="es-MX" sz="2400" spc="-1" strike="noStrike">
                <a:solidFill>
                  <a:srgbClr val="00ccff"/>
                </a:solidFill>
                <a:latin typeface="Helvetica Neue Light"/>
              </a:rPr>
              <a:t>cada 15 segundos.</a:t>
            </a: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7010280"/>
            <a:ext cx="1015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95480"/>
            <a:ext cx="98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La escasez de agua emergente a nivel mundial es seri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797520"/>
            <a:ext cx="101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Se ha dicho, que vamos a quedarnos sin agua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antes de hacerlo con el petróleo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5410080"/>
            <a:ext cx="101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Debido a la sobre-explotación,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el agua del suelo en algunos países casi ha desaparecido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781680"/>
            <a:ext cx="101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Acuíferos agotados conducen a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 recortes en las cosechas de granos..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5680" y="594360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Todos nosotros somos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criaturas del agu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85800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...que llevan a más </a:t>
            </a:r>
            <a:r>
              <a:rPr b="1" lang="es-MX" sz="2400" spc="-1" strike="noStrike">
                <a:solidFill>
                  <a:srgbClr val="006699"/>
                </a:solidFill>
                <a:latin typeface="Helvetica Neue Light"/>
              </a:rPr>
              <a:t>recortes de comida y precios altos.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477120"/>
            <a:ext cx="101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China actualmente está teniendo un gran déficit de granos.)  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9360" y="624852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Cómo lo están India, Pakistán y Egipto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79360" y="6553080"/>
            <a:ext cx="96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Nuestro problema de agua está convirtiéndose en un rápido problema de hambruna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5680" y="502920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¿Y qué significa todo ello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03240" y="6705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Es un Mundo sediento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98680" y="65530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La Industria es sedienta..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65160" y="6705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La Agricultura es sedienta..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27280" y="6553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Nosotros somos sedientos..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5791320"/>
            <a:ext cx="86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¿Cuál será la paja que rompa el lomo del camello?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7440" y="6705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Helvetica Neue Light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Hace hasta: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55680" y="624852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Es tiempo de darle al agua una segunda consideración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603840" y="441972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Usa menos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Ahorra más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Cuida siempre.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89040" y="7162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AHORA LO SABES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65560" y="5486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Helvetica Neue Light"/>
              </a:rPr>
              <a:t>(SED)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8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50960" y="69343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Helvetica Neue Light"/>
              </a:rPr>
              <a:t>(60% de tu cuerpo)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98680" y="7086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Helvetica Neue Light"/>
              </a:rPr>
              <a:t>(70% de tu cerebro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70080" y="6705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Helvetica Neue Light"/>
              </a:rPr>
              <a:t>(80% de tu sangre)</a:t>
            </a:r>
            <a:endParaRPr b="0" lang="en-US" sz="24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 advTm="6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 </cp:lastModifiedBy>
  <dcterms:modified xsi:type="dcterms:W3CDTF">2009-07-16T18:48:33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8000000000001023620</vt:lpwstr>
  </property>
</Properties>
</file>