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Pl%C3%A1cido%20Domingo%20-%20Con%20Mariachi%20-%20La%20Malague%C3%B1a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4B7-FC4C-4332-AC33-8E3590BA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589-40FA-43EF-BFB0-CA89BA74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ECC-D8D4-4725-B41F-69851A41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160-1011-4B1F-9F5B-5FD2734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EC9-C3CD-4E85-9CE0-E7F7BFE6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76E-0280-47AA-8F0A-B8430D7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D8E-8721-4555-91E0-12D665D8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6C-6D25-4616-B6A4-1250A94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2CB-F0B6-4B1E-8984-97E77DB8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AC4-3FDD-482D-9098-3F54D39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FF5-E6C4-4551-BD39-EF2149C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1E6-60FC-48A0-9535-A1E945E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57F-F058-418F-AF08-4705201C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l&#225;cido%20Domingo%20-%20Con%20Mariachi%20-%20La%20Malague&#241;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Rectángulo"/>
          <p:cNvSpPr/>
          <p:nvPr/>
        </p:nvSpPr>
        <p:spPr>
          <a:xfrm>
            <a:off x="214200" y="190512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Perpetua Titling MT"/>
              </a:rPr>
              <a:t>aSPACO TE INVITA A VER…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453360"/>
            <a:ext cx="82803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NO USES EL RATON Y CONECTA LOS ALTAVOCES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  <p:sndAc>
      <p:stSnd>
        <p:snd r:embed="rId1" name="Pl%C3%A1cido%20Domingo%20-%20Con%20Mariachi%20-%20La%20Malague%C3%B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ar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27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2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436680" y="142920"/>
            <a:ext cx="74181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  </a:t>
            </a: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MÁLAG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Perpetua Titling MT"/>
                <a:ea typeface="MS Hei"/>
              </a:rPr>
              <a:t>IMÁGEN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42920" y="6453360"/>
            <a:ext cx="9001080" cy="40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99ff"/>
                </a:solidFill>
                <a:latin typeface="Perpetua Titling MT"/>
              </a:rPr>
              <a:t>¡Conecta los altavoces!  </a:t>
            </a:r>
            <a:r>
              <a:rPr b="1" lang="es-ES" sz="1600" spc="-1" strike="noStrike">
                <a:solidFill>
                  <a:srgbClr val="ff0000"/>
                </a:solidFill>
                <a:latin typeface="Verdana"/>
              </a:rPr>
              <a:t>Plácido Domingo  canta Malagueña</a:t>
            </a:r>
            <a:r>
              <a:rPr b="1" lang="es-ES" sz="1600" spc="-1" strike="noStrike">
                <a:solidFill>
                  <a:srgbClr val="ff0000"/>
                </a:solidFill>
                <a:latin typeface="Perpetua Titling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11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004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Rectángulo"/>
          <p:cNvSpPr/>
          <p:nvPr/>
        </p:nvSpPr>
        <p:spPr>
          <a:xfrm>
            <a:off x="1071720" y="6429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Arial"/>
                <a:ea typeface="Arial"/>
              </a:rPr>
              <a:t>Hoy es </a:t>
            </a:r>
            <a:fld id="{CF0A1252-20B5-477B-AF4C-E8264ECF9229}" type="datetime2">
              <a:rPr b="1" lang="es-ES" sz="2400" spc="-1" strike="noStrike">
                <a:solidFill>
                  <a:srgbClr val="0070c0"/>
                </a:solidFill>
                <a:latin typeface="Arial"/>
                <a:ea typeface="Arial"/>
              </a:rPr>
              <a:t>miércoles, 29 de juli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2 Rectángulo"/>
          <p:cNvSpPr/>
          <p:nvPr/>
        </p:nvSpPr>
        <p:spPr>
          <a:xfrm>
            <a:off x="2643120" y="12859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las </a:t>
            </a:r>
            <a:fld id="{EB12920C-8B0F-4A2B-A275-41291D72008B}" type="datetime10"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7:18</a:t>
            </a:fld>
            <a:r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615960" y="2494080"/>
            <a:ext cx="7461360" cy="1358640"/>
          </a:xfrm>
          <a:prstGeom prst="rect">
            <a:avLst/>
          </a:prstGeom>
          <a:ln w="0">
            <a:noFill/>
          </a:ln>
        </p:spPr>
      </p:pic>
      <p:pic>
        <p:nvPicPr>
          <p:cNvPr id="91" name="4 Rectángulo" descr=""/>
          <p:cNvPicPr/>
          <p:nvPr/>
        </p:nvPicPr>
        <p:blipFill>
          <a:blip r:embed="rId2"/>
          <a:stretch/>
        </p:blipFill>
        <p:spPr>
          <a:xfrm>
            <a:off x="3803760" y="3767040"/>
            <a:ext cx="1603440" cy="106704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03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11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f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y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7164360" y="5950080"/>
            <a:ext cx="161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9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3:54:04Z</dcterms:created>
  <dc:creator>EL LOLO</dc:creator>
  <dc:description/>
  <dc:language>en-US</dc:language>
  <cp:lastModifiedBy>EL LOLO</cp:lastModifiedBy>
  <dcterms:modified xsi:type="dcterms:W3CDTF">2009-07-29T13:59:11Z</dcterms:modified>
  <cp:revision>1</cp:revision>
  <dc:subject>www.laboutiquedelpowerpoint.com</dc:subject>
  <dc:title>Diapositiva 1</dc:title>
</cp:coreProperties>
</file>