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Pl%C3%A1cido%20Domingo%20-%20Con%20Mariachi%20-%20La%20Malague%C3%B1a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CE6-96D2-45F4-96F6-C0D51C8B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DC7-637A-4A91-A601-F6BA43F9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E71-CC00-4448-BE41-6B605EDD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D57-9335-45C4-B377-5273EAD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D2E-9518-4CB6-A79F-8812B9D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501-788B-4FA7-8CBA-5A027955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54E-71D0-4736-BB8C-C6C81FB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71D-D966-4046-B76E-D136900C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05C-3CB3-401A-B320-683856B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2FD-C18B-4666-9708-8D8094A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8BE-3801-48D0-B90C-3E7D97C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E11-8AF5-44F3-98D6-9DDD5EA6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BE94-2271-4E36-821E-E0C8E5BF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l&#225;cido%20Domingo%20-%20Con%20Mariachi%20-%20La%20Malague&#241;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Rectángulo"/>
          <p:cNvSpPr/>
          <p:nvPr/>
        </p:nvSpPr>
        <p:spPr>
          <a:xfrm>
            <a:off x="214200" y="190512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Perpetua Titling MT"/>
              </a:rPr>
              <a:t>aSPACO TE INVITA A VER…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453360"/>
            <a:ext cx="82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NO USES EL RATON Y CONECTA LOS ALTAVOCES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  <p:sndAc>
      <p:stSnd>
        <p:snd r:embed="rId1" name="Pl%C3%A1cido%20Domingo%20-%20Con%20Mariachi%20-%20La%20Malague%C3%B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a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27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2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436680" y="142920"/>
            <a:ext cx="74181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  </a:t>
            </a: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MÁLAG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IMÁGEN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42920" y="6453360"/>
            <a:ext cx="9001080" cy="40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99ff"/>
                </a:solidFill>
                <a:latin typeface="Perpetua Titling MT"/>
              </a:rPr>
              <a:t>¡Conecta los altavoces!  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</a:rPr>
              <a:t>Plácido Domingo  canta Malagueña</a:t>
            </a:r>
            <a:r>
              <a:rPr b="1" lang="es-ES" sz="1600" spc="-1" strike="noStrike">
                <a:solidFill>
                  <a:srgbClr val="ff0000"/>
                </a:solidFill>
                <a:latin typeface="Perpetua Titling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004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Rectángulo"/>
          <p:cNvSpPr/>
          <p:nvPr/>
        </p:nvSpPr>
        <p:spPr>
          <a:xfrm>
            <a:off x="1071720" y="6429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Arial"/>
                <a:ea typeface="Arial"/>
              </a:rPr>
              <a:t>Hoy es </a:t>
            </a:r>
            <a:fld id="{C62692B8-A9CD-44DE-822B-1609A5D7499C}" type="datetime2">
              <a:rPr b="1" lang="es-ES" sz="2400" spc="-1" strike="noStrike">
                <a:solidFill>
                  <a:srgbClr val="0070c0"/>
                </a:solidFill>
                <a:latin typeface="Arial"/>
                <a:ea typeface="Arial"/>
              </a:rPr>
              <a:t>viernes, 31 de julio de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2 Rectángulo"/>
          <p:cNvSpPr/>
          <p:nvPr/>
        </p:nvSpPr>
        <p:spPr>
          <a:xfrm>
            <a:off x="2643120" y="12859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las </a:t>
            </a:r>
            <a:fld id="{41279F6A-CBD0-45F0-A205-689E1141F2D0}" type="datetime10"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:43</a:t>
            </a:fld>
            <a:r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 Rectángulo" descr=""/>
          <p:cNvPicPr/>
          <p:nvPr/>
        </p:nvPicPr>
        <p:blipFill>
          <a:blip r:embed="rId1"/>
          <a:stretch/>
        </p:blipFill>
        <p:spPr>
          <a:xfrm>
            <a:off x="615960" y="2494080"/>
            <a:ext cx="7461360" cy="1358640"/>
          </a:xfrm>
          <a:prstGeom prst="rect">
            <a:avLst/>
          </a:prstGeom>
          <a:ln w="0">
            <a:noFill/>
          </a:ln>
        </p:spPr>
      </p:pic>
      <p:pic>
        <p:nvPicPr>
          <p:cNvPr id="91" name="4 Rectángulo" descr=""/>
          <p:cNvPicPr/>
          <p:nvPr/>
        </p:nvPicPr>
        <p:blipFill>
          <a:blip r:embed="rId2"/>
          <a:stretch/>
        </p:blipFill>
        <p:spPr>
          <a:xfrm>
            <a:off x="3803760" y="3767040"/>
            <a:ext cx="1603440" cy="10670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mb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03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11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f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y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3:54:04Z</dcterms:created>
  <dc:creator>EL LOLO</dc:creator>
  <dc:description/>
  <dc:language>en-US</dc:language>
  <cp:lastModifiedBy>EL LOLO</cp:lastModifiedBy>
  <dcterms:modified xsi:type="dcterms:W3CDTF">2009-07-29T13:59:11Z</dcterms:modified>
  <cp:revision>1</cp:revision>
  <dc:subject>www.laboutiquedelpowerpoint.com</dc:subject>
  <dc:title>Diapositiva 1</dc:title>
</cp:coreProperties>
</file>