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15.png" ContentType="image/png"/>
  <Override PartName="/ppt/media/AH%C3%8D%20TIENES%20A%20TU%20MADRE%20-%20HERMANA%20GLENDA.wav" ContentType="audio/x-wav"/>
  <Override PartName="/ppt/media/image9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48A8-B1C0-4F41-A845-D1B2D410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69A-55D5-4541-A345-6C20560E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4DDC-32F9-48DC-A49E-B89B57E9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E57-4516-4A05-8EB2-2974247F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C7B-299C-4AE8-9128-21537489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EA8-0DA4-43BC-B878-42F41DC9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406-FDFF-4E02-80A5-2F254D85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125-3BB4-412C-A603-C2B39A62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4D39-84D4-4686-B356-F93FEB73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7398-1481-4EBD-9185-5A03111B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609-8C07-4345-B64D-036F71F1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92A-CD98-442D-8199-9EC8E168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8881-2B40-4F3E-8DF1-668CC55C9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4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5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13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14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1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16.jpeg"/><Relationship Id="rId14" Type="http://schemas.openxmlformats.org/officeDocument/2006/relationships/hyperlink" Target="http://www.autorescatolicos.org/irmabarocioesquivel.htm" TargetMode="External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4.jpeg"/><Relationship Id="rId14" Type="http://schemas.openxmlformats.org/officeDocument/2006/relationships/audio" Target="../media/AH&#205;%20TIENES%20A%20TU%20MADRE%20-%20HERMANA%20GLENDA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6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7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8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5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10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11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12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755640" y="692280"/>
            <a:ext cx="2136960" cy="30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39640" y="4292640"/>
            <a:ext cx="583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hí tienes a tu Madr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5877000"/>
            <a:ext cx="43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8ea9"/>
                </a:solidFill>
                <a:latin typeface="Arial"/>
              </a:rPr>
              <a:t>Cambio de diapositivas automático. Solamente enciende tus boci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Ahí tienes a tu M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3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4"/>
          <a:stretch/>
        </p:blipFill>
        <p:spPr>
          <a:xfrm>
            <a:off x="1187280" y="1700280"/>
            <a:ext cx="1495440" cy="3047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95640" y="1720800"/>
            <a:ext cx="4175280" cy="14655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77777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777777"/>
                </a:solidFill>
                <a:latin typeface="Arial"/>
              </a:rPr>
              <a:t>Responded a mi pedido: Rezad el Santo Rosario. ¡Sea esta una amorosa respuesta  a la madr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estas viviendo  fuerte la hora del dolor, ahí tienes a tu M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3"/>
          <a:stretch/>
        </p:blipFill>
        <p:spPr>
          <a:xfrm>
            <a:off x="826920" y="2492280"/>
            <a:ext cx="5351760" cy="3544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estas padeciendo alguna  enfermedad, ahí tienes a tu M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3"/>
          <a:stretch/>
        </p:blipFill>
        <p:spPr>
          <a:xfrm>
            <a:off x="1476360" y="1604880"/>
            <a:ext cx="7199280" cy="4799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te encuentras sumido en desesperación, ahí tienes a tu madre, ahí tienes a tu M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3"/>
          <a:stretch/>
        </p:blipFill>
        <p:spPr>
          <a:xfrm>
            <a:off x="2050920" y="1965240"/>
            <a:ext cx="6626520" cy="44211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4680" y="1628640"/>
            <a:ext cx="3416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2b2b2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b2b2b2"/>
                </a:solidFill>
                <a:latin typeface="Arial"/>
              </a:rPr>
              <a:t>¿No estoy yo aquí, que soy tu Madr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8ea9"/>
                </a:solidFill>
                <a:latin typeface="Arial"/>
              </a:rPr>
              <a:t>     </a:t>
            </a:r>
            <a:r>
              <a:rPr b="0" lang="es-ES" sz="1600" spc="-1" strike="noStrike">
                <a:solidFill>
                  <a:srgbClr val="cc8ea9"/>
                </a:solidFill>
                <a:latin typeface="Arial"/>
              </a:rPr>
              <a:t>Palabras de la Santísima Virgen de Guadalupe al Beato Juan Diego en el Tepeyac, Diciembre de 153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3"/>
          <a:stretch/>
        </p:blipFill>
        <p:spPr>
          <a:xfrm>
            <a:off x="700200" y="765000"/>
            <a:ext cx="3584520" cy="52660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371600" y="4844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55920" y="5877000"/>
            <a:ext cx="460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érprete y compositor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mana Gle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MI FIRMA copy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724360" y="4221000"/>
            <a:ext cx="2592720" cy="13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2b2b2"/>
                </a:solidFill>
                <a:latin typeface="Arial"/>
              </a:rPr>
              <a:t>     “</a:t>
            </a:r>
            <a:r>
              <a:rPr b="0" lang="es-ES" sz="2800" spc="-1" strike="noStrike">
                <a:solidFill>
                  <a:srgbClr val="b2b2b2"/>
                </a:solidFill>
                <a:latin typeface="Arial"/>
              </a:rPr>
              <a:t>Jesús viendo su Madre y a su lado al discípulo amado,  dice a su Madre: Mujer, ahí tienes a tu hijo. Después le dice al discípulo ahí, ahí  tienes a tu Mad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2b2b2"/>
                </a:solidFill>
                <a:latin typeface="Arial"/>
              </a:rPr>
              <a:t>(Juan 19, 26-2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3"/>
          <a:stretch/>
        </p:blipFill>
        <p:spPr>
          <a:xfrm>
            <a:off x="3276720" y="2708280"/>
            <a:ext cx="2465280" cy="348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69228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se acaba el vino en tu vida hoy, ahí tienes a tu Mad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2627280" y="1700280"/>
            <a:ext cx="3422520" cy="4537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solo hay tinajas pero no hay amor, ahí tienes a tu M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755640" y="1700280"/>
            <a:ext cx="5173560" cy="3902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estás buscando acercarte a Dios, ahí tienes a tu Madre, ahí tienes a tu M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755640" y="1916280"/>
            <a:ext cx="5618160" cy="4213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Ahí  tienes a tu Mad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71640" y="3348000"/>
            <a:ext cx="4392360" cy="256284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777777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777777"/>
                </a:solidFill>
                <a:latin typeface="Arial"/>
              </a:rPr>
              <a:t>Hijos míos: Deseo que hagáis una verdadera corona de rosarios. El Santo Rosario es el arma a la cual le teme el enemigo; es también el refugio de los que buscan alivio a sus pesares y es la puerta para entrar en mi corazó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4"/>
          <a:stretch/>
        </p:blipFill>
        <p:spPr>
          <a:xfrm>
            <a:off x="4716360" y="1413000"/>
            <a:ext cx="149544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5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no sabes cómo hacer una oración, ahí tienes a tu Mad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3"/>
          <a:stretch/>
        </p:blipFill>
        <p:spPr>
          <a:xfrm>
            <a:off x="3564000" y="285264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la cruz te pesa para caminar, ahí tienes a tu M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3"/>
          <a:stretch/>
        </p:blipFill>
        <p:spPr>
          <a:xfrm>
            <a:off x="684360" y="2133720"/>
            <a:ext cx="5257800" cy="3940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no hay pentecostés en tu corazón, ahí tienes a tu Madre, ahí tienes a tu M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3"/>
          <a:stretch/>
        </p:blipFill>
        <p:spPr>
          <a:xfrm>
            <a:off x="755640" y="1989000"/>
            <a:ext cx="3287880" cy="410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4:21:52Z</dcterms:created>
  <dc:creator>Irma Barocio Esquivel</dc:creator>
  <dc:description/>
  <dc:language>en-US</dc:language>
  <cp:lastModifiedBy>Irma Barocio Esquivel</cp:lastModifiedBy>
  <dcterms:modified xsi:type="dcterms:W3CDTF">2008-04-04T16:44:22Z</dcterms:modified>
  <cp:revision>60</cp:revision>
  <dc:subject/>
  <dc:title>Diapositiva 1</dc:title>
</cp:coreProperties>
</file>