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5.png" ContentType="image/png"/>
  <Override PartName="/ppt/media/AH%C3%8D%20TIENES%20A%20TU%20MADRE%20-%20HERMANA%20GLENDA.wav" ContentType="audio/x-wav"/>
  <Override PartName="/ppt/media/image9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92F-7B56-4EA8-811D-B2E96C6D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AA6-8BEF-4B44-A444-9E76AF28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868-FFFB-4DD2-BF3A-F3C1FFEB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CDE-3787-4028-86B3-1BA85F22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B46-8C28-4778-988B-71D91E1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312-C38D-45F9-B37C-19CE289C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863-7A1A-419C-9F3A-C0C5D9C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2E3-DF54-45CB-9285-EC34EC2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B87-0086-45EF-9C69-2B4ED806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55E-99A4-405B-B10E-6260CFD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B36-3EFE-4B24-B0F0-8747E3E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248-B85E-4B5A-832A-957131E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1FD7-DFEB-4184-AF3A-30416B57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4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3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4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6.jpeg"/><Relationship Id="rId14" Type="http://schemas.openxmlformats.org/officeDocument/2006/relationships/hyperlink" Target="http://www.autorescatolicos.org/irmabarocioesquivel.htm" TargetMode="External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4.jpeg"/><Relationship Id="rId14" Type="http://schemas.openxmlformats.org/officeDocument/2006/relationships/audio" Target="../media/AH&#205;%20TIENES%20A%20TU%20MADRE%20-%20HERMANA%20GLENDA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6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7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8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0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1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image" Target="../media/image3.gif"/><Relationship Id="rId11" Type="http://schemas.openxmlformats.org/officeDocument/2006/relationships/image" Target="../media/image2.jpeg"/><Relationship Id="rId12" Type="http://schemas.openxmlformats.org/officeDocument/2006/relationships/image" Target="../media/image3.gif"/><Relationship Id="rId13" Type="http://schemas.openxmlformats.org/officeDocument/2006/relationships/image" Target="../media/image12.jpe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755640" y="692280"/>
            <a:ext cx="213696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9640" y="4292640"/>
            <a:ext cx="583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hí tienes a tu Mad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5877000"/>
            <a:ext cx="43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8ea9"/>
                </a:solidFill>
                <a:latin typeface="Arial"/>
              </a:rPr>
              <a:t>Cambio de diapositivas automático. Solamente enciende tus boci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1187280" y="1700280"/>
            <a:ext cx="1495440" cy="3047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5640" y="1720800"/>
            <a:ext cx="4175280" cy="14655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Responded a mi pedido: Rezad el Santo Rosario. ¡Sea esta una amorosa respuesta  a la madr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estas viviendo  fuerte la hora del dolor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826920" y="2492280"/>
            <a:ext cx="5351760" cy="3544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estas padeciendo alguna  enfermedad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1476360" y="1604880"/>
            <a:ext cx="7199280" cy="4799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te encuentras sumido en desesperación, ahí tienes a tu madre, ahí tienes a tu 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2050920" y="1965240"/>
            <a:ext cx="6626520" cy="4421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4680" y="1628640"/>
            <a:ext cx="3416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¿No estoy yo aquí, que soy tu Mad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8ea9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cc8ea9"/>
                </a:solidFill>
                <a:latin typeface="Arial"/>
              </a:rPr>
              <a:t>Palabras de la Santísima Virgen de Guadalupe al Beato Juan Diego en el Tepeyac, Diciembre de 153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3"/>
          <a:stretch/>
        </p:blipFill>
        <p:spPr>
          <a:xfrm>
            <a:off x="700200" y="765000"/>
            <a:ext cx="3584520" cy="5266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371600" y="4844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55920" y="5877000"/>
            <a:ext cx="460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érprete y compositor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mana Gl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MI FIRMA cop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24360" y="4221000"/>
            <a:ext cx="259272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     “</a:t>
            </a:r>
            <a:r>
              <a:rPr b="0" lang="es-ES" sz="2800" spc="-1" strike="noStrike">
                <a:solidFill>
                  <a:srgbClr val="b2b2b2"/>
                </a:solidFill>
                <a:latin typeface="Arial"/>
              </a:rPr>
              <a:t>Jesús viendo su Madre y a su lado al discípulo amado,  dice a su Madre: Mujer, ahí tienes a tu hijo. Después le dice al discípulo ahí, ahí  tienes a tu Mad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2b2b2"/>
                </a:solidFill>
                <a:latin typeface="Arial"/>
              </a:rPr>
              <a:t>(Juan 19, 26-2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3276720" y="2708280"/>
            <a:ext cx="2465280" cy="34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69228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se acaba el vino en tu vida hoy, ahí tienes a tu M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627280" y="1700280"/>
            <a:ext cx="3422520" cy="4537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solo hay tinajas pero no hay amor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755640" y="1700280"/>
            <a:ext cx="5173560" cy="390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estás buscando acercarte a Dios, ahí tienes a tu Madre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755640" y="1916280"/>
            <a:ext cx="5618160" cy="4213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hí  tienes a tu M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71640" y="3348000"/>
            <a:ext cx="4392360" cy="256284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Hijos míos: Deseo que hagáis una verdadera corona de rosarios. El Santo Rosario es el arma a la cual le teme el enemigo; es también el refugio de los que buscan alivio a sus pesares y es la puerta para entrar en mi coraz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4716360" y="1413000"/>
            <a:ext cx="14954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no sabes cómo hacer una oración, ahí tienes a tu M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3564000" y="2852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la cruz te pesa para caminar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684360" y="2133720"/>
            <a:ext cx="5257800" cy="3940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d5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645336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71236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71236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0" y="206208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 rot="16200000">
            <a:off x="-2182680" y="3357360"/>
            <a:ext cx="4810320" cy="228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416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778040" y="652464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395280" y="0"/>
            <a:ext cx="8353440" cy="431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1778040" y="104760"/>
            <a:ext cx="4809960" cy="22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8712360" y="-27000"/>
            <a:ext cx="431640" cy="2735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 rot="16200000">
            <a:off x="6516720" y="3342960"/>
            <a:ext cx="4809960" cy="228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71236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04640"/>
            <a:ext cx="9144000" cy="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0"/>
            <a:ext cx="3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i no hay pentecostés en tu corazón, ahí tienes a tu Madre, ahí tienes a tu M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3"/>
          <a:stretch/>
        </p:blipFill>
        <p:spPr>
          <a:xfrm>
            <a:off x="755640" y="1989000"/>
            <a:ext cx="3287880" cy="410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4"/>
          <a:stretch/>
        </p:blipFill>
        <p:spPr>
          <a:xfrm>
            <a:off x="6516720" y="3500280"/>
            <a:ext cx="2187720" cy="29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4:21:52Z</dcterms:created>
  <dc:creator>Irma Barocio Esquivel</dc:creator>
  <dc:description/>
  <dc:language>en-US</dc:language>
  <cp:lastModifiedBy>Irma Barocio Esquivel</cp:lastModifiedBy>
  <dcterms:modified xsi:type="dcterms:W3CDTF">2008-04-04T16:44:22Z</dcterms:modified>
  <cp:revision>60</cp:revision>
  <dc:subject/>
  <dc:title>Diapositiva 1</dc:title>
</cp:coreProperties>
</file>