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Terapia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ny-Powerpoints.net Down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195E-7E8C-4E71-AE5C-9B2C095D9A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5B2-F7D4-46B7-9611-9AB8B40D8B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07D-14AC-4FF4-9372-C56DE11F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395-F852-4D97-AFD7-A5CCC8D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BEA-BB97-4D22-9A53-839F6612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EA8-6923-4AA2-B400-F18FBBE7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FE0-D700-4E3B-8908-CA371AF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A9B-91CA-40B2-A2AB-3F6E5C9A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5AA-24E8-4EE5-9C46-C99DA931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44F-9F50-442A-BD6B-C1A7925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FBF-C98C-482A-BF9B-0BA53D6B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145-0045-421B-889C-E94D212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7AF-70F8-4D28-B782-9B2639F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18C-0D3C-4014-BE0F-55F1F50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504-4A22-4774-9A69-65EE5B9A8D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0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WordArt 8"/>
          <p:cNvSpPr txBox="1"/>
          <p:nvPr/>
        </p:nvSpPr>
        <p:spPr>
          <a:xfrm>
            <a:off x="7524720" y="5734080"/>
            <a:ext cx="125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K PP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erapi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7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Psicología Aplic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onsulta"/>
          <p:cNvPicPr/>
          <p:nvPr/>
        </p:nvPicPr>
        <p:blipFill>
          <a:blip r:embed="rId3"/>
          <a:stretch/>
        </p:blipFill>
        <p:spPr>
          <a:xfrm>
            <a:off x="684360" y="1197000"/>
            <a:ext cx="7775280" cy="453708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285840" y="6286680"/>
            <a:ext cx="3500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zoom dir="out"/>
    <p:sndAc>
      <p:stSnd>
        <p:snd r:embed="rId4" name="Terapi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7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34964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8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975240" y="289080"/>
            <a:ext cx="724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na mujer llegó a su casa y le dijo al marido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¿Te acuerdas de esas jaquecas que me daban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que íbamos a hacer el amor? ¡¡¡Ya me curé!!!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- Como, ¿ya no tienes más dolor de cabeza?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esposa le respondió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Mi amiga Juani me indicó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erapeuta que me hipnotiz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médico me pidió que me pusiese frente a un espejo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repitiera para mí mis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971640" y="3573360"/>
            <a:ext cx="67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'No tengo más dolor de cabeza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.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tengo más dolor de cabeza.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102200" y="1052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-56880" y="1052640"/>
            <a:ext cx="930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Bueno hice eso y mi dolor de cabeza desapareci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arido todo maravillado le respondió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¡¡¡Que maravilla!!! ¡¡Esto es fabuloso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esposa aprovechó la oportunidad y le dij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Mira cariño, como últimamente no tienes muc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interés en tener sex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Por qué no visitas a este médico?, tal vez te pue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urar, y que tengas ganas nuevamente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arido le hizo caso y pidió una hora donde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édico fabul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8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32760" y="333360"/>
            <a:ext cx="71438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spués de unos días de 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legó a casa como un vendaval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omenzó a quitarse la ropa y arrastr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a su mujer a la habi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acostó en la cama y le dij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- No te muevas mi amor, ya vuelvo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ue al baño y cuando volvió a la alco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altó sobre la cama y le hizo el am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 una forma tan ardiente,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unca antes lo había hecho con el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esposa toda asombrada le dij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- ¡¡Ay cariño, fue maravilloso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1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nuevamente le dijo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 ¡No te muevas que ya vuelvo!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ue al baño, y la segunda vez fue mejor que la primera. La mujer no quería más, estaba en éxtasis con esa maravillos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xperiencia.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394160" y="1268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43120" y="692280"/>
            <a:ext cx="7313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le dijo nuevamente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 ¡No te muevas, ya vuelvo!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ue al baño, pero esta vez la muj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lo siguió sin que él se diera cuenta.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l marido estaba frente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spejo y repetía para sí mismo: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-No es mi muje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o es mi muje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o es mi mujer... No es mi mujer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0c99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Rectángulo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ota</a:t>
            </a: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: Los funerales del marido serán mañana a las 10.00 en la capilla del Cementerio Municipal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El médico de la fabulosa terapia continúa en estado grave en la unidad de cuidados intensivos con fractura de cráneo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1:48:39Z</dcterms:created>
  <dc:creator>JK Pps</dc:creator>
  <dc:description>JK Pps.</dc:description>
  <dc:language>en-US</dc:language>
  <cp:lastModifiedBy>LUIS_SAUL</cp:lastModifiedBy>
  <dcterms:modified xsi:type="dcterms:W3CDTF">2008-10-13T10:25:28Z</dcterms:modified>
  <cp:revision>17</cp:revision>
  <dc:subject/>
  <dc:title>www.laboutiquedelpowerpoint.com</dc:title>
</cp:coreProperties>
</file>