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Terapia.wav" ContentType="audio/x-wav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unny-Powerpoints.net Down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6A85-3A61-46B4-B026-C6140C8CA71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1ED4-2BB0-4CAF-8D40-AE2C1CEF088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49C6-AEB3-4DA8-B88B-6FDE4914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174-1BE9-4EC7-AC30-B9816A54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78AA-0524-4C88-B3E7-83A2A89A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8FA9-EECB-47AD-8BC8-6B7766A7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D07-D782-412A-AF86-5F06CE4F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311-598F-4AF6-848A-310B38FE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02A-5EAB-4955-8792-2587220E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D711-F6F0-40F7-AC66-5FFED6BE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30B-B40A-40EB-B421-0CEA6024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D03-11C3-4AAD-B26C-22EE6CBF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492E-A8AF-4F93-856E-2352B65C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0FF-4C2E-4713-8F8C-B46FFE2D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0F1A-72B9-49B5-9D12-D66BAD3170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0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WordArt 8"/>
          <p:cNvSpPr txBox="1"/>
          <p:nvPr/>
        </p:nvSpPr>
        <p:spPr>
          <a:xfrm>
            <a:off x="7524720" y="5734080"/>
            <a:ext cx="1257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K PPS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Terapi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7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Psicología Aplic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onsulta"/>
          <p:cNvPicPr/>
          <p:nvPr/>
        </p:nvPicPr>
        <p:blipFill>
          <a:blip r:embed="rId3"/>
          <a:stretch/>
        </p:blipFill>
        <p:spPr>
          <a:xfrm>
            <a:off x="684360" y="1197000"/>
            <a:ext cx="7775280" cy="4537080"/>
          </a:xfrm>
          <a:prstGeom prst="rect">
            <a:avLst/>
          </a:prstGeom>
          <a:ln w="0">
            <a:noFill/>
          </a:ln>
        </p:spPr>
      </p:pic>
      <p:sp>
        <p:nvSpPr>
          <p:cNvPr id="54" name="9 Rectángulo"/>
          <p:cNvSpPr/>
          <p:nvPr/>
        </p:nvSpPr>
        <p:spPr>
          <a:xfrm>
            <a:off x="285840" y="6286680"/>
            <a:ext cx="35002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zoom dir="out"/>
    <p:sndAc>
      <p:stSnd>
        <p:snd r:embed="rId4" name="Terapi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7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c99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349640"/>
            <a:ext cx="77724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8 Rectángulo"/>
          <p:cNvSpPr/>
          <p:nvPr/>
        </p:nvSpPr>
        <p:spPr>
          <a:xfrm>
            <a:off x="0" y="0"/>
            <a:ext cx="9296280" cy="701028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975240" y="289080"/>
            <a:ext cx="7247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Una mujer llegó a su casa y le dijo al marido: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¿Te acuerdas de esas jaquecas que me daban cada ve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que íbamos a hacer el amor? ¡¡¡Ya me curé!!!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- Como, ¿ya no tienes más dolor de cabeza?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a esposa le respondió: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Mi amiga Juani me indicó 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terapeuta que me hipnotizó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 médico me pidió que me pusiese frente a un espejo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repitiera para mí mis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971640" y="3573360"/>
            <a:ext cx="67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'No tengo más dolor de cabeza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tengo más dolor de cabeza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tengo más dolor de cabeza..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tengo más dolor de cabeza.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2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c99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102200" y="10526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7 Rectángulo"/>
          <p:cNvSpPr/>
          <p:nvPr/>
        </p:nvSpPr>
        <p:spPr>
          <a:xfrm>
            <a:off x="0" y="0"/>
            <a:ext cx="9296280" cy="701028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-56880" y="1052640"/>
            <a:ext cx="930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Bueno hice eso y mi dolor de cabeza desaparec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l marido todo maravillado le respondió: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- ¡¡¡Que maravilla!!! ¡¡Esto es fabuloso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La esposa aprovechó la oportunidad y le dijo: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- Mira cariño, como últimamente no tienes much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interés en tener sex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¿Por qué no visitas a este médico?, tal vez te pue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curar, y que tengas ganas nuevamente.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l marido le hizo caso y pidió una hora donde 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médico fabulo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c99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7 Rectángulo"/>
          <p:cNvSpPr/>
          <p:nvPr/>
        </p:nvSpPr>
        <p:spPr>
          <a:xfrm>
            <a:off x="0" y="0"/>
            <a:ext cx="9296280" cy="701028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932760" y="333360"/>
            <a:ext cx="71438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espués de unos días de tera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Llegó a casa como un vendaval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Comenzó a quitarse la ropa y arrastr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a su mujer a la habit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La acostó en la cama y le dijo: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- No te muevas mi amor, ya vuelvo.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Fue al baño y cuando volvió a la alcob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altó sobre la cama y le hizo el am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e una forma tan ardiente,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nunca antes lo había hecho con ell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La esposa toda asombrada le dijo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- ¡¡Ay cariño, fue maravilloso!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1000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c99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7 Rectángulo"/>
          <p:cNvSpPr/>
          <p:nvPr/>
        </p:nvSpPr>
        <p:spPr>
          <a:xfrm>
            <a:off x="0" y="0"/>
            <a:ext cx="9296280" cy="701028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l marido nuevamente le dijo: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- ¡No te muevas que ya vuelvo!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Fue al baño, y la segunda vez fue mejor que la primera. La mujer no quería más, estaba en éxtasis con esa maravillosa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xperiencia.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c99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394160" y="12682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7 Rectángulo"/>
          <p:cNvSpPr/>
          <p:nvPr/>
        </p:nvSpPr>
        <p:spPr>
          <a:xfrm>
            <a:off x="0" y="0"/>
            <a:ext cx="9296280" cy="701028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843120" y="692280"/>
            <a:ext cx="7313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l marido le dijo nuevamente: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- ¡No te muevas, ya vuelvo!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Fue al baño, pero esta vez la muj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lo siguió sin que él se diera cuenta.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l marido estaba frente 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spejo y repetía para sí mismo: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-No es mi mujer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No es mi mujer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No es mi mujer... No es mi mujer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c99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7 Rectángulo"/>
          <p:cNvSpPr/>
          <p:nvPr/>
        </p:nvSpPr>
        <p:spPr>
          <a:xfrm>
            <a:off x="0" y="0"/>
            <a:ext cx="9296280" cy="701028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Nota</a:t>
            </a: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: Los funerales del marido serán mañana a las 10.00 en la capilla del Cementerio Municipal.</a:t>
            </a:r>
            <a:br>
              <a:rPr sz="2800"/>
            </a:br>
            <a:br>
              <a:rPr sz="2800"/>
            </a:b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El médico de la fabulosa terapia continúa en estado grave en la unidad de cuidados intensivos con fractura de cráneo.</a:t>
            </a:r>
            <a:br>
              <a:rPr sz="2800"/>
            </a:br>
            <a:br>
              <a:rPr sz="2800"/>
            </a:b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2T11:48:39Z</dcterms:created>
  <dc:creator>JK Pps</dc:creator>
  <dc:description>JK Pps.</dc:description>
  <dc:language>en-US</dc:language>
  <cp:lastModifiedBy>LUIS_SAUL</cp:lastModifiedBy>
  <dcterms:modified xsi:type="dcterms:W3CDTF">2008-10-13T10:25:28Z</dcterms:modified>
  <cp:revision>17</cp:revision>
  <dc:subject/>
  <dc:title>www.laboutiquedelpowerpoint.com</dc:title>
</cp:coreProperties>
</file>