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5.jpeg" ContentType="image/jpeg"/>
  <Override PartName="/ppt/media/Ernesto%20Cortazar%20-%20Lives%20Of%20Innocence.wav" ContentType="audio/x-wav"/>
  <Override PartName="/ppt/media/image28.jpeg" ContentType="image/jpeg"/>
  <Override PartName="/ppt/media/image5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578-B509-4085-96C3-E64C60F2FB8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658-55C5-4C64-9CC3-484175B04A5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11F-79BF-49C6-A240-5BD0863442B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B49-71D5-4D85-921D-AD409B54BDE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908-EC74-470F-BEB7-E6961A6CFA4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656-F7A0-4852-825C-593DB20CD16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B95-C528-40CD-98C9-4B53E413471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B0F-0C71-4ABC-B218-FD092412735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5126-9811-40E5-A0E9-3F2773ABD76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9C25-8BB3-45C6-9D11-6070A72D473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C8FF-C044-4183-92A8-B607F81B428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E5AE-9ADF-4AEF-8670-FB5D38701DC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2FC-A4BE-4B24-BDB6-6998EDA6F9E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74C2-5C28-410F-971A-3103224DC7D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9EC-5A97-4413-B159-A5491CAA990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365-8222-4A88-8052-3C4D74409C8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2DC3-DDF1-4544-8A99-40DF7EFEADB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344-784C-4B68-AC3B-366F91E2EE1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A2D6-FE0D-4543-80FE-0AB68B5E516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CD1E-CA6D-40BD-96C0-698B6F152BB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324-812E-48CE-AB99-AA43B49A8E6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C21D-15D9-4057-AB52-CB9279AC951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4339-B956-4E6A-B26E-E04637E23B8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ABD-E9D2-40C9-B43D-FD4E680CFF1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773-50E4-4ACF-8A6E-4E2ACB03C88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3EB-779D-4413-A235-CC4EA1F7A39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F04-DA72-4952-B3E8-5320DD37453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C8A-59E0-4D2D-800B-632607E2677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605-8EC6-451D-9180-33ECD91130B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C74-2643-411D-A52E-AD14286E859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BF1-4E86-4BF5-B879-2D73DB5D7D6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D50D-ADAA-492F-ACF6-765EC8C5243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9D1-1BD7-4C4D-A07E-077982F0755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CEE-3DF9-4984-8D5D-C4F5A010CA5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C299-2BFB-4263-A257-AC4D3EA19DB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FFA3-F2BD-457F-B299-9D4651E331B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C28-0809-41AB-B77E-6F273349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F59-D21B-48F2-8FF9-BED341C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F29-F666-4334-A7C7-A5C269EB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CF2-B3DE-4904-BA8A-4D7D2E00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1FC-9FED-4952-9EE5-C73A6C4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1A9-99CC-42FE-9F04-794CCEB0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D8B-2D42-4EDB-ACF4-652805A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3C0-1029-4931-BDE2-E39D056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5DA-A3EA-4D02-8F9C-AE94C19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CC8-E843-42A9-81D8-B06DB18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E26-E905-423C-BE2C-4F24D1D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942-1C94-4BD7-8800-62ED2020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12D-309E-4EDE-BE23-28827C0746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Lives%20Of%20Innocenc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ear.com/listen/adb50d6/la-vie-en-rose-edith-piaf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ear.com/listen/55e02e8/non,-je-ne-regrette-rien--edith-piaf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-6480" y="3743280"/>
            <a:ext cx="9156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8 Imagen" descr="EdithPiaf..jpg"/>
          <p:cNvPicPr/>
          <p:nvPr/>
        </p:nvPicPr>
        <p:blipFill>
          <a:blip r:embed="rId2"/>
          <a:stretch/>
        </p:blipFill>
        <p:spPr>
          <a:xfrm>
            <a:off x="2724120" y="1103400"/>
            <a:ext cx="340200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Ernesto%20Cortazar%20-%20Lives%20Of%20Innocen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Imagen" descr="Charles Aznavour....jpg"/>
          <p:cNvPicPr/>
          <p:nvPr/>
        </p:nvPicPr>
        <p:blipFill>
          <a:blip r:embed="rId1"/>
          <a:stretch/>
        </p:blipFill>
        <p:spPr>
          <a:xfrm>
            <a:off x="714240" y="357120"/>
            <a:ext cx="2152800" cy="3214800"/>
          </a:xfrm>
          <a:prstGeom prst="rect">
            <a:avLst/>
          </a:prstGeom>
          <a:ln w="0">
            <a:noFill/>
          </a:ln>
        </p:spPr>
      </p:pic>
      <p:sp>
        <p:nvSpPr>
          <p:cNvPr id="75" name="4 Rectángulo"/>
          <p:cNvSpPr/>
          <p:nvPr/>
        </p:nvSpPr>
        <p:spPr>
          <a:xfrm>
            <a:off x="714240" y="357192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harles Aznavour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5 Imagen" descr="Georges Moustaki....jpg"/>
          <p:cNvPicPr/>
          <p:nvPr/>
        </p:nvPicPr>
        <p:blipFill>
          <a:blip r:embed="rId2"/>
          <a:stretch/>
        </p:blipFill>
        <p:spPr>
          <a:xfrm>
            <a:off x="4214880" y="4071960"/>
            <a:ext cx="2714400" cy="2008080"/>
          </a:xfrm>
          <a:prstGeom prst="rect">
            <a:avLst/>
          </a:prstGeom>
          <a:ln w="0">
            <a:noFill/>
          </a:ln>
        </p:spPr>
      </p:pic>
      <p:sp>
        <p:nvSpPr>
          <p:cNvPr id="77" name="6 Rectángulo"/>
          <p:cNvSpPr/>
          <p:nvPr/>
        </p:nvSpPr>
        <p:spPr>
          <a:xfrm>
            <a:off x="4214880" y="607212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eorges Moustaki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7 Imagen" descr="Junto a Yves Montand.jpg"/>
          <p:cNvPicPr/>
          <p:nvPr/>
        </p:nvPicPr>
        <p:blipFill>
          <a:blip r:embed="rId3"/>
          <a:stretch/>
        </p:blipFill>
        <p:spPr>
          <a:xfrm>
            <a:off x="3643200" y="428760"/>
            <a:ext cx="4857840" cy="3238200"/>
          </a:xfrm>
          <a:prstGeom prst="rect">
            <a:avLst/>
          </a:prstGeom>
          <a:ln w="0">
            <a:noFill/>
          </a:ln>
        </p:spPr>
      </p:pic>
      <p:sp>
        <p:nvSpPr>
          <p:cNvPr id="79" name="8 Rectángulo"/>
          <p:cNvSpPr/>
          <p:nvPr/>
        </p:nvSpPr>
        <p:spPr>
          <a:xfrm>
            <a:off x="3643200" y="364320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ves Montand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9 Imagen" descr="theo sarapo.jpg"/>
          <p:cNvPicPr/>
          <p:nvPr/>
        </p:nvPicPr>
        <p:blipFill>
          <a:blip r:embed="rId4"/>
          <a:stretch/>
        </p:blipFill>
        <p:spPr>
          <a:xfrm>
            <a:off x="1928880" y="40006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192888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arcel Cerda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Imagen" descr="Orson Welles.jpg"/>
          <p:cNvPicPr/>
          <p:nvPr/>
        </p:nvPicPr>
        <p:blipFill>
          <a:blip r:embed="rId1"/>
          <a:stretch/>
        </p:blipFill>
        <p:spPr>
          <a:xfrm>
            <a:off x="785880" y="428760"/>
            <a:ext cx="764064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5 Rectángulo"/>
          <p:cNvSpPr/>
          <p:nvPr/>
        </p:nvSpPr>
        <p:spPr>
          <a:xfrm>
            <a:off x="6350760" y="57862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Orson W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Rectángulo"/>
          <p:cNvSpPr/>
          <p:nvPr/>
        </p:nvSpPr>
        <p:spPr>
          <a:xfrm>
            <a:off x="428760" y="500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Incluso la famosísima Marlene Dietrich que le regaló un diamante de un cuarto de kilo por una apasionada noche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4 Imagen" descr="beso marlened.JPG"/>
          <p:cNvPicPr/>
          <p:nvPr/>
        </p:nvPicPr>
        <p:blipFill>
          <a:blip r:embed="rId1"/>
          <a:stretch/>
        </p:blipFill>
        <p:spPr>
          <a:xfrm>
            <a:off x="500040" y="785880"/>
            <a:ext cx="4070520" cy="334800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Marlene Dietrich.jpg"/>
          <p:cNvPicPr/>
          <p:nvPr/>
        </p:nvPicPr>
        <p:blipFill>
          <a:blip r:embed="rId2"/>
          <a:stretch/>
        </p:blipFill>
        <p:spPr>
          <a:xfrm>
            <a:off x="4714920" y="78588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6 Rectángulo"/>
          <p:cNvSpPr/>
          <p:nvPr/>
        </p:nvSpPr>
        <p:spPr>
          <a:xfrm>
            <a:off x="4643280" y="4143240"/>
            <a:ext cx="37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Marlene Dietr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7 Rectángulo"/>
          <p:cNvSpPr/>
          <p:nvPr/>
        </p:nvSpPr>
        <p:spPr>
          <a:xfrm>
            <a:off x="500040" y="414324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500040" y="414324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Edith</a:t>
            </a:r>
            <a:r>
              <a:rPr b="0" lang="es-ES_tradnl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Piaf y Marlene Dietri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Edith-Piaf-La-Vie-En-Rose-OS-393734.jpg"/>
          <p:cNvPicPr/>
          <p:nvPr/>
        </p:nvPicPr>
        <p:blipFill>
          <a:blip r:embed="rId1"/>
          <a:stretch/>
        </p:blipFill>
        <p:spPr>
          <a:xfrm>
            <a:off x="2000160" y="500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1" name="3 Rectángulo"/>
          <p:cNvSpPr/>
          <p:nvPr/>
        </p:nvSpPr>
        <p:spPr>
          <a:xfrm>
            <a:off x="1285920" y="46432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Durante cuatro años viví casi como un animal o una loca: nada existía para mí más allá del momento en que me era aplicada mi inyección y sentía por fin el efecto de la droga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785880" y="29289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seguía viviendo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a vie en rose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a pesar de un terrible accidente automovilístico en el que sufrió varias fracturas. Los médicos le prescribieron morfina, a la que rápidament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se hizo adic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5 Imagen" descr="piaf.jpg"/>
          <p:cNvPicPr/>
          <p:nvPr/>
        </p:nvPicPr>
        <p:blipFill>
          <a:blip r:embed="rId3"/>
          <a:stretch/>
        </p:blipFill>
        <p:spPr>
          <a:xfrm>
            <a:off x="4643280" y="57168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5 Imagen" descr="edith_piaf_1726.jpg"/>
          <p:cNvPicPr/>
          <p:nvPr/>
        </p:nvPicPr>
        <p:blipFill>
          <a:blip r:embed="rId1"/>
          <a:stretch/>
        </p:blipFill>
        <p:spPr>
          <a:xfrm>
            <a:off x="1320840" y="177840"/>
            <a:ext cx="6502320" cy="650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4000680" y="1357200"/>
            <a:ext cx="5143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iaf se inyectaba, a través de su ropa y medias, momentos antes de subir al escenario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La única vez que actuó sin morfina fue un desastr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y salió abucheada por su público.</a:t>
            </a:r>
            <a:br>
              <a:rPr sz="2400"/>
            </a:b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También empezó a beber sin control y sus amigos intentaron que dejara ese hábito, llegando incluso a esconderle las botellas de alcohol, pero tampoco no funcionó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De todas formas su público la adorab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ues era el ícono de Francia de la postguerra, una diva consag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2 Imagen" descr="EdithPiaf.jpg"/>
          <p:cNvPicPr/>
          <p:nvPr/>
        </p:nvPicPr>
        <p:blipFill>
          <a:blip r:embed="rId1"/>
          <a:stretch/>
        </p:blipFill>
        <p:spPr>
          <a:xfrm>
            <a:off x="0" y="1071720"/>
            <a:ext cx="384336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5 Rectángulo"/>
          <p:cNvSpPr/>
          <p:nvPr/>
        </p:nvSpPr>
        <p:spPr>
          <a:xfrm>
            <a:off x="4643280" y="100008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n embargo, esta vida desenfrenada que no la llenaba ni la hacía feliz, era la única que tenía y la disfrutaba, la que asumía como parte de su esencia, por eso es que cada vez que cantaba a viva voz la famosa canción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que la identificaba perfectament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n, Je Ne Regrette Rian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(No, no me arrepiento de nada), se le llenaban los ojos de lágri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6 Imagen" descr="imgEdith%20Piaf4.jpg"/>
          <p:cNvPicPr/>
          <p:nvPr/>
        </p:nvPicPr>
        <p:blipFill>
          <a:blip r:embed="rId2"/>
          <a:stretch/>
        </p:blipFill>
        <p:spPr>
          <a:xfrm>
            <a:off x="214200" y="1143000"/>
            <a:ext cx="420372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928800" y="41432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legó a sus 46 años bien recorridos, y sin saber cómo, encontró de pronto al gran amor de su vida. Se involucró en una relación que sorprendió al mundo. Se enamoró locament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héo Sarap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un joven griego 20 años menor qu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bio_theo03.jpg"/>
          <p:cNvPicPr/>
          <p:nvPr/>
        </p:nvPicPr>
        <p:blipFill>
          <a:blip r:embed="rId1"/>
          <a:stretch/>
        </p:blipFill>
        <p:spPr>
          <a:xfrm>
            <a:off x="1785960" y="571680"/>
            <a:ext cx="5560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6 Rectángulo"/>
          <p:cNvSpPr/>
          <p:nvPr/>
        </p:nvSpPr>
        <p:spPr>
          <a:xfrm>
            <a:off x="5218560" y="37148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éo Sara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4857840" y="1143000"/>
            <a:ext cx="428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ith aseguraba que éste era el definitivo y más grande amor de su vida. Se casó con él y todo el mundo pensó que se trataba de un “gigoló” que quería aprovecharse de su fortuna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la gente fue difícil creer en el amor de una mujer mayor y famosa con un joven adonis griego, pero Edith gritó a los cuatro vientos que Théo era el único hombre que había ama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4 Imagen" descr="d4rx8u5mc65a8x5d.jpg"/>
          <p:cNvPicPr/>
          <p:nvPr/>
        </p:nvPicPr>
        <p:blipFill>
          <a:blip r:embed="rId1"/>
          <a:stretch/>
        </p:blipFill>
        <p:spPr>
          <a:xfrm>
            <a:off x="0" y="1071720"/>
            <a:ext cx="4762440" cy="4790880"/>
          </a:xfrm>
          <a:prstGeom prst="rect">
            <a:avLst/>
          </a:prstGeom>
          <a:ln w="0">
            <a:noFill/>
          </a:ln>
        </p:spPr>
      </p:pic>
      <p:sp>
        <p:nvSpPr>
          <p:cNvPr id="104" name="5 Rectángulo"/>
          <p:cNvSpPr/>
          <p:nvPr/>
        </p:nvSpPr>
        <p:spPr>
          <a:xfrm>
            <a:off x="1643040" y="5572080"/>
            <a:ext cx="30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héo y Edith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theo%20sarapo-edith%20piaf%20mariage%201962.jpg"/>
          <p:cNvPicPr/>
          <p:nvPr/>
        </p:nvPicPr>
        <p:blipFill>
          <a:blip r:embed="rId1"/>
          <a:stretch/>
        </p:blipFill>
        <p:spPr>
          <a:xfrm>
            <a:off x="357120" y="1643040"/>
            <a:ext cx="4429080" cy="3997440"/>
          </a:xfrm>
          <a:prstGeom prst="rect">
            <a:avLst/>
          </a:prstGeom>
          <a:ln w="0">
            <a:noFill/>
          </a:ln>
        </p:spPr>
      </p:pic>
      <p:pic>
        <p:nvPicPr>
          <p:cNvPr id="106" name="2 Imagen" descr="b34755a443a7f63a415246d3ec10f810.jpg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07" name="3 CuadroTexto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ía de la b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Rectángulo"/>
          <p:cNvSpPr/>
          <p:nvPr/>
        </p:nvSpPr>
        <p:spPr>
          <a:xfrm>
            <a:off x="857160" y="400068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ació con el nombr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Giovanna Gassio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ija de una cantante ambulante y de un acróbata de circo que la abandonó antes de que ella naciera. Su madre a punto de dar a luz, no alcanzó a llegar a la maternidad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nació en plena calle debajo de una faro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frente al número 72 de la rue de Belleville en París el 19 de diciembre de 191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7 Imagen" descr="Edith Piaf 1.jpg"/>
          <p:cNvPicPr/>
          <p:nvPr/>
        </p:nvPicPr>
        <p:blipFill>
          <a:blip r:embed="rId1"/>
          <a:stretch/>
        </p:blipFill>
        <p:spPr>
          <a:xfrm>
            <a:off x="2857680" y="1643040"/>
            <a:ext cx="325404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8 Imagen" descr="biogranpiaf.jpg"/>
          <p:cNvPicPr/>
          <p:nvPr/>
        </p:nvPicPr>
        <p:blipFill>
          <a:blip r:embed="rId2"/>
          <a:stretch/>
        </p:blipFill>
        <p:spPr>
          <a:xfrm>
            <a:off x="642960" y="642960"/>
            <a:ext cx="785808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 Imagen" descr="con teo.jpg"/>
          <p:cNvPicPr/>
          <p:nvPr/>
        </p:nvPicPr>
        <p:blipFill>
          <a:blip r:embed="rId1"/>
          <a:stretch/>
        </p:blipFill>
        <p:spPr>
          <a:xfrm>
            <a:off x="571680" y="642960"/>
            <a:ext cx="3571560" cy="5357880"/>
          </a:xfrm>
          <a:prstGeom prst="rect">
            <a:avLst/>
          </a:prstGeom>
          <a:ln w="0">
            <a:noFill/>
          </a:ln>
        </p:spPr>
      </p:pic>
      <p:sp>
        <p:nvSpPr>
          <p:cNvPr id="109" name="5 CuadroTexto"/>
          <p:cNvSpPr/>
          <p:nvPr/>
        </p:nvSpPr>
        <p:spPr>
          <a:xfrm>
            <a:off x="0" y="607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6 Imagen" descr="theo.jpg"/>
          <p:cNvPicPr/>
          <p:nvPr/>
        </p:nvPicPr>
        <p:blipFill>
          <a:blip r:embed="rId2"/>
          <a:stretch/>
        </p:blipFill>
        <p:spPr>
          <a:xfrm>
            <a:off x="4786200" y="642960"/>
            <a:ext cx="2764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CuadroTexto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6 Imagen" descr="129543.jpg"/>
          <p:cNvPicPr/>
          <p:nvPr/>
        </p:nvPicPr>
        <p:blipFill>
          <a:blip r:embed="rId1"/>
          <a:stretch/>
        </p:blipFill>
        <p:spPr>
          <a:xfrm>
            <a:off x="2235240" y="1676520"/>
            <a:ext cx="467352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7 Imagen" descr="edith3.jpg"/>
          <p:cNvPicPr/>
          <p:nvPr/>
        </p:nvPicPr>
        <p:blipFill>
          <a:blip r:embed="rId2"/>
          <a:stretch/>
        </p:blipFill>
        <p:spPr>
          <a:xfrm>
            <a:off x="642960" y="571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2 Rectángulo"/>
          <p:cNvSpPr/>
          <p:nvPr/>
        </p:nvSpPr>
        <p:spPr>
          <a:xfrm>
            <a:off x="1071720" y="3571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ño después de casarse con el joven griego, en 1963, Edith Piaf murió en su casa del Boulevard Lannes a la edad de 47 años, víctima de una cirrosis avanzada y con sus facciones deterioradas debido a la morfina. El gran amor de su vida sólo le duró un añ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5 Imagen" descr="edith_piaf_01.jpg"/>
          <p:cNvPicPr/>
          <p:nvPr/>
        </p:nvPicPr>
        <p:blipFill>
          <a:blip r:embed="rId1"/>
          <a:stretch/>
        </p:blipFill>
        <p:spPr>
          <a:xfrm>
            <a:off x="928800" y="642960"/>
            <a:ext cx="200016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imgEdith%20Piaf1.jpg"/>
          <p:cNvPicPr/>
          <p:nvPr/>
        </p:nvPicPr>
        <p:blipFill>
          <a:blip r:embed="rId2"/>
          <a:stretch/>
        </p:blipFill>
        <p:spPr>
          <a:xfrm>
            <a:off x="3357720" y="500040"/>
            <a:ext cx="205740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9 Imagen" descr="EdithPiaf,..jpg"/>
          <p:cNvPicPr/>
          <p:nvPr/>
        </p:nvPicPr>
        <p:blipFill>
          <a:blip r:embed="rId3"/>
          <a:stretch/>
        </p:blipFill>
        <p:spPr>
          <a:xfrm>
            <a:off x="5715000" y="714240"/>
            <a:ext cx="24289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edith4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7942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eo Sarapo, en Cap Ferrat, 1963, año de su 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8 Imagen" descr="Edith con Théo Sarapo.jpg"/>
          <p:cNvPicPr/>
          <p:nvPr/>
        </p:nvPicPr>
        <p:blipFill>
          <a:blip r:embed="rId1"/>
          <a:stretch/>
        </p:blipFill>
        <p:spPr>
          <a:xfrm>
            <a:off x="142920" y="1857240"/>
            <a:ext cx="3946320" cy="314352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936000" y="50007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th con Théo Sara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10 Imagen" descr="Fotografía tomada poco antes de morir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53080" cy="3143520"/>
          </a:xfrm>
          <a:prstGeom prst="rect">
            <a:avLst/>
          </a:prstGeom>
          <a:ln w="0">
            <a:noFill/>
          </a:ln>
        </p:spPr>
      </p:pic>
      <p:sp>
        <p:nvSpPr>
          <p:cNvPr id="123" name="11 Rectángulo"/>
          <p:cNvSpPr/>
          <p:nvPr/>
        </p:nvSpPr>
        <p:spPr>
          <a:xfrm>
            <a:off x="428616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tografía tomada poco antes de mor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4000680" y="250020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ue el único heredero de Edith Piaf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Los derechos discográficos, de autor y cinematográficos fueron a parar a su cuenta bancaria. Eso confirmaba las sospechas de la g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4 Imagen" descr="22542249_120252203941.jpg"/>
          <p:cNvPicPr/>
          <p:nvPr/>
        </p:nvPicPr>
        <p:blipFill>
          <a:blip r:embed="rId1"/>
          <a:stretch/>
        </p:blipFill>
        <p:spPr>
          <a:xfrm>
            <a:off x="571680" y="1214280"/>
            <a:ext cx="336996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2 Rectángulo"/>
          <p:cNvSpPr/>
          <p:nvPr/>
        </p:nvSpPr>
        <p:spPr>
          <a:xfrm>
            <a:off x="1000080" y="307188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imagen de gigoló, inescrupuloso y aprovechador, se extendió por todo el mundo, mientras el silencio del griego confirmaba todas esas sospechas. Sin embargo, siete años después Théo Sarapo volvió a ser noticia de primera plana en los periódicos. Se había suicidado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vivió hasta agotar la “fabulosa” herencia recibida de su mujer, es decir, una lista interminable de deud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4 Imagen" descr="default.jpg"/>
          <p:cNvPicPr/>
          <p:nvPr/>
        </p:nvPicPr>
        <p:blipFill>
          <a:blip r:embed="rId1"/>
          <a:stretch/>
        </p:blipFill>
        <p:spPr>
          <a:xfrm>
            <a:off x="3214800" y="64296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Rectángulo"/>
          <p:cNvSpPr/>
          <p:nvPr/>
        </p:nvSpPr>
        <p:spPr>
          <a:xfrm>
            <a:off x="500040" y="35002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nfermedad y adicción de Edith Piaf la había dejado en bancarro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con las deudas hasta el cuello. Théo Sarapo, en silencio, las fue pagando como pudo, una tras otra, y así hasta dejar totalmente limpio el sagrado nombre de su amada. Cuand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llegó a pagar el último centavo se quitó la vida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¿Para qué la quería si no podía compartirla con el único amor de su vid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4 Imagen" descr="d41619p-piaf.jpg"/>
          <p:cNvPicPr/>
          <p:nvPr/>
        </p:nvPicPr>
        <p:blipFill>
          <a:blip r:embed="rId1"/>
          <a:stretch/>
        </p:blipFill>
        <p:spPr>
          <a:xfrm>
            <a:off x="928800" y="357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5 Imagen" descr="250273_2721678.jpg"/>
          <p:cNvPicPr/>
          <p:nvPr/>
        </p:nvPicPr>
        <p:blipFill>
          <a:blip r:embed="rId2"/>
          <a:stretch/>
        </p:blipFill>
        <p:spPr>
          <a:xfrm>
            <a:off x="4786200" y="357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Rectángulo"/>
          <p:cNvSpPr/>
          <p:nvPr/>
        </p:nvSpPr>
        <p:spPr>
          <a:xfrm>
            <a:off x="928800" y="228600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su mesilla de noche hallaron una tarjeta que decía: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Pour toi Edith, mon amour"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le enseñó al mundo y a sus detractores otra hermosa lección de amor. Durante los siete años que demoró pagar las deudas de su amada Edith, jamás se lo vio con otra muj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4 Rectángulo"/>
          <p:cNvSpPr/>
          <p:nvPr/>
        </p:nvSpPr>
        <p:spPr>
          <a:xfrm>
            <a:off x="114300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 enterrado junto a ella. Al fin estarían juntos otra vez, para cantar a dúo desde el más allá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4" name="2 Imagen" descr="800px-Tombeau_d'Edith_Pi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Rectángulo"/>
          <p:cNvSpPr/>
          <p:nvPr/>
        </p:nvSpPr>
        <p:spPr>
          <a:xfrm>
            <a:off x="500040" y="321480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ujer era demasiado pobre para criarla y se la entrega al cuidado de su abuela materna, quien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n vez de tetero la alimentaba con vino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con la excusa de que así se eliminaban los microbios. Después la entrega a su padre, quien está a punto de ir al frente en la Primera Guerra Mundial, lo que lo lleva a dejar a la niña con su abuela paterna (dueña una casa de prostitución en Bernay, Normandía) donde Edith es criada por las prostitutas de la cas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12 Imagen" descr="piafs_img_assist_custom.jpg"/>
          <p:cNvPicPr/>
          <p:nvPr/>
        </p:nvPicPr>
        <p:blipFill>
          <a:blip r:embed="rId1"/>
          <a:stretch/>
        </p:blipFill>
        <p:spPr>
          <a:xfrm>
            <a:off x="2571840" y="50004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6" name="4 Imagen" descr="teaserpic.jpg"/>
          <p:cNvPicPr/>
          <p:nvPr/>
        </p:nvPicPr>
        <p:blipFill>
          <a:blip r:embed="rId1"/>
          <a:stretch/>
        </p:blipFill>
        <p:spPr>
          <a:xfrm>
            <a:off x="785880" y="71424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Rectángulo"/>
          <p:cNvSpPr/>
          <p:nvPr/>
        </p:nvSpPr>
        <p:spPr>
          <a:xfrm>
            <a:off x="857160" y="2714760"/>
            <a:ext cx="742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Ni del bien que me han hecho, Ni del mal, Todo eso me da igual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Todo está pagado, barrido, olvidado... Me importa un bledo el pasad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Con mis recuerdos, he encendido el fuego, mis penas, mis placeres… Ya no los necesit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Barrí todos los amores y todos sus temblores, los barrí para siempre, vuelvo a empezar de cero.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Porque mi vida, Porque mis alegrías, Hoy comienzan contig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5 Imagen" descr="Piaf_Horn_001.jpg"/>
          <p:cNvPicPr/>
          <p:nvPr/>
        </p:nvPicPr>
        <p:blipFill>
          <a:blip r:embed="rId1"/>
          <a:stretch/>
        </p:blipFill>
        <p:spPr>
          <a:xfrm>
            <a:off x="3714840" y="642960"/>
            <a:ext cx="1547640" cy="186228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Marion_Cotillard_hara_Edith_Piaf.jpg"/>
          <p:cNvPicPr/>
          <p:nvPr/>
        </p:nvPicPr>
        <p:blipFill>
          <a:blip r:embed="rId2"/>
          <a:stretch/>
        </p:blipFill>
        <p:spPr>
          <a:xfrm>
            <a:off x="1643040" y="71424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40" name="8 Imagen" descr="piaf.jpg"/>
          <p:cNvPicPr/>
          <p:nvPr/>
        </p:nvPicPr>
        <p:blipFill>
          <a:blip r:embed="rId3"/>
          <a:stretch/>
        </p:blipFill>
        <p:spPr>
          <a:xfrm>
            <a:off x="5715000" y="6429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 Imagen" descr="3.jpg"/>
          <p:cNvPicPr/>
          <p:nvPr/>
        </p:nvPicPr>
        <p:blipFill>
          <a:blip r:embed="rId1"/>
          <a:stretch/>
        </p:blipFill>
        <p:spPr>
          <a:xfrm>
            <a:off x="1643040" y="642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5 Imagen" descr="piafad.jpg"/>
          <p:cNvPicPr/>
          <p:nvPr/>
        </p:nvPicPr>
        <p:blipFill>
          <a:blip r:embed="rId1"/>
          <a:stretch/>
        </p:blipFill>
        <p:spPr>
          <a:xfrm>
            <a:off x="428760" y="428760"/>
            <a:ext cx="4055760" cy="5857920"/>
          </a:xfrm>
          <a:prstGeom prst="rect">
            <a:avLst/>
          </a:prstGeom>
          <a:ln w="0">
            <a:noFill/>
          </a:ln>
        </p:spPr>
      </p:pic>
      <p:pic>
        <p:nvPicPr>
          <p:cNvPr id="143" name="6 Imagen" descr="be09800700.jpg"/>
          <p:cNvPicPr/>
          <p:nvPr/>
        </p:nvPicPr>
        <p:blipFill>
          <a:blip r:embed="rId2"/>
          <a:stretch/>
        </p:blipFill>
        <p:spPr>
          <a:xfrm>
            <a:off x="4714920" y="428760"/>
            <a:ext cx="410040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Rectángulo"/>
          <p:cNvSpPr/>
          <p:nvPr/>
        </p:nvSpPr>
        <p:spPr>
          <a:xfrm>
            <a:off x="642960" y="235728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 hoy quise contarles esta historia. Porque la gente siempre juzga con ligereza, porque los prejuicios y la suspicacia empañan muchas veces el verdadero amor y las buenas intenciones. También porque Edith nos demostró que no se necesita toda una vida para amar y disfrutar, porque nos enseñó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un año es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pas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el resto de tu vida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 esa persona especial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, también se llam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cciones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edith piaf_thumb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19560"/>
          </a:xfrm>
          <a:prstGeom prst="rect">
            <a:avLst/>
          </a:prstGeom>
          <a:ln w="0">
            <a:noFill/>
          </a:ln>
        </p:spPr>
      </p:pic>
      <p:pic>
        <p:nvPicPr>
          <p:cNvPr id="146" name="4 Imagen" descr="d824i26596h161112.jpg"/>
          <p:cNvPicPr/>
          <p:nvPr/>
        </p:nvPicPr>
        <p:blipFill>
          <a:blip r:embed="rId2"/>
          <a:stretch/>
        </p:blipFill>
        <p:spPr>
          <a:xfrm>
            <a:off x="1714680" y="357120"/>
            <a:ext cx="5715000" cy="6096240"/>
          </a:xfrm>
          <a:prstGeom prst="rect">
            <a:avLst/>
          </a:prstGeom>
          <a:ln w="0">
            <a:noFill/>
          </a:ln>
        </p:spPr>
      </p:pic>
      <p:pic>
        <p:nvPicPr>
          <p:cNvPr id="147" name="5 Rectángulo" descr=""/>
          <p:cNvPicPr/>
          <p:nvPr/>
        </p:nvPicPr>
        <p:blipFill>
          <a:blip r:embed="rId3"/>
          <a:stretch/>
        </p:blipFill>
        <p:spPr>
          <a:xfrm>
            <a:off x="3529080" y="4681440"/>
            <a:ext cx="18349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90792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7 Rectángulo"/>
          <p:cNvSpPr/>
          <p:nvPr/>
        </p:nvSpPr>
        <p:spPr>
          <a:xfrm>
            <a:off x="642960" y="78588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Cuando apenas tenía cuatro años,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una meningitis la dejó cieg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ero poco después recobró la vista gracias, según explicó su abuela, al devoto peregrinaje a la iglesia de Santa Teresita del Niño Jesús, en Lisieux, que la mujer hizo con su ni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8 Imagen" descr="Lisieux es una ciudad francesa, situada en el departamento de Calvados, en la región de la Baja Normandía..jpg"/>
          <p:cNvPicPr/>
          <p:nvPr/>
        </p:nvPicPr>
        <p:blipFill>
          <a:blip r:embed="rId1"/>
          <a:stretch/>
        </p:blipFill>
        <p:spPr>
          <a:xfrm>
            <a:off x="3786120" y="250020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58" name="9 Rectángulo"/>
          <p:cNvSpPr/>
          <p:nvPr/>
        </p:nvSpPr>
        <p:spPr>
          <a:xfrm>
            <a:off x="2214720" y="5929200"/>
            <a:ext cx="45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Lisieux es una ciudad francesa, situada en el departame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de Calvados, en la región de la Baja Normandí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10 Imagen" descr="piaf17.jpg"/>
          <p:cNvPicPr/>
          <p:nvPr/>
        </p:nvPicPr>
        <p:blipFill>
          <a:blip r:embed="rId2"/>
          <a:stretch/>
        </p:blipFill>
        <p:spPr>
          <a:xfrm>
            <a:off x="928800" y="2500200"/>
            <a:ext cx="271620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11 Rectángulo"/>
          <p:cNvSpPr/>
          <p:nvPr/>
        </p:nvSpPr>
        <p:spPr>
          <a:xfrm>
            <a:off x="928800" y="250020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62626"/>
                </a:solidFill>
                <a:latin typeface="Times New Roman"/>
              </a:rPr>
              <a:t>Edith Pi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3143160" y="2286000"/>
            <a:ext cx="60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los primeros años de la vida de Edith fueron difíciles, los de su adolescencia fueron peores. Cuando apenas tenía diez años su padre enfermó gravemente y la pequeña empezó a cantar por la calle, recogiendo las monedas que los transeúntes le arrojaban. En aquellas primeras actuaciones, Edith sólo cantaba la Marsellesa, el himno nacional francés, porque es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la única canción que cono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2 Imagen" descr="Edith_Piaf_enfant.jpg"/>
          <p:cNvPicPr/>
          <p:nvPr/>
        </p:nvPicPr>
        <p:blipFill>
          <a:blip r:embed="rId1"/>
          <a:stretch/>
        </p:blipFill>
        <p:spPr>
          <a:xfrm>
            <a:off x="357120" y="1071720"/>
            <a:ext cx="262116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>
            <a:off x="357120" y="5500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dith Piaf  enf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785880" y="35002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finalizar la Primera Guerra Mundial, su padre vuelve del frente y la lleva consigo a vivir la vida de los artistas de los pequeños circos itinerantes, luego la del artista ambulante, independiente y miserable. Edith revela su talento y su excepcional voz en las canciones populares que canta en las calles junto a su padre, tal como su madre lo ha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6 Imagen" descr="edith-piaf.jpg"/>
          <p:cNvPicPr/>
          <p:nvPr/>
        </p:nvPicPr>
        <p:blipFill>
          <a:blip r:embed="rId1"/>
          <a:stretch/>
        </p:blipFill>
        <p:spPr>
          <a:xfrm>
            <a:off x="2928960" y="500040"/>
            <a:ext cx="2857320" cy="282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Rectángulo"/>
          <p:cNvSpPr/>
          <p:nvPr/>
        </p:nvSpPr>
        <p:spPr>
          <a:xfrm>
            <a:off x="4143240" y="250020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1933, a los 17 años, tiene una hija con su amante Louis Dupont, llamada Marcelle, que muere de meningitis a los dos años de edad, en 193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 autobiografía se titu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u bal du ch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6 Imagen" descr="edith_piaf de chica.jpg"/>
          <p:cNvPicPr/>
          <p:nvPr/>
        </p:nvPicPr>
        <p:blipFill>
          <a:blip r:embed="rId1"/>
          <a:stretch/>
        </p:blipFill>
        <p:spPr>
          <a:xfrm>
            <a:off x="21420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7 Rectángulo"/>
          <p:cNvSpPr/>
          <p:nvPr/>
        </p:nvSpPr>
        <p:spPr>
          <a:xfrm>
            <a:off x="0" y="164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ueno, pero hablamos de Lecciones de amo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así que adentrémonos en su vida sentimen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8 Rectángulo"/>
          <p:cNvSpPr/>
          <p:nvPr/>
        </p:nvSpPr>
        <p:spPr>
          <a:xfrm>
            <a:off x="3714840" y="32860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a pesar d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no ser precisamente una mujer guap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y de medir apenas 1,53 m de estatura, era una de esas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femmes fatal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que emanan un encanto especial y que hacía que los hombres cayeran rendidos a sus pi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9 Imagen" descr="edith_piaf-ss.jpg"/>
          <p:cNvPicPr/>
          <p:nvPr/>
        </p:nvPicPr>
        <p:blipFill>
          <a:blip r:embed="rId1"/>
          <a:stretch/>
        </p:blipFill>
        <p:spPr>
          <a:xfrm>
            <a:off x="785880" y="314316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4429080" y="164304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or su vida pasaron desde sus inicios, pequeños rufianes, artistas callejeros y después hasta hombres famosos como Marlon Brando, Yves Montand, Charles Aznavour, o Georges Moustaki. Jugaba a deslumbrar, los conquistaba y los abandonaba. También sucumbieron a sus encantos el famoso campeón de boxeo Mercel Cerdan y actores como John Gar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2 Imagen" descr="Edith y Marcel.jpg"/>
          <p:cNvPicPr/>
          <p:nvPr/>
        </p:nvPicPr>
        <p:blipFill>
          <a:blip r:embed="rId1"/>
          <a:stretch/>
        </p:blipFill>
        <p:spPr>
          <a:xfrm>
            <a:off x="428760" y="428760"/>
            <a:ext cx="3817800" cy="58579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1009080" y="6286680"/>
            <a:ext cx="25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ith y Marcel Cerd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9:08:29Z</dcterms:created>
  <dc:creator>esrebla</dc:creator>
  <dc:description/>
  <dc:language>en-US</dc:language>
  <cp:lastModifiedBy>esrebla</cp:lastModifiedBy>
  <dcterms:modified xsi:type="dcterms:W3CDTF">2009-11-04T00:56:09Z</dcterms:modified>
  <cp:revision>35</cp:revision>
  <dc:subject/>
  <dc:title>www.laboutiquedelpowerpoint.com</dc:title>
</cp:coreProperties>
</file>