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5FE-DA5A-4D7C-8DAE-B66C6E0A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5BE-D24B-4642-A73C-FECC7063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AA0-D5E4-46FA-A625-318D829C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850-EAA1-4DC1-9016-96771209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A50-E8A1-477E-9296-DEAC52F9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6DB-266C-4B66-8067-C6ADCF91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627-A791-4AD6-947A-05D15232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E65-07C7-445E-A655-7E339821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F69-7D16-4489-A816-878D5572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A7B-BDE6-4644-8602-A9A8C848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7AF-44B6-4E8B-B274-390125F2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5B3-2C79-40A0-9381-E4D8C09A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73C0-C3BB-4560-9EE1-DA72E5687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370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elé vs. Maradon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304920"/>
            <a:ext cx="70866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zilianSoccerSkills.co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34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contratado por el equipo Cosmos por US$ 6,000,000.00 para jugar dos temporadas en los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 NASL en 19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277668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34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ulsado del Mundial de 94 por uso de drogas – jugando como Capitán de la Selección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2044800"/>
            <a:ext cx="3809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– Estadísticas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undiales - (1958, 1962 e 1970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undiales Interclubes - Santos (1962 e 196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pas Libertadores da América - Santos (1962 e 196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Campeonatos Paulistas - Santos (1958, 1960, 1961, 1962, 1964, 1965, 1967, 1968, 1969 e 197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Tazas Brasil - Santos (1961, 1962, 1963, 1964 e 1965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orneos Rio-Sao Paulo - Santos (1959, 1963, 1964 e 1966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ampeonato Nacional de los Estados Unidos - Cosmo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en-US" sz="4400" spc="-1" strike="noStrike">
                <a:solidFill>
                  <a:srgbClr val="fafad2"/>
                </a:solidFill>
                <a:latin typeface="Arial Unicode MS"/>
                <a:ea typeface="Courier New"/>
              </a:rPr>
              <a:t> </a:t>
            </a:r>
            <a:r>
              <a:rPr b="1" lang="en-US" sz="4400" spc="-1" strike="noStrike">
                <a:solidFill>
                  <a:srgbClr val="fafad2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81 goles en 1363 jueg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n la Selección Brasileña :    92 juegos – 97 g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Maradona – Estadísticas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a Juniors (198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celona (Copa del Rey, 198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Cup (Mexico, 198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oli (Scudetto, 1987 y 199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n Cup (198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FA Cup (19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n Supercup (199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mio Franchi Cup (199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2 juegos - 352 go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juegos por la Selección Argentina - 33 go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os jugaron 21 años 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: 1363 juegos – 1281 go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: 692 juegos – 345 gol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 la Selección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: 92 juegos – 97 go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: 90 juegos – 33 g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ra del Campo – Pe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é fue recibido por los Papas Juan XXIII, Pablo VI y Juan Pablo II, en el Vaticano, y por cuatro Presidentes norteamericanos en la Casa Blanca. Electo el atleta del Siglo 20 por el Comité Olímpico Inter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corado Sir, por la Reina Elizabeth II, de Inglaterra; Embajador de laUnes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bió homenajes en más de 30 pai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1977 ganó el diploma de Ciudadano del Mundo en la ONU. Fue Ministro de Deportes em Brasil entre los años de 1995 y 199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ra del campo – Marado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2286000" cy="280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57800" y="990720"/>
            <a:ext cx="2286000" cy="2800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41911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dos ocasiones ha sido internado por uso de drogas, ninguno contrato de patroci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iosidades sobre Pel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causa de Pelé, Santos llegó a jugar 22 partidos en 30 días, creando la ley de las 72 horas entre un partido y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A tuvo que cambiar la regla del penal por la “paradinha” que el Rey c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tó profesionalmente a los 15 años, a los 16 en la selección, con 17 era Campeón del Mundo y a los 21 años y 10 meses hacia su gol número 5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onclusión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parar a Pelé con Maradona solo puede ser cosa de argentin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657600" y="4876920"/>
            <a:ext cx="2136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17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 figura del Mundial de Sue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3810240" cy="252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17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ituido en el Mundial de Argentina de 1978 por Meno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4520" y="1981080"/>
            <a:ext cx="26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21 años, Pelé ya había hecho más de 500 goles en una época en que no existía tarjeta amari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guida se corona Bicampeón Mundial de Clubes 1962-19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21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ega en el Mundial de España sin ningún br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expulsado contra Brasil por una falta violenta contra Bati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47880" y="1981080"/>
            <a:ext cx="328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26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do el Rey del Futbol - durante el Mundial de 1966 en Inglat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n “Ratin” – defensor argentino – el mundial más violento de la his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2649600"/>
            <a:ext cx="38098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26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l Mundo por Argen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do el mejor jugador de este mund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zo el famoso gol contra Inglaterra con ayuda de la “Mano de Di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2681280"/>
            <a:ext cx="3809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30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l mundo por la 3a. vez en Mé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 figura del mundial con 6 g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19 de noviembre de 1969 hace su milésimo g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2122560"/>
            <a:ext cx="380988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30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ega el mundial de Italia, sub-campeón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ulsado del futbol italiano por uso de dr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 más de US$30,000  en multas por faltar a entrenamientos/jue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28680" y="1981080"/>
            <a:ext cx="272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5:24:51Z</dcterms:created>
  <dc:creator> Leandro Medeiros</dc:creator>
  <dc:description/>
  <dc:language>en-US</dc:language>
  <cp:lastModifiedBy>jereynoso</cp:lastModifiedBy>
  <dcterms:modified xsi:type="dcterms:W3CDTF">2006-10-03T18:07:28Z</dcterms:modified>
  <cp:revision>33</cp:revision>
  <dc:subject/>
  <dc:title>Pele x Maradona</dc:title>
</cp:coreProperties>
</file>