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5.gif" ContentType="image/gif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4640D-B36D-4195-A70A-80A0DFC68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AE4AB-6482-4804-88C4-DFF77DFCD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BA1ED-A91E-4898-984B-B6653E7A1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F2F46-3522-47F9-A1AD-4BF8A99DC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422E3-22C5-49B9-B5E7-0EA225374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D6784-72CE-4DA5-97FD-CA92FE655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C4C01-F4DA-4DFE-94EA-AA88A9748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CC25D-79A5-44ED-93EB-D08368DBF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871DE-72BF-4C0A-8A83-6F9BA1693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CFF09-E13B-4243-9104-D533D3155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E19EA-A2D3-4063-A24E-D906ADAF7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F2CB1-1AB4-4D78-8F10-460027D9F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2BEE6-EC67-4D02-A6CD-46D0D9DD87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920" y="2637000"/>
            <a:ext cx="861048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Pelé vs. Maradona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190760"/>
            <a:ext cx="6400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990720" y="304920"/>
            <a:ext cx="7086600" cy="1038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BrazilianSoccerSkills.com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lé a los 34 añ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 contratado por el equipo Cosmos por US$ 6,000,000.00 para jugar dos temporadas en los Estados Uni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mpeón de NASL en 197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685800" y="2776680"/>
            <a:ext cx="3809880" cy="25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radona a los 34 añ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ulsado del Mundial de 94 por uso de drogas – jugando como Capitán de la Selección Argenti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685800" y="2044800"/>
            <a:ext cx="3809880" cy="39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lé – Estadísticas</a:t>
            </a:r>
            <a:br>
              <a:rPr sz="4400"/>
            </a:br>
            <a:br>
              <a:rPr sz="44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Mundiales - (1958, 1962 e 1970)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Mundiales Interclubes - Santos (1962 e 1963)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Copas Libertadores da América - Santos (1962 e 1963)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Campeonatos Paulistas - Santos (1958, 1960, 1961, 1962, 1964, 1965, 1967, 1968, 1969 e 1973)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Tazas Brasil - Santos (1961, 1962, 1963, 1964 e 1965)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Torneos Rio-Sao Paulo - Santos (1959, 1963, 1964 e 1966)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Campeonato Nacional de los Estados Unidos - Cosmos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br>
              <a:rPr sz="2000"/>
            </a:br>
            <a:r>
              <a:rPr b="1" lang="en-US" sz="4400" spc="-1" strike="noStrike">
                <a:solidFill>
                  <a:srgbClr val="fafad2"/>
                </a:solidFill>
                <a:latin typeface="Arial Unicode MS"/>
                <a:ea typeface="Courier New"/>
              </a:rPr>
              <a:t> </a:t>
            </a:r>
            <a:r>
              <a:rPr b="1" lang="en-US" sz="4400" spc="-1" strike="noStrike">
                <a:solidFill>
                  <a:srgbClr val="fafad2"/>
                </a:solidFill>
                <a:latin typeface="Times New Roman"/>
                <a:ea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1281 goles en 1363 juegos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Con la Selección Brasileña :    92 juegos – 97 go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Maradona – Estadísticas</a:t>
            </a:r>
            <a:br>
              <a:rPr sz="40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ca Juniors (198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rcelona (Copa del Rey, 1983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ld Cup (Mexico, 1986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poli (Scudetto, 1987 y 1990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an Cup (1987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EFA Cup (1989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an Supercup (1991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temio Franchi Cup (199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2 juegos - 352 gol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0 juegos por la Selección Argentina - 33 gol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mbos jugaron 21 años 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lé : 1363 juegos – 1281 gol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radona : 692 juegos – 345 goles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r la Selección 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lé : 92 juegos – 97 gol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radona : 90 juegos – 33 go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uera del Campo – Pel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lé fue recibido por los Papas Juan XXIII, Pablo VI y Juan Pablo II, en el Vaticano, y por cuatro Presidentes norteamericanos en la Casa Blanca. Electo el atleta del Siglo 20 por el Comité Olímpico Internacion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ecorado Sir, por la Reina Elizabeth II, de Inglaterra; Embajador de laUnesc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ibió homenajes en más de 30 pais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1977 ganó el diploma de Ciudadano del Mundo en la ONU. Fue Ministro de Deportes em Brasil entre los años de 1995 y 1998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uera del campo – Maradona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1905120" y="990720"/>
            <a:ext cx="2286000" cy="28000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5257800" y="990720"/>
            <a:ext cx="2286000" cy="280008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533520" y="4191120"/>
            <a:ext cx="7102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 dos ocasiones ha sido internado por uso de drogas, ninguno contrato de patrocion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uriosidades sobre Pelé: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r causa de Pelé, Santos llegó a jugar 22 partidos en 30 días, creando la ley de las 72 horas entre un partido y otr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A tuvo que cambiar la regla del penal por la “paradinha” que el Rey cre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butó profesionalmente a los 15 años, a los 16 en la selección, con 17 era Campeón del Mundo y a los 21 años y 10 meses hacia su gol número 50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Conclusión: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Comparar a Pelé con Maradona solo puede ser cosa de argentinos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3657600" y="4876920"/>
            <a:ext cx="213660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lé a los 17 añ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mpeón Mund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n figura del Mundial de Sue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4724280" y="3657600"/>
            <a:ext cx="3810240" cy="25225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380880" y="2514600"/>
            <a:ext cx="3571920" cy="23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radona a los 17 añ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stituido en el Mundial de Argentina de 1978 por Menot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1244520" y="1981080"/>
            <a:ext cx="26910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lé a los 2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los 21 años, Pelé ya había hecho más de 500 goles en una época en que no existía tarjeta amaril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seguida se corona Bicampeón Mundial de Clubes 1962-196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685800" y="2610000"/>
            <a:ext cx="380988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radona a los 21 añ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uega en el Mundial de España sin ningún brill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 expulsado contra Brasil por una falta violenta contra Batis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947880" y="1981080"/>
            <a:ext cx="32842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lé a los 26 añ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iderado el Rey del Futbol - durante el Mundial de 1966 en Inglaterr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gun “Ratin” – defensor argentino – el mundial más violento de la histo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85800" y="2649600"/>
            <a:ext cx="3809880" cy="27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radona a los 26 añ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mpeón del Mundo por Argentin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iderado el mejor jugador de este mund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zo el famoso gol contra Inglaterra con ayuda de la “Mano de Dios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685800" y="2681280"/>
            <a:ext cx="38098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lé a los 30 añ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mpeón del mundo por la 3a. vez en Méx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n figura del mundial con 6 go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 19 de noviembre de 1969 hace su milésimo g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685800" y="2122560"/>
            <a:ext cx="3809880" cy="38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radona a los 30 añ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uega el mundial de Italia, sub-campeón mund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ulsado del futbol italiano por uso de drog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ga más de US$30,000  en multas por faltar a entrenamientos/jueg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1228680" y="1981080"/>
            <a:ext cx="27226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4T15:24:51Z</dcterms:created>
  <dc:creator> Leandro Medeiros</dc:creator>
  <dc:description/>
  <dc:language>en-US</dc:language>
  <cp:lastModifiedBy>jereynoso</cp:lastModifiedBy>
  <dcterms:modified xsi:type="dcterms:W3CDTF">2006-10-03T18:07:28Z</dcterms:modified>
  <cp:revision>33</cp:revision>
  <dc:subject/>
  <dc:title>Pele x Maradona</dc:title>
</cp:coreProperties>
</file>