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E57-6468-4740-96B8-C5F323D2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CEB-9D4D-4B87-91A3-EC24E67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180-06C2-49F8-8CE7-F889FBD4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C4D-C285-475B-A6AE-AF064F7E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086-5D83-4980-B7CF-A98988EC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AEE-5D24-4D39-8A13-44D5C6A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663-C7B5-4961-8FDD-FC28D3F4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333-25F2-4D98-A5E7-A71EFAC3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C60-8457-43CC-88E3-2416EA7F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440-D33D-4CD3-A105-1DE26CB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D44-EEAC-4A73-8E91-75EB02F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3FF-2551-4781-B769-961FEE0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0E8-81B8-4C98-93A0-9699B6417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EL COSTO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DE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SER </a:t>
            </a:r>
            <a:br>
              <a:rPr sz="5400"/>
            </a:br>
            <a:r>
              <a:rPr b="0" lang="es-UY" sz="5400" spc="-1" strike="noStrike">
                <a:solidFill>
                  <a:srgbClr val="ff66cc"/>
                </a:solidFill>
                <a:latin typeface="Monotype Corsiva"/>
              </a:rPr>
              <a:t>BON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800px-MasterCard_Logo.svg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590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ros   $25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1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Tattoo      $1500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Implantes de senos $25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n3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2485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Times New Roman"/>
              </a:rPr>
              <a:t>Maquilaje  $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n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4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5" descr=""/>
          <p:cNvPicPr/>
          <p:nvPr/>
        </p:nvPicPr>
        <p:blipFill>
          <a:blip r:embed="rId1"/>
          <a:stretch/>
        </p:blipFill>
        <p:spPr>
          <a:xfrm>
            <a:off x="2209680" y="0"/>
            <a:ext cx="4745160" cy="5791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imes New Roman"/>
              </a:rPr>
              <a:t>Pero olvidar  esconder las bolas... No tiene precio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5:54:08Z</dcterms:created>
  <dc:creator>El enfermo del Powerpoint</dc:creator>
  <dc:description/>
  <dc:language>en-US</dc:language>
  <cp:lastModifiedBy>cmusetti</cp:lastModifiedBy>
  <dcterms:modified xsi:type="dcterms:W3CDTF">2009-07-14T16:03:50Z</dcterms:modified>
  <cp:revision>2</cp:revision>
  <dc:subject/>
  <dc:title>El costo de ser bonita</dc:title>
</cp:coreProperties>
</file>