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Strauss-Vals-del-aniversario.wav" ContentType="audio/x-wav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8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5.jpeg" ContentType="image/jpeg"/>
  <Override PartName="/ppt/media/image15.gif" ContentType="image/gif"/>
  <Override PartName="/ppt/media/image43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C37-C07C-452A-8D02-C841B5FA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069-EE63-4781-BBB8-EB3861B1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31E-9392-400A-92BA-172C34D7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FFB-34D0-47B4-BD4D-2BF4D6C2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8C5-6031-446F-B412-B2473CF8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BD2-F942-40AA-828E-A380AFF0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C56-761E-4353-953C-10E23192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3E5-B565-4940-BB33-3BC1B092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B70-47E1-4E14-A97C-C5D13403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73A-C027-4B78-8ED1-4582DF19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125-C29B-4004-9AA3-9BB4666A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E2C-0074-48C0-9BE6-8343C53A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8112-BF7E-462E-B21B-0CCB398DFF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trauss-Vals-del-aniversario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p.rian.ru/photolents/20100527/126459049_11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image" Target="../media/image44.jpeg"/><Relationship Id="rId1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bbc.co.uk/news/10273272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44000" cy="898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63640" y="620640"/>
            <a:ext cx="56768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dwardian Script ITC"/>
              </a:rPr>
              <a:t>Teatro Colón de Buenos Aires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3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067280" y="62064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356000" y="404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692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Noche de g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96720" y="-328680"/>
            <a:ext cx="9937440" cy="751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Brillante reapertura del Teatro Colón de Argentina tras cuatro años de restauración. © RIA Novosti. Alexey Solovsky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64000" y="2060640"/>
            <a:ext cx="29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l proyecto incluyó una restauración completa para dejar el teatro como estaba en su inauguración, el 25 de mayo de 1908, pero dotado del más moderno equipamiento técnico y artístico.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236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7804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56360" y="836640"/>
            <a:ext cx="2592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Rounded MT Bold"/>
              </a:rPr>
              <a:t>Este magnífico teatro puede albergar a 2.500 personas y puede acomodar además a 500 espectadores de pi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Rounded MT Bold"/>
              </a:rPr>
              <a:t>Su telón histórico pesa 700 kilos y fue confeccionado en 1936.Su restauración demandó 5 meses de trabajo a 15 especialistas. Cada una de sus dos hojas mide 360 metros cuad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0"/>
            <a:ext cx="14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erlin Sans FB Demi"/>
              </a:rPr>
              <a:t>Salón    d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erlin Sans FB Demi"/>
              </a:rPr>
              <a:t>Salón</a:t>
            </a:r>
            <a:r>
              <a:rPr b="0" lang="es-ES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Berlin Sans FB Demi"/>
              </a:rPr>
              <a:t>de los bu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738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-117936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587700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erlin Sans FB Demi"/>
              </a:rPr>
              <a:t>Mide seis metros de diámetro y pesa 4.000 ki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3360"/>
            <a:ext cx="43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erlin Sans FB Demi"/>
              </a:rPr>
              <a:t>La cúpula contiene frescos pintados en 1966 por el renombrado artista argentino del siglo XX  Raúl Soldi</a:t>
            </a:r>
            <a:r>
              <a:rPr b="0" lang="es-ES" sz="2000" spc="-1" strike="noStrike">
                <a:solidFill>
                  <a:srgbClr val="ffffff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5661000"/>
            <a:ext cx="5185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Rounded MT Bold"/>
              </a:rPr>
              <a:t>Su Sala construida con curva "a la italiana", une  las dos características ideales;  la resonancia italiana y la claridad franc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2719440" cy="5616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64000" y="53006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Afiche reapertura del Teatro   Colón, 25 de mayo de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35280" y="549360"/>
            <a:ext cx="4969080" cy="46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427640" y="981000"/>
            <a:ext cx="432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Ceremonia oficial</a:t>
            </a:r>
            <a:r>
              <a:rPr b="0" lang="es-E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de reaper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843280" y="4705200"/>
            <a:ext cx="4968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Rounded MT Bold"/>
              </a:rPr>
              <a:t>Luciano Pavarotti decia --“Este Teatro tiene un grandísimo defecto. Su acústica y sonoridad son  perfectas, y eso  significa para un cantante de ópera que cualquier error por pequeño que sea se nota enseguida” 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77080" y="5877000"/>
            <a:ext cx="68904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468360" y="-652320"/>
            <a:ext cx="11593440" cy="7731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333360"/>
            <a:ext cx="62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Rounded MT Bold"/>
              </a:rPr>
              <a:t>Orquesta y coro de la “Scala di Milano”, en la primera de sus presentaciones en el Colón después de su reinauguración (29/08/2010), dirigidos esta vez por el maestro argentino-israelí Daniel Barenbo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1179720" cy="180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378080" cy="1511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26920" y="4508640"/>
            <a:ext cx="1900440" cy="234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620120" y="4584600"/>
            <a:ext cx="1523880" cy="2273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859280" y="4724280"/>
            <a:ext cx="1517760" cy="1773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012000" y="3500280"/>
            <a:ext cx="1380960" cy="151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95280" y="404640"/>
            <a:ext cx="1512720" cy="165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6156360" y="1700280"/>
            <a:ext cx="144612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132000" y="4724280"/>
            <a:ext cx="1698840" cy="2133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1763640" y="2421000"/>
            <a:ext cx="1217520" cy="1728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7885080" y="404640"/>
            <a:ext cx="1258920" cy="1495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2050920" y="692280"/>
            <a:ext cx="1224000" cy="1519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4572000" y="3213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287280" y="2133720"/>
            <a:ext cx="1314360" cy="208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7596360" y="2205000"/>
            <a:ext cx="1547640" cy="187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780000" y="404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os de los más pretigiosos artistas que pasaron por este tea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67640" y="4005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ul Hinde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6308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ia Plissetskay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nuel De F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88000" y="5661000"/>
            <a:ext cx="61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5013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rio 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3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.Nurey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43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ría /Ca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00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.Stra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3213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C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29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.Domi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.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6597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Zubin Meh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9337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nna Pavlo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06064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rico Car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6491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-Pavaro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3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.Del Mon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16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203640" y="6093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bc.co.uk/news/102732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7650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Lucida Calligraphy"/>
              </a:rPr>
              <a:t>Imágenes:</a:t>
            </a:r>
            <a:r>
              <a:rPr b="0" lang="es-ES" sz="1800" spc="-1" strike="noStrike">
                <a:solidFill>
                  <a:srgbClr val="ffffff"/>
                </a:solidFill>
                <a:latin typeface="Lucida Calligraphy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Lucida Calligraphy"/>
              </a:rPr>
              <a:t>de l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Lucida Calligraphy"/>
              </a:rPr>
              <a:t>Presentación:</a:t>
            </a:r>
            <a:r>
              <a:rPr b="0" lang="es-ES" sz="1800" spc="-1" strike="noStrike">
                <a:solidFill>
                  <a:srgbClr val="ffffff"/>
                </a:solidFill>
                <a:latin typeface="Lucida Calligraphy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Lucida Calligraphy"/>
              </a:rPr>
              <a:t>Norma Di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812000" y="5229360"/>
            <a:ext cx="13320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573408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Espectacular reapertura del Teatro Colón, proyectando en  su fachada imágenes que tienen que ver con sus 102 años de  v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56610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Una vista aérea del espectáculo que se realizó en el frente del Teatro Colón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476280"/>
            <a:ext cx="7128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Rounded MT Bold"/>
              </a:rPr>
              <a:t>Un violín proyectado digitalmente fue parte de la escenografía utilizada en la reaper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6443640" cy="590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16720" y="620640"/>
            <a:ext cx="262728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9:59:39Z</dcterms:created>
  <dc:creator>Norma</dc:creator>
  <dc:description/>
  <dc:language>en-US</dc:language>
  <cp:lastModifiedBy>Norma</cp:lastModifiedBy>
  <dcterms:modified xsi:type="dcterms:W3CDTF">2010-09-03T16:00:50Z</dcterms:modified>
  <cp:revision>84</cp:revision>
  <dc:subject/>
  <dc:title>Diapositiva 1</dc:title>
</cp:coreProperties>
</file>