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Strauss-Vals-del-aniversario.wav" ContentType="audio/x-wav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8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5.jpeg" ContentType="image/jpeg"/>
  <Override PartName="/ppt/media/image15.gif" ContentType="image/gif"/>
  <Override PartName="/ppt/media/image43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46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EDD2-2A11-4ECE-A380-7B4CEB00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1BAE-3742-4894-BF0C-C643D6B6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E03C-43EF-463C-9103-3FEE9EBC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E1DB-6700-4992-B106-924F5C1F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5D9F-33B6-45CD-8FE5-DF892915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FC12-CC00-4DC4-B207-4AE63DFB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A169-5280-4C9D-9F63-799B7B8B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1D2-0667-4A1E-B5D4-E3344B08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1F0D-CD7E-4F5C-B694-98953875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6FA0-43CE-4959-9FB3-E5391803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8DA-7346-487B-A9A7-CD41E0BA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6E34-0908-494F-BE18-419173F3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D684-205B-417B-81A1-6573694DFD9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trauss-Vals-del-aniversario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p.rian.ru/photolents/20100527/126459049_11.html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image" Target="../media/image41.jpeg"/><Relationship Id="rId13" Type="http://schemas.openxmlformats.org/officeDocument/2006/relationships/image" Target="../media/image42.png"/><Relationship Id="rId14" Type="http://schemas.openxmlformats.org/officeDocument/2006/relationships/image" Target="../media/image43.jpeg"/><Relationship Id="rId15" Type="http://schemas.openxmlformats.org/officeDocument/2006/relationships/image" Target="../media/image44.jpeg"/><Relationship Id="rId1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bbc.co.uk/news/10273272" TargetMode="External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44000" cy="8983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763640" y="620640"/>
            <a:ext cx="56768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dwardian Script ITC"/>
              </a:rPr>
              <a:t>Teatro Colón de Buenos Aires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Edwardian Script ITC"/>
              <a:ea typeface="Edwardian Script IT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03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067280" y="62064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356000" y="40464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69228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Rounded MT Bold"/>
              </a:rPr>
              <a:t>Noche de g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396720" y="-328680"/>
            <a:ext cx="9937440" cy="751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Brillante reapertura del Teatro Colón de Argentina tras cuatro años de restauración. © RIA Novosti. Alexey Solovsky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64000" y="2060640"/>
            <a:ext cx="2953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El proyecto incluyó una restauración completa para dejar el teatro como estaba en su inauguración, el 25 de mayo de 1908, pero dotado del más moderno equipamiento técnico y artístico.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236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24360" cy="7804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56360" y="836640"/>
            <a:ext cx="259236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Rounded MT Bold"/>
              </a:rPr>
              <a:t>Este magnífico teatro puede albergar a 2.500 personas y puede acomodar además a 500 espectadores de pi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Rounded MT Bold"/>
              </a:rPr>
              <a:t>Su telón histórico pesa 700 kilos y fue confeccionado en 1936.Su restauración demandó 5 meses de trabajo a 15 especialistas. Cada una de sus dos hojas mide 360 metros cuad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0"/>
            <a:ext cx="14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erlin Sans FB Demi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erlin Sans FB Demi"/>
              </a:rPr>
              <a:t>Salón    do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erlin Sans FB Demi"/>
              </a:rPr>
              <a:t>Salón</a:t>
            </a:r>
            <a:r>
              <a:rPr b="0" lang="es-ES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Berlin Sans FB Demi"/>
              </a:rPr>
              <a:t>de los bu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7389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-117936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59280" y="5877000"/>
            <a:ext cx="42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erlin Sans FB Demi"/>
              </a:rPr>
              <a:t>Mide seis metros de diámetro y pesa 4.000 ki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3360"/>
            <a:ext cx="43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erlin Sans FB Demi"/>
              </a:rPr>
              <a:t>La cúpula contiene frescos pintados en 1966 por el renombrado artista argentino del siglo XX  Raúl Soldi</a:t>
            </a:r>
            <a:r>
              <a:rPr b="0" lang="es-ES" sz="2000" spc="-1" strike="noStrike">
                <a:solidFill>
                  <a:srgbClr val="ffffff"/>
                </a:solidFill>
                <a:latin typeface="Berlin Sans FB Dem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5661000"/>
            <a:ext cx="5185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Su Sala construida con curva "a la italiana", une  las dos características ideales;  la resonancia italiana y la claridad franc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2719440" cy="5616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64000" y="5300640"/>
            <a:ext cx="46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Rounded MT Bold"/>
              </a:rPr>
              <a:t>Afiche reapertura del Teatro   Colón, 25 de mayo de 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635280" y="549360"/>
            <a:ext cx="4969080" cy="46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427640" y="981000"/>
            <a:ext cx="432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Rounded MT Bold"/>
              </a:rPr>
              <a:t>Ceremonia oficial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 Rounded MT Bold"/>
              </a:rPr>
              <a:t>de reaper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843280" y="4705200"/>
            <a:ext cx="4968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Rounded MT Bold"/>
              </a:rPr>
              <a:t>Luciano Pavarotti decia --“Este Teatro tiene un grandísimo defecto. Su acústica y sonoridad son  perfectas, y eso  significa para un cantante de ópera que cualquier error por pequeño que sea se nota enseguida” (19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877080" y="5877000"/>
            <a:ext cx="68904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468360" y="-652320"/>
            <a:ext cx="11593440" cy="7731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333360"/>
            <a:ext cx="62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Rounded MT Bold"/>
              </a:rPr>
              <a:t>Orquesta y coro de la “Scala di Milano”, en la primera de sus presentaciones en el Colón después de su reinauguración (29/08/2010), dirigidos esta vez por el maestro argentino-israelí Daniel Barenbo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348000" y="2637000"/>
            <a:ext cx="1179720" cy="1800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1378080" cy="1511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26920" y="4508640"/>
            <a:ext cx="1900440" cy="2349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620120" y="4584600"/>
            <a:ext cx="1523880" cy="2273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859280" y="4724280"/>
            <a:ext cx="1517760" cy="1773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6012000" y="3500280"/>
            <a:ext cx="1380960" cy="1513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95280" y="404640"/>
            <a:ext cx="1512720" cy="1657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6156360" y="1700280"/>
            <a:ext cx="1446120" cy="1584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132000" y="4724280"/>
            <a:ext cx="1698840" cy="2133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1763640" y="2421000"/>
            <a:ext cx="1217520" cy="1728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7885080" y="404640"/>
            <a:ext cx="1258920" cy="1495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2050920" y="692280"/>
            <a:ext cx="1224000" cy="1519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4572000" y="321300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>
            <a:off x="287280" y="2133720"/>
            <a:ext cx="1314360" cy="2087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5"/>
          <a:stretch/>
        </p:blipFill>
        <p:spPr>
          <a:xfrm>
            <a:off x="7596360" y="2205000"/>
            <a:ext cx="1547640" cy="1873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780000" y="4046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gunos de los más pretigiosos artistas que pasaron por este tea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67640" y="400536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ul Hinde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63086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ia Plissetskay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2000" y="6491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nuel De F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88000" y="5661000"/>
            <a:ext cx="61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04000" y="5013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rio L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43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.Nurey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4365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ría /Ca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00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.Stra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84720" y="3213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Carr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16360" y="2924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.Domi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1928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.Ber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6597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Zubin Meht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93372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nna Pavlo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06064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rico Caru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64911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-Pavaro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134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.Del Mon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16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203640" y="60930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bc.co.uk/news/102732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76500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Lucida Calligraphy"/>
              </a:rPr>
              <a:t>Imágenes:</a:t>
            </a:r>
            <a:r>
              <a:rPr b="0" lang="es-ES" sz="1800" spc="-1" strike="noStrike">
                <a:solidFill>
                  <a:srgbClr val="ffffff"/>
                </a:solidFill>
                <a:latin typeface="Lucida Calligraphy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Lucida Calligraphy"/>
              </a:rPr>
              <a:t>de la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Lucida Calligraphy"/>
              </a:rPr>
              <a:t>Presentación:</a:t>
            </a:r>
            <a:r>
              <a:rPr b="0" lang="es-ES" sz="1800" spc="-1" strike="noStrike">
                <a:solidFill>
                  <a:srgbClr val="ffffff"/>
                </a:solidFill>
                <a:latin typeface="Lucida Calligraphy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Lucida Calligraphy"/>
              </a:rPr>
              <a:t>Norma Di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812000" y="5229360"/>
            <a:ext cx="133200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573408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Rounded MT Bold"/>
              </a:rPr>
              <a:t>Espectacular reapertura del Teatro Colón, proyectando en  su fachada imágenes que tienen que ver con sus 102 años de  v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87280" y="566100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Rounded MT Bold"/>
              </a:rPr>
              <a:t>Una vista aérea del espectáculo que se realizó en el frente del Teatro Colón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476280"/>
            <a:ext cx="7128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Rounded MT Bold"/>
              </a:rPr>
              <a:t>Un violín proyectado digitalmente fue parte de la escenografía utilizada en la reaper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6443640" cy="5904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16720" y="620640"/>
            <a:ext cx="2627280" cy="54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19:59:39Z</dcterms:created>
  <dc:creator>Norma</dc:creator>
  <dc:description/>
  <dc:language>en-US</dc:language>
  <cp:lastModifiedBy>Norma</cp:lastModifiedBy>
  <dcterms:modified xsi:type="dcterms:W3CDTF">2010-09-03T16:00:50Z</dcterms:modified>
  <cp:revision>84</cp:revision>
  <dc:subject/>
  <dc:title>Diapositiva 1</dc:title>
</cp:coreProperties>
</file>