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Jardin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105-E539-42F6-B66D-A1C2DB36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DFD-D9B7-4FFE-82EE-FA919D0B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BE2-56C7-4F2E-9F54-56A649F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782-866A-429D-B49D-7EA02D77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96C-F668-4784-8BBB-349DDAF3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C552-4379-4305-B47E-A1C92F8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998-7108-41FD-9E95-2DBF2170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3082-4BA5-42B8-9C0C-D5FBD54D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6B2-BF83-4E9E-B65E-768F48D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321-8E1C-4402-B318-E9C3DD8A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8BCD-5C2B-4F9F-99E0-E65C4B5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067-8764-4E75-A5D7-27FD186C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0D74-A5DC-42D1-A642-665B2DA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35A4-A84C-46B1-81F6-DB7AC18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C255-A157-4B61-8E9E-8C73C0E6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155-9207-4277-8AF9-DA6716C4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B3E0-41B9-4EDB-9BB8-DF18EC77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715-6731-4915-8483-E010BF57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F33-9B69-4B41-98C3-CEB9C295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A66-962C-4FA6-BFA4-4BC2D48C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2CB-4E21-41A8-AFD5-1F691D6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451-9CAD-4407-9BFC-9F65450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DD3-E009-41C8-BACE-D6020BE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268-8302-44E7-85C0-41055F6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A431-67E9-45D7-A794-535CFBCF07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894D-B8A0-4567-B7D2-8F82F31C46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rd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64000" y="5877000"/>
            <a:ext cx="31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Bodoni MT"/>
                <a:ea typeface="Arial"/>
              </a:rPr>
              <a:t>Música Jardin.wa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148428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Test del Dr. Phi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2464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(El Dr. Phil obtuvo 55 puntos en este test                                             que hizo en el show de Oprah – ella obtuvo 38.)</a:t>
            </a: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diamond/>
    <p:sndAc>
      <p:stSnd>
        <p:snd r:embed="rId2" name="Jard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está relajado, Ud. se sienta..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on las rodillas dobladas y las pier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ien junt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con las piernas cruz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con las piernas estiradas o rec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una pierna doblada bajo su cuer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alguien es realmente divertid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d. responde con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una buena carcaja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una carcajada, pero no muy ruido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una risa silencio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una sonrisa tím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llega a una fiesta o a un ev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cial, U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hace una entrada ruidosa de modo 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odos lo not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hace una entrada tranquila, mirando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 alrededor para ver si encuentra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uien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hace una entrada muy silencios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ratando de pasar desapercib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609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Ud. está muy concentrado 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o especial y lo interrumpen, Ud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gradece la interrup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se siente muy irri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puede reaccionar de cualquiera de 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s for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8. ¿Cuál de los siguientes colores le gu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ás?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Rojo o anaranj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neg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amarillo o celes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ver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azul o mor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) blan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) marrón o gr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está en su cama a punto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rmirse, Ud. yace..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extendido de espal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xtendido boca 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 costado, algo enros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con la cabeza apoyada sobre un bra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 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con la cabeza bajo las cobij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menudo Ud. sueña que está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aye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peleando o luchando por alg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buscando algo o a algui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volando o flotando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normalmente no sueñ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) sus sueños siempre son agradabl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ntu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Ahora sume el total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de sus puntos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ÁS DE 60 PUNTOS: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gente lo ve a Ud. como una persona de la que deben cuidarse; lo consideran vanidoso, egoísta y extremadamente domi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tras personas quizá lo admiren, deseando parecerse un poco a Ud., aunque no siempre le tienen confianza y dudan en involucrarse completamente con U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unas personas pagan mucho dinero para hacer este te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¡Léalo, es muy interesant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¡Pero no sea muy sensi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resultados son bastante exactos y sólo le tomará 2 minu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1 A 60 PUNTO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gente considera que Ud. tiene una personalidad excitante, bastante volátil y muy impuls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ven como un líder natural, alguien que toma decisiones rápidas, aunque no siempre sean acertadas. Consideran que Ud. es osado y audaz, alguien que le gusta intentar, correr riesgos y disfrutar aventur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frutan su compañía por la emoción que Ud. irradia.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1 A 50 PUNTO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gente considera que Ud. es una persona vigorosa, animada, encantadora, divertida, práctica y siempre interesante; alguien que constantemente es el centro de atención, pero lo suficientemente bien equilibrado como para no pasar por encima de los dem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lo consideran buena gente, considerado y comprensivo; alguien que siempre los anima y los ayu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1 A 40 PUNTOS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demás consideran que Ud. es sensible, prudente, cuidadoso y práctico. Lo consideran inteligente, dotado o talentoso, pero modes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ven a Ud. como una persona que no hace amistad fácilmente ni rápidamente, pero que es muy leal a sus amigos y que espera la misma lealtad de parte de el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quellos que realmente lo conocen saben que a Ud. le toma mucho tiempo confiar en sus amigos, y que también le cuesta mucho a Ud. olvidar cuando traicionan su confianza.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1 A 30 PUNTOS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amigos lo consideran escrupuloso y nervioso. Lo ven como alguien muy prudente, extremadamente cuidadoso, una persona lenta y perseverante pero poco talento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almente todos se sorprenderían si Ud. hiciera algo impulsivamente o sin reflexionar, ya que esperan que Ud. examine todo cuidadosamente desde todos los ángulos antes de decid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iensan que Ud. reacciona de ese modo debido en parte al hecho de ser naturalmente muy cuidadoso.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NOS DE 21 PUNTO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gente piensa que Ud. es tímido, nervioso, indeciso y que necesita que lo cui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d. se muestra como alguien que siempre quiere que otros tomen sus decisiones y que no desea involucrarse con nadie ni con nad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ven como una persona constantemente preocupada y que ve problemas donde no los h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unos piensan que Ud. es aburrido y sólo aquellos que realmente lo conocen saben que no es así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2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hora envíe este mail a otros y ponga su puntaje en el </a:t>
            </a:r>
            <a:r>
              <a:rPr b="0" lang="es-ES" sz="4800" spc="-1" strike="noStrike" u="sng">
                <a:solidFill>
                  <a:srgbClr val="ffffff"/>
                </a:solidFill>
                <a:uFillTx/>
                <a:latin typeface="Arial"/>
              </a:rPr>
              <a:t>asunto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ga este test y envíelo a sus amigos, incluyendo a la persona que se lo envi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ersona que se lo envió ha puesto su puntaje en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su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l mensa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írvase hacer lo mismo antes de enviarlo a sus amig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respuestas deben ser sobre su vida actual… no de lo que Ud. fue en el pas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iste un lápiz y una hoja de pap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 es un test real utilizado actualmente por los departamentos de Relaciones Humanas de varias compañías importantes. Sirve para conocer mejor a los empleados actuales y futu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ólo son 10 preguntas simples, de modo que... Tome un lápiz y un papel, y anote sus respuesta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egúrese de cambiar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su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l mail con SU puntaje obteni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haya terminado, envíelo a todas las personas que conozca y también a la persona que se lo envi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imero, enumere del 1 al 10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en su hoja de papel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mpiece el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¿A qué hora se siente en todo su potencial?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en la maña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n la tarde y a primeras horas de la noch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bien entrada la noch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Normalmente Ud. camin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bastante rápido, con pasos larg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bastante rápido, con pasos peque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no muy rápido, con la cabeza levantad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irando a todos a la c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no muy rápido y agach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muy d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3. Cuando conversa, Ud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está de pie con los brazos cruzad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ene las manos cruzad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pone una o las dos manos en la ci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 en los bolsil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toca o empuja a su interlocu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se toca las orejas, la quijada o jue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su cabe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3:13:08Z</dcterms:created>
  <dc:creator>Jairo Pineda Noreña</dc:creator>
  <dc:description/>
  <dc:language>en-US</dc:language>
  <cp:lastModifiedBy>Jairo Pineda Noreña</cp:lastModifiedBy>
  <dcterms:modified xsi:type="dcterms:W3CDTF">2007-08-23T03:30:43Z</dcterms:modified>
  <cp:revision>1</cp:revision>
  <dc:subject/>
  <dc:title>Diapositiva 1</dc:title>
</cp:coreProperties>
</file>