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Jardin.wav" ContentType="audio/x-wav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65F-F4D8-4E3C-9AAD-1C1D499E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5AE-625D-4E73-ABDE-6F24D42F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99F6-97D5-4A86-B803-F63282D8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49C9-EB88-4C3B-83A9-DB7BAD46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707B-6171-45A1-9B8D-20690FBA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6472-C127-4A71-A9B6-4B09BD35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7842-D334-46CA-8B67-1A5CE49D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6707-97C9-4527-8136-F66C0C2E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32BA-0B61-4340-BFA3-23828DF6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13CE-7455-4CF2-8B1A-B99FD696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8D13-F447-4E87-958F-E3964B8C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BC2-2E2F-494C-AC76-46626B87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F1C2-528C-4EEB-B4D9-1817B661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1F60-CF1F-4831-A51B-34177B58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3E09-81C6-40DF-A48A-649B9EBD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2846-6AAF-441C-9BB5-EB703AA3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9D8A-90A1-47DB-8134-DB806E17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17F1-B43E-4571-ABBA-78EFD106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5DE-FCF0-421D-BAAA-D1BB92D5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94C6-2E3D-4659-98C6-F08A5FBD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A8AB-2CE1-4082-84C7-58AD3F7D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97F-E18E-46D2-A7F1-ECA11E84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ABD-9A13-4F19-8E6C-FD9F590A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9BE-3A81-41A0-9648-9D8F6794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D361-BD93-435F-BBCF-D6E881BF7C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66AA-2B0D-4F03-94D5-695A33917E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ardi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64000" y="5877000"/>
            <a:ext cx="3168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Bodoni MT"/>
                <a:ea typeface="Arial"/>
              </a:rPr>
              <a:t>Música Jardin.wa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1484280"/>
            <a:ext cx="619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Test del Dr. Phi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24648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Tahoma"/>
              </a:rPr>
              <a:t>(El Dr. Phil obtuvo 55 puntos en este test                                             que hizo en el show de Oprah – ella obtuvo 38.)</a:t>
            </a:r>
            <a:r>
              <a:rPr b="0" lang="es-CO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diamond/>
    <p:sndAc>
      <p:stSnd>
        <p:snd r:embed="rId2" name="Jard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ando está relajado, Ud. se sienta...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con las rodillas dobladas y las piern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ien junta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con las piernas cruzad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con las piernas estiradas o rect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) una pierna doblada bajo su cuerp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07732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ando alguien es realmente divertido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Ud. responde con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una buena carcajad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una carcajada, pero no muy ruidos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una risa silencios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) una sonrisa tími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ando llega a una fiesta o a un ev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ocial, Ud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hace una entrada ruidosa de modo 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odos lo note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hace una entrada tranquila, mirando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 alrededor para ver si encuentra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lguien conoc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hace una entrada muy silenciosa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ratando de pasar desapercib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160" y="60912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ando Ud. está muy concentrado 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lgo especial y lo interrumpen, Ud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agradece la interrup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se siente muy irrit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puede reaccionar de cualquiera de l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os for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1532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8. ¿Cuál de los siguientes colores le gu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ás?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Rojo o anaranjad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neg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amarillo o celes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) ver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) azul o morad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) blanc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g) marrón o gr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.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ando está en su cama a punto 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ormirse, Ud. yace..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extendido de espald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extendido boca 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de costado, algo enrosc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) con la cabeza apoyada sobre un braz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 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) con la cabeza bajo las cobija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.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 menudo Ud. sueña que está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cayend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peleando o luchando por alg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buscando algo o a alguie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) volando o flotando.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) normalmente no sueñ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) sus sueños siempre son agradable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untu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Ahora sume el total</a:t>
            </a:r>
            <a:br>
              <a:rPr sz="4400"/>
            </a:b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de sus puntos.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ÁS DE 60 PUNTOS: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gente lo ve a Ud. como una persona de la que deben cuidarse; lo consideran vanidoso, egoísta y extremadamente domina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Otras personas quizá lo admiren, deseando parecerse un poco a Ud., aunque no siempre le tienen confianza y dudan en involucrarse completamente con U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lgunas personas pagan mucho dinero para hacer este tes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¡Léalo, es muy interesant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¡Pero no sea muy sensib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s resultados son bastante exactos y sólo le tomará 2 minu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51 A 60 PUNTOS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gente considera que Ud. tiene una personalidad excitante, bastante volátil y muy impulsi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 ven como un líder natural, alguien que toma decisiones rápidas, aunque no siempre sean acertadas. Consideran que Ud. es osado y audaz, alguien que le gusta intentar, correr riesgos y disfrutar aventur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isfrutan su compañía por la emoción que Ud. irradia.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41 A 50 PUNTOS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gente considera que Ud. es una persona vigorosa, animada, encantadora, divertida, práctica y siempre interesante; alguien que constantemente es el centro de atención, pero lo suficientemente bien equilibrado como para no pasar por encima de los demá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mbién lo consideran buena gente, considerado y comprensivo; alguien que siempre los anima y los ayu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31 A 40 PUNTOS 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s demás consideran que Ud. es sensible, prudente, cuidadoso y práctico. Lo consideran inteligente, dotado o talentoso, pero modes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 ven a Ud. como una persona que no hace amistad fácilmente ni rápidamente, pero que es muy leal a sus amigos y que espera la misma lealtad de parte de el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quellos que realmente lo conocen saben que a Ud. le toma mucho tiempo confiar en sus amigos, y que también le cuesta mucho a Ud. olvidar cuando traicionan su confianza.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21 A 30 PUNTOS 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s amigos lo consideran escrupuloso y nervioso. Lo ven como alguien muy prudente, extremadamente cuidadoso, una persona lenta y perseverante pero poco talento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almente todos se sorprenderían si Ud. hiciera algo impulsivamente o sin reflexionar, ya que esperan que Ud. examine todo cuidadosamente desde todos los ángulos antes de decid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iensan que Ud. reacciona de ese modo debido en parte al hecho de ser naturalmente muy cuidadoso.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NOS DE 21 PUNTOS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gente piensa que Ud. es tímido, nervioso, indeciso y que necesita que lo cui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Ud. se muestra como alguien que siempre quiere que otros tomen sus decisiones y que no desea involucrarse con nadie ni con nada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 ven como una persona constantemente preocupada y que ve problemas donde no los h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lgunos piensan que Ud. es aburrido y sólo aquellos que realmente lo conocen saben que no es así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727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Ahora envíe este mail a otros y ponga su puntaje en el </a:t>
            </a:r>
            <a:r>
              <a:rPr b="0" lang="es-ES" sz="4800" spc="-1" strike="noStrike" u="sng">
                <a:solidFill>
                  <a:srgbClr val="ffffff"/>
                </a:solidFill>
                <a:uFillTx/>
                <a:latin typeface="Arial"/>
              </a:rPr>
              <a:t>asunto</a:t>
            </a: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aga este test y envíelo a sus amigos, incluyendo a la persona que se lo envi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persona que se lo envió ha puesto su puntaje en el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asunt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del mensa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írvase hacer lo mismo antes de enviarlo a sus amig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s respuestas deben ser sobre su vida actual… no de lo que Ud. fue en el pas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liste un lápiz y una hoja de pape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te es un test real utilizado actualmente por los departamentos de Relaciones Humanas de varias compañías importantes. Sirve para conocer mejor a los empleados actuales y futur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153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ólo son 10 preguntas simples, de modo que... Tome un lápiz y un papel, y anote sus respuesta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segúrese de cambiar el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asunt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del mail con SU puntaje obtenid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ando haya terminado, envíelo a todas las personas que conozca y también a la persona que se lo envi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Primero, enumere del 1 al 10</a:t>
            </a:r>
            <a:br>
              <a:rPr sz="4000"/>
            </a:b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en su hoja de papel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335232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Empiece el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51920" y="533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1. ¿A qué hora se siente en todo su potencial?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en la mañan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en la tarde y a primeras horas de la noch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bien entrada la noch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Normalmente Ud. camina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bastante rápido, con pasos larg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bastante rápido, con pasos pequeñ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no muy rápido, con la cabeza levantad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irando a todos a la ca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) no muy rápido y agach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) muy despac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3. Cuando conversa, Ud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está de pie con los brazos cruzad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tiene las manos cruzada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pone una o las dos manos en la cin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o en los bolsil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) toca o empuja a su interlocu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) se toca las orejas, la quijada o jueg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 su cabel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3:13:08Z</dcterms:created>
  <dc:creator>Jairo Pineda Noreña</dc:creator>
  <dc:description/>
  <dc:language>en-US</dc:language>
  <cp:lastModifiedBy>Jairo Pineda Noreña</cp:lastModifiedBy>
  <dcterms:modified xsi:type="dcterms:W3CDTF">2007-08-23T03:30:43Z</dcterms:modified>
  <cp:revision>1</cp:revision>
  <dc:subject/>
  <dc:title>Diapositiva 1</dc:title>
</cp:coreProperties>
</file>