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jpeg" ContentType="image/jpeg"/>
  <Override PartName="/ppt/media/image6.wmf" ContentType="image/x-wmf"/>
  <Override PartName="/ppt/media/image11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995-EB78-4E81-9BBD-EAAD20B1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D3B-4C27-4192-9E27-79386105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1BC-0B86-4711-8A58-F92904B7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78B-C09C-4754-91C0-4D4D9151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F6E-B6C9-43D3-85BA-43785B77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AD5-42C9-4A78-A619-01BB64CA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52D-2B06-4C5E-92F0-07FC4DCA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CD3-DFE8-4E51-8A08-D876DA7F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B5C-4CC1-4193-8D64-A9320946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54D-EBB6-4254-B69A-08AD410F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3F3-B3BB-4490-946F-AD4CB9BD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0FB7-BCA7-47EB-B5E3-F8D1F897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D7C0-C896-4A65-AAE5-2C28BFA76D95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38480" y="21333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6000" spc="-1" strike="noStrike">
                <a:solidFill>
                  <a:srgbClr val="000000"/>
                </a:solidFill>
                <a:latin typeface="Bliss"/>
              </a:rPr>
              <a:t>Alberto Dur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95280" y="3573000"/>
            <a:ext cx="4953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Bliss"/>
              </a:rPr>
              <a:t>Y su cuadrado mág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Dürer-008"/>
          <p:cNvPicPr/>
          <p:nvPr/>
        </p:nvPicPr>
        <p:blipFill>
          <a:blip r:embed="rId1"/>
          <a:stretch/>
        </p:blipFill>
        <p:spPr>
          <a:xfrm>
            <a:off x="533520" y="990720"/>
            <a:ext cx="3527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2362320" y="914400"/>
          <a:ext cx="4647960" cy="39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14400"/>
                    <a:ext cx="464796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 Box 3"/>
          <p:cNvSpPr/>
          <p:nvPr/>
        </p:nvSpPr>
        <p:spPr>
          <a:xfrm>
            <a:off x="2666880" y="53341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5 + 9 + 8 + 12 = 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2362320" y="990720"/>
          <a:ext cx="4495680" cy="38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90720"/>
                    <a:ext cx="449568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3"/>
          <p:cNvSpPr/>
          <p:nvPr/>
        </p:nvSpPr>
        <p:spPr>
          <a:xfrm>
            <a:off x="2362320" y="5257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3 + 2 + 15 + 14 = 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1066680" y="1447920"/>
          <a:ext cx="3276720" cy="281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3276720" cy="28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3"/>
          <p:cNvGraphicFramePr/>
          <p:nvPr/>
        </p:nvGraphicFramePr>
        <p:xfrm>
          <a:off x="4648320" y="1447920"/>
          <a:ext cx="3276360" cy="280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447920"/>
                    <a:ext cx="327636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4"/>
          <p:cNvSpPr/>
          <p:nvPr/>
        </p:nvSpPr>
        <p:spPr>
          <a:xfrm>
            <a:off x="900000" y="5013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También se cumple para las diagonales</a:t>
            </a: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1371600" y="1066680"/>
          <a:ext cx="312408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66680"/>
                    <a:ext cx="312408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3"/>
          <p:cNvGraphicFramePr/>
          <p:nvPr/>
        </p:nvGraphicFramePr>
        <p:xfrm>
          <a:off x="4724280" y="1077840"/>
          <a:ext cx="3124440" cy="2679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077840"/>
                    <a:ext cx="312444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4"/>
          <p:cNvSpPr/>
          <p:nvPr/>
        </p:nvSpPr>
        <p:spPr>
          <a:xfrm>
            <a:off x="1828800" y="42670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así siempre</a:t>
            </a: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: ¡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2590920" y="609480"/>
          <a:ext cx="3886200" cy="333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609480"/>
                    <a:ext cx="38862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4"/>
          <p:cNvSpPr/>
          <p:nvPr/>
        </p:nvSpPr>
        <p:spPr>
          <a:xfrm>
            <a:off x="92880" y="4653000"/>
            <a:ext cx="885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urero creó este cuadrado en 1514. La C de cuadrado es la 3ª le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el alfabeto y la D de Durero est la 4ª =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ürer-004"/>
          <p:cNvPicPr/>
          <p:nvPr/>
        </p:nvPicPr>
        <p:blipFill>
          <a:blip r:embed="rId1"/>
          <a:stretch/>
        </p:blipFill>
        <p:spPr>
          <a:xfrm>
            <a:off x="1143000" y="380880"/>
            <a:ext cx="4417920" cy="6062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5943600" y="380880"/>
            <a:ext cx="2971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¡Geni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urero estaba muy orgulloso de haber creado este cuad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¡Podía estarl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Dürer-004"/>
          <p:cNvPicPr/>
          <p:nvPr/>
        </p:nvPicPr>
        <p:blipFill>
          <a:blip r:embed="rId2"/>
          <a:srcRect l="22291" t="0" r="23833" b="53372"/>
          <a:stretch/>
        </p:blipFill>
        <p:spPr>
          <a:xfrm>
            <a:off x="6492960" y="3213000"/>
            <a:ext cx="1819080" cy="2160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943600" y="44197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ürer-00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62120" y="304920"/>
            <a:ext cx="4849560" cy="62118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5724360" y="2349360"/>
            <a:ext cx="319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A la derecha en la pared, el cuadrado mágico creado por Dur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ürer-002"/>
          <p:cNvPicPr/>
          <p:nvPr/>
        </p:nvPicPr>
        <p:blipFill>
          <a:blip r:embed="rId1"/>
          <a:stretch/>
        </p:blipFill>
        <p:spPr>
          <a:xfrm>
            <a:off x="838080" y="762120"/>
            <a:ext cx="2797200" cy="28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Object 4"/>
          <p:cNvGraphicFramePr/>
          <p:nvPr/>
        </p:nvGraphicFramePr>
        <p:xfrm>
          <a:off x="838080" y="3809880"/>
          <a:ext cx="2895840" cy="2482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809880"/>
                    <a:ext cx="289584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6"/>
          <p:cNvSpPr/>
          <p:nvPr/>
        </p:nvSpPr>
        <p:spPr>
          <a:xfrm>
            <a:off x="4211640" y="1052640"/>
            <a:ext cx="42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e parece a 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140360" y="38606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¿Y qué tiene de mág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¡El número 34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Este número es la suma de diferentes campos del cuad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5"/>
          <p:cNvGraphicFramePr/>
          <p:nvPr/>
        </p:nvGraphicFramePr>
        <p:xfrm>
          <a:off x="2340000" y="1052640"/>
          <a:ext cx="426708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052640"/>
                    <a:ext cx="42670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6"/>
          <p:cNvSpPr/>
          <p:nvPr/>
        </p:nvSpPr>
        <p:spPr>
          <a:xfrm>
            <a:off x="1110600" y="5562720"/>
            <a:ext cx="58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¡La suma de todas las filas es </a:t>
            </a: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5"/>
          <p:cNvGraphicFramePr/>
          <p:nvPr/>
        </p:nvGraphicFramePr>
        <p:xfrm>
          <a:off x="2209680" y="1143000"/>
          <a:ext cx="4194360" cy="35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143000"/>
                    <a:ext cx="419436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6"/>
          <p:cNvSpPr/>
          <p:nvPr/>
        </p:nvSpPr>
        <p:spPr>
          <a:xfrm>
            <a:off x="1613160" y="570708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¡La suma de todas las columnas es 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2286000" y="838080"/>
          <a:ext cx="4800600" cy="41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838080"/>
                    <a:ext cx="480060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4"/>
          <p:cNvSpPr/>
          <p:nvPr/>
        </p:nvSpPr>
        <p:spPr>
          <a:xfrm>
            <a:off x="1470600" y="5445000"/>
            <a:ext cx="68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¡La suma de las cuatro esquinas es </a:t>
            </a: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2286000" y="838080"/>
          <a:ext cx="4800600" cy="41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838080"/>
                    <a:ext cx="480060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4"/>
          <p:cNvSpPr/>
          <p:nvPr/>
        </p:nvSpPr>
        <p:spPr>
          <a:xfrm>
            <a:off x="826920" y="5373720"/>
            <a:ext cx="78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¡Si desplazamos los campos en el sentido de las agujas, la suma sigue siendo 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2209680" y="838080"/>
          <a:ext cx="4876920" cy="41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838080"/>
                    <a:ext cx="48769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4"/>
          <p:cNvSpPr/>
          <p:nvPr/>
        </p:nvSpPr>
        <p:spPr>
          <a:xfrm>
            <a:off x="22096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i los desplazamos de nuevo, la suma es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2286000" y="990720"/>
          <a:ext cx="4648320" cy="39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464832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4"/>
          <p:cNvSpPr/>
          <p:nvPr/>
        </p:nvSpPr>
        <p:spPr>
          <a:xfrm>
            <a:off x="1036800" y="5610240"/>
            <a:ext cx="70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¡La suma de los campos centrales es 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3:12:59Z</dcterms:created>
  <dc:creator>Domov</dc:creator>
  <dc:description/>
  <dc:language>en-US</dc:language>
  <cp:lastModifiedBy>Santiago</cp:lastModifiedBy>
  <dcterms:modified xsi:type="dcterms:W3CDTF">2011-04-16T18:32:59Z</dcterms:modified>
  <cp:revision>6</cp:revision>
  <dc:subject/>
  <dc:title>Albrecht Dürer</dc:title>
</cp:coreProperties>
</file>