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6C1-2233-40E7-9A79-FA5C3610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416-8588-4158-A95B-BC963FC0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92B-4EA1-428C-AF96-82B2CB07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2C6-E487-4E1E-B0CE-AD0B301E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7E4-3A88-4EE5-B64F-24FB9121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8F9-BBA0-4905-B6C5-1D75E872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EAE-5B36-441F-8D22-6295B4E6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92C-F5E6-4D32-9162-59F4F9EF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181-774D-4C09-9CCB-CCB1F783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B7B-12F2-4967-BFA7-81134786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E2F-B392-4FE9-8255-8CECDCAE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ADAA-7559-4DBD-9BA7-DE32FDF2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63CB-545D-4421-A481-5B8A6DC4C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4280"/>
            <a:ext cx="6480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ista aérea del Central Park  de New  Yor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34920" y="1413000"/>
            <a:ext cx="3430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El Peñón de Guatape, c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650 escalon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de desnive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de piedra, en Colomb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46536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34920" y="1846440"/>
            <a:ext cx="367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Estatuas má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altas que lo que se pensaba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en l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Islas de Pascu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708360" y="-1440"/>
            <a:ext cx="5472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240" y="44280"/>
            <a:ext cx="914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7.000 árboles plantados formando una guitarra, en una hacienda en Argenti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40" y="1368360"/>
            <a:ext cx="9140760" cy="5550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-15840"/>
            <a:ext cx="914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El caballo más bello del mun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5840" y="708120"/>
            <a:ext cx="9163080" cy="6176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572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Árbol con raíces contrafuertes - Costa 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36360" y="738360"/>
            <a:ext cx="9180360" cy="6119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34920" y="1569960"/>
            <a:ext cx="3049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Mercado de teléfonos móviles de segunda mano en Chi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08448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34920" y="1281240"/>
            <a:ext cx="3911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Barco dirigido por remolcador en 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Canal de Corinto en Greci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46680" y="-28440"/>
            <a:ext cx="5162400" cy="6886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1365120"/>
            <a:ext cx="9144000" cy="54928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0" y="44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Arial"/>
              </a:rPr>
              <a:t>Puente de Magdeburgo; coste 500 millones de €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Arial"/>
              </a:rPr>
              <a:t>6 años de trabajos; 918 metros, en Alemani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196640" y="115920"/>
            <a:ext cx="67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Alfombra de flores, en Brusela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36360" y="880920"/>
            <a:ext cx="9180360" cy="600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-17640" y="1378080"/>
            <a:ext cx="3754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¡Como si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una cabez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no fuese suficient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Ind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736800" y="-36360"/>
            <a:ext cx="5443560" cy="689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1962000"/>
            <a:ext cx="385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Arial"/>
              </a:rPr>
              <a:t>Limpiacristales en el Children's Hospital de U.S.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857760" y="0"/>
            <a:ext cx="532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061360" y="115920"/>
            <a:ext cx="50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Puente natural en Ind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035000"/>
            <a:ext cx="9144000" cy="5883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414600" y="-27000"/>
            <a:ext cx="5765760" cy="6918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41400" y="1601640"/>
            <a:ext cx="337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Vivir sobr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Arial"/>
              </a:rPr>
              <a:t>el precipic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2:56:53Z</dcterms:created>
  <dc:creator>Herve pour diaporamas-a-la-con.com</dc:creator>
  <dc:description/>
  <dc:language>en-US</dc:language>
  <cp:lastModifiedBy>Jose</cp:lastModifiedBy>
  <dcterms:modified xsi:type="dcterms:W3CDTF">2015-06-29T20:54:13Z</dcterms:modified>
  <cp:revision>14</cp:revision>
  <dc:subject/>
  <dc:title>08-Vous-ne-l'avez-probablement-jamais-vu</dc:title>
</cp:coreProperties>
</file>