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B39-25ED-4582-B150-293EB50E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355-FF77-4957-B264-E992165F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A80-B34A-4BA9-88B3-B435D7CE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B02-19B6-4CE2-8183-F1E43868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0B8-E9DC-46FF-8BEF-930D5549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4BB-903E-45F6-8758-93DBF7F0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289-6DE1-4D83-ABC2-9A2FBBA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1A6-3F20-4C6D-94BF-7D40D028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0FE-5515-40C0-ADD7-5B253F88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C69-1F95-4DD1-B57C-DD37F14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252-6C78-41A5-97C3-7D581CB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8F2-6717-49D0-AAAF-081DBA4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1FE5-BA11-4EBF-913E-B2F087890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4280"/>
            <a:ext cx="648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ta aérea del Central Park  de New  Y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4920" y="1413000"/>
            <a:ext cx="3430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l Peñón de Guatape, c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650 escalon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de desniv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de piedra, en Colo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4653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4920" y="1846440"/>
            <a:ext cx="367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statuas má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altas que lo que se pensaba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n l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Islas de Pascu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708360" y="-1440"/>
            <a:ext cx="5472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240" y="44280"/>
            <a:ext cx="914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7.000 árboles plantados formando una guitarra, en una hacienda en Argen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" y="1368360"/>
            <a:ext cx="9140760" cy="555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-15840"/>
            <a:ext cx="914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l caballo más bello 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5840" y="708120"/>
            <a:ext cx="9163080" cy="617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57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Árbol con raíces contrafuertes - Costa 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36360" y="738360"/>
            <a:ext cx="9180360" cy="611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4920" y="1569960"/>
            <a:ext cx="3049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ercado de teléfonos móviles de segunda mano en Ch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08448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4920" y="1281240"/>
            <a:ext cx="391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Barco dirigido por remolcador en 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Canal de Corinto en Greci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46680" y="-28440"/>
            <a:ext cx="516240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0" y="44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Puente de Magdeburgo; coste 500 millones de €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6 años de trabajos; 918 metros, en Alema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196640" y="115920"/>
            <a:ext cx="67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Alfombra de flores, en Brusel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6360" y="880920"/>
            <a:ext cx="9180360" cy="600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-17640" y="1378080"/>
            <a:ext cx="3754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¡Como s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una cabez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no fuese suficient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736800" y="-36360"/>
            <a:ext cx="5443560" cy="689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962000"/>
            <a:ext cx="38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Limpiacristales en el Children's Hospital de U.S.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857760" y="0"/>
            <a:ext cx="532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061360" y="115920"/>
            <a:ext cx="50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Puente natural e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035000"/>
            <a:ext cx="9144000" cy="5883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414600" y="-27000"/>
            <a:ext cx="5765760" cy="6918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41400" y="1601640"/>
            <a:ext cx="337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Vivir sob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l precipi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2:56:53Z</dcterms:created>
  <dc:creator>Herve pour diaporamas-a-la-con.com</dc:creator>
  <dc:description/>
  <dc:language>en-US</dc:language>
  <cp:lastModifiedBy>Jose</cp:lastModifiedBy>
  <dcterms:modified xsi:type="dcterms:W3CDTF">2015-06-29T20:54:13Z</dcterms:modified>
  <cp:revision>14</cp:revision>
  <dc:subject/>
  <dc:title>08-Vous-ne-l'avez-probablement-jamais-vu</dc:title>
</cp:coreProperties>
</file>