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7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Era-FlowersOfTheSeaDos.wav" ContentType="audio/x-wav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87E8-3EAF-4207-BFD5-961314A181B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DAD4-8108-4521-BD55-495CDCD8A04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3E6B-9ADC-4BF2-AA8A-09C5325B33B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7B13-90AB-4B79-8241-572B2FB474E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A92C-B11D-4E9F-BC24-66BF50DFB9C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6B86-6D4E-478D-BBC1-7A1DB572E14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FA4C-6D1A-4B98-A75E-77B16A97048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FA00-55F2-4BCF-B5A0-B8382A68489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053B-78E9-46B8-89D8-B8E18696CBA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BB23-F677-4216-B5CC-50BDCB74BE0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6602-94F7-4AD3-A674-12A261CC9EA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99AA-15EE-4D1B-B380-00AD6894276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BD77-7983-4993-A989-C84B3C7531F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6D0D-E423-4BC1-919E-FF395C2F506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243B-C1C8-4D9F-B16A-E956C273C44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7232-8ECC-46FF-9AB2-50A0F164E2A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AC2-CF0C-42F5-9936-B912B6A1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2C3-E68E-40B8-B653-4F99E2A7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BAC-1C88-47A1-B598-D9ECA8F8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606-B24F-4D41-93C3-DF6504CF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201-45B5-4A43-BBAD-55F5541D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89B-1DA2-4452-9D59-FDA4CD5B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715-FF87-4A17-9568-6E6B5B2F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07B-4B12-4004-A209-8003F277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BBE-F7D1-4D72-95A8-74554AEA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25A-741C-4C9E-820A-E8D71B08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D8A-2C80-4924-9B84-0FEE494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7DD-1E04-4BEF-8F58-D43BA09B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6880-E283-4244-B52F-075341664EA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ra-FlowersOfTheSeaDo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b/Khali_Gibran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gjg2"/>
          <p:cNvPicPr/>
          <p:nvPr/>
        </p:nvPicPr>
        <p:blipFill>
          <a:blip r:embed="rId1"/>
          <a:stretch/>
        </p:blipFill>
        <p:spPr>
          <a:xfrm>
            <a:off x="341280" y="347760"/>
            <a:ext cx="5035680" cy="6168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5551920" y="364320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BRAN KHALIL GIB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599440" y="4208400"/>
            <a:ext cx="27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oeta, Pintor, Novelista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Ensayista y Filóso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538960" y="492912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Becharré, Líbano (1883) -  N.Y. (193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551920" y="629604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Hacer click para avanz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Era-FlowersOfTheSeaD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6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245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5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3" name="Picture 3" descr="amaneciendo"/>
          <p:cNvPicPr/>
          <p:nvPr/>
        </p:nvPicPr>
        <p:blipFill>
          <a:blip r:embed="rId1"/>
          <a:srcRect l="0" t="0" r="0" b="3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2920" y="4429080"/>
            <a:ext cx="628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quero ve el blanco sobre el camino del infini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dobla con toda su fu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in de que sus flechas vayan veloces y lej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igura1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00240" y="642600"/>
            <a:ext cx="517536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hecho  de estar en manos del arquero 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 para su dicha, por que así como 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l ama la flecha que dispara, 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 también el arco que permanece  firme; 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sunrise in England"/>
          <p:cNvPicPr/>
          <p:nvPr/>
        </p:nvPicPr>
        <p:blipFill>
          <a:blip r:embed="rId1"/>
          <a:srcRect l="0" t="297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38480" y="71280"/>
            <a:ext cx="4077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eso ustedes tuvi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oportunidad de  vivir su vid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libertad de amar y hacer  su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jen que sus hijos vuelen solos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do cuando llegue la hora y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reclamen para que vuelv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ruma"/>
          <p:cNvPicPr/>
          <p:nvPr/>
        </p:nvPicPr>
        <p:blipFill>
          <a:blip r:embed="rId1">
            <a:lum bright="-10000"/>
          </a:blip>
          <a:srcRect l="0" t="448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928800" y="3941640"/>
            <a:ext cx="4429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os los  querrán  po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tendrán  también su ni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ual algún día, ellos solos quedará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fue su nido y su  vi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éjenlos  libr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washingtondc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685440" cy="7264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064880" y="1276200"/>
            <a:ext cx="365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menlos con liber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paguen el fuego de su hog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van y dejen  vivi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í ellos siempre los querrá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4071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F  I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upload.wikimedia.org/wikipedia/commons/8/85/KhalilGibranMemorial01.jpg"/>
          <p:cNvPicPr/>
          <p:nvPr/>
        </p:nvPicPr>
        <p:blipFill>
          <a:blip r:embed="rId1"/>
          <a:stretch/>
        </p:blipFill>
        <p:spPr>
          <a:xfrm>
            <a:off x="2635200" y="857160"/>
            <a:ext cx="3865680" cy="2898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0" y="5478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Adaptación original de Cristina Sáenz Enríqu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5857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Reedición cortesía de Carlos Ra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Santiago de Querétaro, Abr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21900"/>
                </a:solidFill>
                <a:latin typeface="Times New Roman"/>
                <a:ea typeface="Times New Roman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Imagen:Khali Gibr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52960" y="1054080"/>
            <a:ext cx="353700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3 Rectángulo"/>
          <p:cNvSpPr/>
          <p:nvPr/>
        </p:nvSpPr>
        <p:spPr>
          <a:xfrm>
            <a:off x="857160" y="993600"/>
            <a:ext cx="400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A los los 11 años, emigra con gran parte de su familia, a los Estados Unidos en busca de nuevas oportun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Su fama y su influenci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esparce por todo el or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Sus reflexiones y su poesía se han traducido a más de  veinte idiomas, y sus dibujos y pinturas se han expuesto en las grandes capitales del 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Durante esa estadía, le nace la idea de escribir un libro, que con el tiempo sería su obra cumbre: </a:t>
            </a: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l Profeta</a:t>
            </a:r>
            <a:r>
              <a:rPr b="0" lang="es-MX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0" y="492912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Se dice que en cierta ocas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una mujer que llevaba un niño en sus brazos, le di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d1d1f0"/>
                </a:solidFill>
                <a:latin typeface="Times New Roman"/>
                <a:ea typeface="Times New Roman"/>
              </a:rPr>
              <a:t>“</a:t>
            </a:r>
            <a:r>
              <a:rPr b="0" i="1" lang="pt-BR" sz="2000" spc="-1" strike="noStrike">
                <a:solidFill>
                  <a:srgbClr val="d1d1f0"/>
                </a:solidFill>
                <a:latin typeface="Times New Roman"/>
                <a:ea typeface="Times New Roman"/>
              </a:rPr>
              <a:t>Maestro, háblanos de los hijos” </a:t>
            </a:r>
            <a:r>
              <a:rPr b="0" lang="pt-BR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y él respondi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Imagem5"/>
          <p:cNvPicPr/>
          <p:nvPr/>
        </p:nvPicPr>
        <p:blipFill>
          <a:blip r:embed="rId1"/>
          <a:stretch/>
        </p:blipFill>
        <p:spPr>
          <a:xfrm>
            <a:off x="2300400" y="1571760"/>
            <a:ext cx="4543200" cy="296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cook islands prince"/>
          <p:cNvPicPr/>
          <p:nvPr/>
        </p:nvPicPr>
        <p:blipFill>
          <a:blip r:embed="rId1"/>
          <a:srcRect l="0" t="3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642960" y="4863960"/>
            <a:ext cx="407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hijos no son sus hijos.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hijos y las hijas de los anhelos que la vida tiene de si mism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1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9680" y="1053720"/>
            <a:ext cx="335772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nen a través de ustedes,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no de ustedes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unque vivan con ustedes,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es  pertenec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ook Islands"/>
          <p:cNvPicPr/>
          <p:nvPr/>
        </p:nvPicPr>
        <p:blipFill>
          <a:blip r:embed="rId1">
            <a:lum bright="-10000"/>
          </a:blip>
          <a:srcRect l="0" t="3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88748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14760" y="4863960"/>
            <a:ext cx="485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darles su am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no sus pensamien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s ellos tienen sus propios pensamient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142920" y="2714760"/>
            <a:ext cx="3000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uede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albergar sus cuerp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mas no sus alm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orque sus almas mo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en la casa del mañ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que ni aun en su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les será  dado visit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A_pássaros VERA"/>
          <p:cNvPicPr/>
          <p:nvPr/>
        </p:nvPicPr>
        <p:blipFill>
          <a:blip r:embed="rId1"/>
          <a:stretch/>
        </p:blipFill>
        <p:spPr>
          <a:xfrm>
            <a:off x="2050920" y="692280"/>
            <a:ext cx="4476960" cy="885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puerta"/>
          <p:cNvPicPr/>
          <p:nvPr/>
        </p:nvPicPr>
        <p:blipFill>
          <a:blip r:embed="rId2"/>
          <a:stretch/>
        </p:blipFill>
        <p:spPr>
          <a:xfrm>
            <a:off x="3224160" y="933480"/>
            <a:ext cx="4991040" cy="4991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1680" y="2857680"/>
            <a:ext cx="3429000" cy="32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“</a:t>
            </a: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ueden esforzarse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or ser como ellos,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mas no intenten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hacerlos como ustedes,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orque la vida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no marcha hacia atrás,</a:t>
            </a:r>
            <a:br>
              <a:rPr sz="2000"/>
            </a:br>
            <a:r>
              <a:rPr b="0" i="1" lang="es-MX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ni se detiene en el aye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200283387-001"/>
          <p:cNvPicPr/>
          <p:nvPr/>
        </p:nvPicPr>
        <p:blipFill>
          <a:blip r:embed="rId1"/>
          <a:stretch/>
        </p:blipFill>
        <p:spPr>
          <a:xfrm>
            <a:off x="285840" y="214200"/>
            <a:ext cx="4371840" cy="6359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245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54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0" name="Picture 3" descr="orillas del m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0" y="1308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i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stedes son  el 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 medio del cual sus h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n disparados  como flechas viva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23:09:39Z</dcterms:created>
  <dc:creator>Gibran Jalil Gibran, Adaptacion Cris</dc:creator>
  <dc:description/>
  <cp:keywords>makis_1943@hotmail.com</cp:keywords>
  <dc:language>en-US</dc:language>
  <cp:lastModifiedBy>Carlos Rangel</cp:lastModifiedBy>
  <dcterms:modified xsi:type="dcterms:W3CDTF">2008-04-05T00:48:39Z</dcterms:modified>
  <cp:revision>19</cp:revision>
  <dc:subject>REFLEXION SOBRE LOS HIJOS</dc:subject>
  <dc:title>GIBRAN JALIL GIBRAN</dc:title>
</cp:coreProperties>
</file>