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Era-FlowersOfTheSeaDos.wav" ContentType="audio/x-wav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DF06-79CF-46E8-8E93-15D33106099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D071-6E03-45C8-8724-943BF64188D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F75-CA02-4A61-BAF9-0001983F31A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1C54-AB5A-46B9-BA63-3BE69F3673B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8557-80F1-44B1-94B8-ECA0FE25B12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DD85-782F-4614-B283-2BA8AE5A695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BAD2-F339-45F7-B7DC-26AEC498F29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67E-2F2F-4AC0-BADA-EB16D63ABF3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520F-30D0-44FB-BDBC-BC3C1B82522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D4C-33E9-47F9-99B7-D65ADE45B50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83F-D644-4B12-8589-BCD99C2DF14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1264-42DB-4484-80CF-DFF42F1EE53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8C0A-3338-41B2-AD44-B00A85B0F08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1EE1-6B0E-4DE3-847D-46BE60DC64D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20B-7CDF-4F18-8A32-F92DA7F149E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2261-1915-4B17-B465-1A7B4131427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D51-598A-4E6E-BB31-D35C8B4C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278-CC51-4D5B-8105-F97C776B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064-2692-4989-95F9-00E4218C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094-578A-49EB-A93A-05D0C15D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8C5-E552-4436-AEAF-D1F7D98E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C06-924D-40F8-849A-F103B8F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F38-B0EE-4332-A1BB-C54ED9B7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694-8C7F-4659-A855-F6759453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387-4C0B-4CCB-B4C2-A7A648C3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FC4-96B0-4485-B819-344A68F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794-43AC-423F-97B1-4669B03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DA5-EA02-47CC-9A12-D844102B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1CBC-6CB8-42AC-9A07-119D809C18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a-FlowersOfTheSeaDo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b/Khali_Gibran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gjg2"/>
          <p:cNvPicPr/>
          <p:nvPr/>
        </p:nvPicPr>
        <p:blipFill>
          <a:blip r:embed="rId1"/>
          <a:stretch/>
        </p:blipFill>
        <p:spPr>
          <a:xfrm>
            <a:off x="341280" y="347760"/>
            <a:ext cx="5035680" cy="6168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5551920" y="364320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BRAN KHALIL GIB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599440" y="4208400"/>
            <a:ext cx="27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eta, Pintor, Novelista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Ensayista y Filóso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538960" y="49291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Becharré, Líbano (1883) -  N.Y. (193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551920" y="629604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Hacer click para avan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Era-FlowersOfTheSeaD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6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245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5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3" name="Picture 3" descr="amaneciendo"/>
          <p:cNvPicPr/>
          <p:nvPr/>
        </p:nvPicPr>
        <p:blipFill>
          <a:blip r:embed="rId1"/>
          <a:srcRect l="0" t="0" r="0" b="3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2920" y="4429080"/>
            <a:ext cx="628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quero ve el blanco sobre el camino del infini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dobla con toda su 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in de que sus flechas vayan veloces y lej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igura1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00240" y="642600"/>
            <a:ext cx="517536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hecho  de estar en manos del arquero 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 para su dicha, por que así como 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l ama la flecha que dispara, 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 también el arco que permanece  firme;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unrise in England"/>
          <p:cNvPicPr/>
          <p:nvPr/>
        </p:nvPicPr>
        <p:blipFill>
          <a:blip r:embed="rId1"/>
          <a:srcRect l="0" t="297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38480" y="71280"/>
            <a:ext cx="4077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eso ustedes tuvi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oportunidad de  vivir su vid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libertad de amar y hacer  su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en que sus hijos vuelen solo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do cuando llegue la hora y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reclamen para que vuelv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ruma"/>
          <p:cNvPicPr/>
          <p:nvPr/>
        </p:nvPicPr>
        <p:blipFill>
          <a:blip r:embed="rId1">
            <a:lum bright="-10000"/>
          </a:blip>
          <a:srcRect l="0" t="448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928800" y="3941640"/>
            <a:ext cx="4429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os los  querrán  po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tendrán  también su ni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ual algún día, ellos solos quedará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fue su nido y su  v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éjenlos  libr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washingtondc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685440" cy="7264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064880" y="1276200"/>
            <a:ext cx="365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menlos con liber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paguen el fuego de su hog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van y dejen  viv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í ellos siempre los querrá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4071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F  I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upload.wikimedia.org/wikipedia/commons/8/85/KhalilGibranMemorial01.jpg"/>
          <p:cNvPicPr/>
          <p:nvPr/>
        </p:nvPicPr>
        <p:blipFill>
          <a:blip r:embed="rId1"/>
          <a:stretch/>
        </p:blipFill>
        <p:spPr>
          <a:xfrm>
            <a:off x="2635200" y="857160"/>
            <a:ext cx="3865680" cy="2898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0" y="5478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Adaptación original de Cristina Sáenz Enríqu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5857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Reedición cortesía de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Santiago de Querétaro, Abr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Imagen:Khali Gibr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52960" y="1054080"/>
            <a:ext cx="353700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3 Rectángulo"/>
          <p:cNvSpPr/>
          <p:nvPr/>
        </p:nvSpPr>
        <p:spPr>
          <a:xfrm>
            <a:off x="857160" y="993600"/>
            <a:ext cx="40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A los los 11 años, emigra con gran parte de su familia, a los Estados Unidos en busca de nuevas oportun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Su fama y su influenci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esparce por todo el or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Sus reflexiones y su poesía se han traducido a más de  veinte idiomas, y sus dibujos y pinturas se han expuesto en las grandes capitales del 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Durante esa estadía, le nace la idea de escribir un libro, que con el tiempo sería su obra cumbre: </a:t>
            </a: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l Profeta</a:t>
            </a:r>
            <a:r>
              <a:rPr b="0" lang="es-MX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0" y="492912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Se dice que en cierta ocas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una mujer que llevaba un niño en sus brazos, le di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d1d1f0"/>
                </a:solidFill>
                <a:latin typeface="Times New Roman"/>
                <a:ea typeface="Times New Roman"/>
              </a:rPr>
              <a:t>“</a:t>
            </a:r>
            <a:r>
              <a:rPr b="0" i="1" lang="pt-BR" sz="2000" spc="-1" strike="noStrike">
                <a:solidFill>
                  <a:srgbClr val="d1d1f0"/>
                </a:solidFill>
                <a:latin typeface="Times New Roman"/>
                <a:ea typeface="Times New Roman"/>
              </a:rPr>
              <a:t>Maestro, háblanos de los hijos” </a:t>
            </a:r>
            <a:r>
              <a:rPr b="0" lang="pt-B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y él respond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Imagem5"/>
          <p:cNvPicPr/>
          <p:nvPr/>
        </p:nvPicPr>
        <p:blipFill>
          <a:blip r:embed="rId1"/>
          <a:stretch/>
        </p:blipFill>
        <p:spPr>
          <a:xfrm>
            <a:off x="2300400" y="1571760"/>
            <a:ext cx="4543200" cy="296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ook islands prince"/>
          <p:cNvPicPr/>
          <p:nvPr/>
        </p:nvPicPr>
        <p:blipFill>
          <a:blip r:embed="rId1"/>
          <a:srcRect l="0" t="3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642960" y="4863960"/>
            <a:ext cx="407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hijos no son sus hijos.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hijos y las hijas de los anhelos que la vida tiene de si mism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1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9680" y="1053720"/>
            <a:ext cx="335772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nen a través de ustedes,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no de ustedes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unque vivan con ustedes,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es  pertenec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ook Islands"/>
          <p:cNvPicPr/>
          <p:nvPr/>
        </p:nvPicPr>
        <p:blipFill>
          <a:blip r:embed="rId1">
            <a:lum bright="-10000"/>
          </a:blip>
          <a:srcRect l="0" t="3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88748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14760" y="4863960"/>
            <a:ext cx="485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darles su am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no sus pensamien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s ellos tienen sus propios pensamient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142920" y="2714760"/>
            <a:ext cx="3000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uede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albergar sus cuerp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mas no sus alm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rque sus almas m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en la casa del mañ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que ni aun en su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les será  dado visit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A_pássaros VERA"/>
          <p:cNvPicPr/>
          <p:nvPr/>
        </p:nvPicPr>
        <p:blipFill>
          <a:blip r:embed="rId1"/>
          <a:stretch/>
        </p:blipFill>
        <p:spPr>
          <a:xfrm>
            <a:off x="2050920" y="692280"/>
            <a:ext cx="4476960" cy="885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puerta"/>
          <p:cNvPicPr/>
          <p:nvPr/>
        </p:nvPicPr>
        <p:blipFill>
          <a:blip r:embed="rId2"/>
          <a:stretch/>
        </p:blipFill>
        <p:spPr>
          <a:xfrm>
            <a:off x="3224160" y="933480"/>
            <a:ext cx="4991040" cy="4991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1680" y="2857680"/>
            <a:ext cx="3429000" cy="32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“</a:t>
            </a: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ueden esforzarse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r ser como ellos,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mas no intenten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hacerlos como ustedes,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rque la vida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no marcha hacia atrás,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ni se detiene en el ay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200283387-001"/>
          <p:cNvPicPr/>
          <p:nvPr/>
        </p:nvPicPr>
        <p:blipFill>
          <a:blip r:embed="rId1"/>
          <a:stretch/>
        </p:blipFill>
        <p:spPr>
          <a:xfrm>
            <a:off x="285840" y="214200"/>
            <a:ext cx="4371840" cy="635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245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5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0" name="Picture 3" descr="orillas del m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0" y="1308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tedes son  el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 medio del cual sus h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n disparados  como flechas viv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23:09:39Z</dcterms:created>
  <dc:creator>Gibran Jalil Gibran, Adaptacion Cris</dc:creator>
  <dc:description/>
  <cp:keywords>makis_1943@hotmail.com</cp:keywords>
  <dc:language>en-US</dc:language>
  <cp:lastModifiedBy>Carlos Rangel</cp:lastModifiedBy>
  <dcterms:modified xsi:type="dcterms:W3CDTF">2008-04-05T00:48:39Z</dcterms:modified>
  <cp:revision>19</cp:revision>
  <dc:subject>REFLEXION SOBRE LOS HIJOS</dc:subject>
  <dc:title>GIBRAN JALIL GIBRAN</dc:title>
</cp:coreProperties>
</file>