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sound001.wav" ContentType="audio/x-wav"/>
  <Override PartName="/ppt/media/image9.jpeg" ContentType="image/jpeg"/>
  <Override PartName="/ppt/media/image11.jpeg" ContentType="image/jpeg"/>
  <Override PartName="/ppt/media/image8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10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jpeg" ContentType="image/jpe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B95-B618-4CFB-8725-D5892963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86F-A48A-4B11-82D2-41B0F68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981-5597-4649-89B1-8A4D4912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077-71AA-42BB-9AD6-8A751B75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7A5-4FDF-48BD-A1BC-F44EFBB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8AF-7902-4FEC-B2B2-B30D9D9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C45-F36A-4B1C-A9C8-0AFA9C66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CEF-0F4B-446D-9296-F21F3D5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564-ABB2-4469-9FAB-AD3C01E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FDB-05E1-42EC-893F-FCC7DEA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342-6852-4287-A406-02147B0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A12-0251-4B4A-A387-E26A2F4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ilás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Rosa 09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5E1-745F-43C3-9CBC-6DA5F5CE4D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268360" y="55897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¡¡Hoy me acordé de vos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87640" y="549360"/>
            <a:ext cx="28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Hola Amiga/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2340000" y="1484280"/>
            <a:ext cx="4032360" cy="4032360"/>
            <a:chOff x="2340000" y="1484280"/>
            <a:chExt cx="4032360" cy="4032360"/>
          </a:xfrm>
        </p:grpSpPr>
        <p:pic>
          <p:nvPicPr>
            <p:cNvPr id="46" name="Picture 9" descr="Child - Big Hat 02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03236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0"/>
            <p:cNvSpPr/>
            <p:nvPr/>
          </p:nvSpPr>
          <p:spPr>
            <a:xfrm>
              <a:off x="5003640" y="5157720"/>
              <a:ext cx="129564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ha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40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602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alegrí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uaqui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68360" y="587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quien no está entendiendo na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orriso"/>
          <p:cNvPicPr/>
          <p:nvPr/>
        </p:nvPicPr>
        <p:blipFill>
          <a:blip r:embed="rId1"/>
          <a:stretch/>
        </p:blipFill>
        <p:spPr>
          <a:xfrm>
            <a:off x="2195640" y="609480"/>
            <a:ext cx="4824360" cy="505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124000" y="5786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bien abiert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bylindo"/>
          <p:cNvPicPr/>
          <p:nvPr/>
        </p:nvPicPr>
        <p:blipFill>
          <a:blip r:embed="rId1"/>
          <a:stretch/>
        </p:blipFill>
        <p:spPr>
          <a:xfrm>
            <a:off x="684360" y="457200"/>
            <a:ext cx="7848360" cy="5564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84360" y="609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muy travies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rrisao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11280" y="609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ingenu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byfindyou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65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8360" y="6021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Y una con cara de quien se está preparand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reatbaby"/>
          <p:cNvPicPr/>
          <p:nvPr/>
        </p:nvPicPr>
        <p:blipFill>
          <a:blip r:embed="rId1"/>
          <a:stretch/>
        </p:blipFill>
        <p:spPr>
          <a:xfrm>
            <a:off x="539640" y="620640"/>
            <a:ext cx="792000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39640" y="60786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victori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reatsmile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40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11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pose para recordar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iso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32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11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de las más tiernas sonrisa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apeca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16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39640" y="61498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al despertar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143000" y="578952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... ¡¡Y me quedé muriendo de angustia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Child - Cheer Up 02"/>
          <p:cNvPicPr/>
          <p:nvPr/>
        </p:nvPicPr>
        <p:blipFill>
          <a:blip r:embed="rId1"/>
          <a:stretch/>
        </p:blipFill>
        <p:spPr>
          <a:xfrm>
            <a:off x="2124000" y="76500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migoss"/>
          <p:cNvPicPr/>
          <p:nvPr/>
        </p:nvPicPr>
        <p:blipFill>
          <a:blip r:embed="rId1"/>
          <a:stretch/>
        </p:blipFill>
        <p:spPr>
          <a:xfrm>
            <a:off x="611280" y="620640"/>
            <a:ext cx="7777080" cy="525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5934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amista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lores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5256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436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tími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68360" y="59500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malcriad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3" descr="girlinda"/>
          <p:cNvPicPr/>
          <p:nvPr/>
        </p:nvPicPr>
        <p:blipFill>
          <a:blip r:embed="rId1"/>
          <a:stretch/>
        </p:blipFill>
        <p:spPr>
          <a:xfrm>
            <a:off x="2340000" y="476280"/>
            <a:ext cx="47671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con la mira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3" descr="recemsmilepb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abylindo2"/>
          <p:cNvPicPr/>
          <p:nvPr/>
        </p:nvPicPr>
        <p:blipFill>
          <a:blip r:embed="rId1"/>
          <a:stretch/>
        </p:blipFill>
        <p:spPr>
          <a:xfrm>
            <a:off x="1979640" y="549360"/>
            <a:ext cx="4708440" cy="508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403280" y="5805360"/>
            <a:ext cx="57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711a7"/>
                </a:solidFill>
                <a:latin typeface="Comic Sans MS"/>
              </a:rPr>
              <a:t>  </a:t>
            </a:r>
            <a:r>
              <a:rPr b="0" lang="pt-BR" sz="3200" spc="-1" strike="noStrike">
                <a:solidFill>
                  <a:srgbClr val="b711a7"/>
                </a:solidFill>
                <a:latin typeface="Comic Sans MS"/>
              </a:rPr>
              <a:t>¿Quién resiste a todo esto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uaqui"/>
          <p:cNvPicPr/>
          <p:nvPr/>
        </p:nvPicPr>
        <p:blipFill>
          <a:blip r:embed="rId1"/>
          <a:stretch/>
        </p:blipFill>
        <p:spPr>
          <a:xfrm>
            <a:off x="1546200" y="1125360"/>
            <a:ext cx="6481800" cy="5089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539640" y="476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El stock terminó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68360" y="19162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71dc1"/>
                </a:solidFill>
                <a:latin typeface="Comic Sans MS"/>
              </a:rPr>
              <a:t>Espero que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71dc1"/>
                </a:solidFill>
                <a:latin typeface="Comic Sans MS"/>
              </a:rPr>
              <a:t>después de todo esto, vos sueltes aquella sonrisa..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5334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71dc1"/>
                </a:solidFill>
                <a:latin typeface="Comic Sans MS"/>
              </a:rPr>
              <a:t>¡¡¡Porque no hay sonrisa en el mund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71dc1"/>
                </a:solidFill>
                <a:latin typeface="Comic Sans MS"/>
              </a:rPr>
              <a:t>más bonita que la tuya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Uma piscadinha para você"/>
          <p:cNvPicPr/>
          <p:nvPr/>
        </p:nvPicPr>
        <p:blipFill>
          <a:blip r:embed="rId1"/>
          <a:stretch/>
        </p:blipFill>
        <p:spPr>
          <a:xfrm>
            <a:off x="1116000" y="549360"/>
            <a:ext cx="70563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362160" y="260280"/>
            <a:ext cx="84895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onseguiste sonreír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Yo creo que sin amigos perdemos una parte de la vid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711a7"/>
                </a:solidFill>
                <a:latin typeface="Comic Sans MS"/>
              </a:rPr>
              <a:t>Vos me importá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 es la semana nacional del cariño y debes enví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e mensaje a todos tus amigos diciéndoles cuá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os querés, haciendo que ellos se sientan bi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Y si al menos una vez ellos te reenvían el mensaj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gnifica que vos también sos importante para ell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andá este mensaje a todas las personas que conside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peciales. Si recibes este mensaje nuevamente s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ñal de que alguien también te quiere mucho. Ento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o te limites a retribuirlo y compartí tu felicidad c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o el mun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711a7"/>
                </a:solidFill>
                <a:latin typeface="Comic Sans MS"/>
              </a:rPr>
              <a:t>¡¡¡Que tengas una semana maravillosa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57200" y="5410080"/>
            <a:ext cx="82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Tuve ganas de ofrecerte esta florcita o de enviarte un mensaj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2124000" y="620640"/>
            <a:ext cx="4896000" cy="4560840"/>
            <a:chOff x="2124000" y="620640"/>
            <a:chExt cx="4896000" cy="4560840"/>
          </a:xfrm>
        </p:grpSpPr>
        <p:grpSp>
          <p:nvGrpSpPr>
            <p:cNvPr id="52" name="Group 10"/>
            <p:cNvGrpSpPr/>
            <p:nvPr/>
          </p:nvGrpSpPr>
          <p:grpSpPr>
            <a:xfrm>
              <a:off x="2124000" y="620640"/>
              <a:ext cx="4896000" cy="4560840"/>
              <a:chOff x="2124000" y="620640"/>
              <a:chExt cx="4896000" cy="4560840"/>
            </a:xfrm>
          </p:grpSpPr>
          <p:pic>
            <p:nvPicPr>
              <p:cNvPr id="53" name="Picture 7" descr="Child - Cheer Up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620640"/>
                <a:ext cx="4896000" cy="456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9"/>
              <p:cNvSpPr/>
              <p:nvPr/>
            </p:nvSpPr>
            <p:spPr>
              <a:xfrm>
                <a:off x="5724360" y="4980240"/>
                <a:ext cx="863640" cy="20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11"/>
            <p:cNvSpPr/>
            <p:nvPr/>
          </p:nvSpPr>
          <p:spPr>
            <a:xfrm>
              <a:off x="6156360" y="4779000"/>
              <a:ext cx="863640" cy="33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1692360" y="5950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ro vos merecés mucho má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1835280" y="620640"/>
            <a:ext cx="5040360" cy="5040360"/>
            <a:chOff x="1835280" y="620640"/>
            <a:chExt cx="5040360" cy="5040360"/>
          </a:xfrm>
        </p:grpSpPr>
        <p:pic>
          <p:nvPicPr>
            <p:cNvPr id="58" name="Picture 8" descr="Child - Best Friends"/>
            <p:cNvPicPr/>
            <p:nvPr/>
          </p:nvPicPr>
          <p:blipFill>
            <a:blip r:embed="rId1"/>
            <a:stretch/>
          </p:blipFill>
          <p:spPr>
            <a:xfrm>
              <a:off x="1835280" y="620640"/>
              <a:ext cx="50403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9"/>
            <p:cNvSpPr/>
            <p:nvPr/>
          </p:nvSpPr>
          <p:spPr>
            <a:xfrm>
              <a:off x="5364000" y="5229360"/>
              <a:ext cx="15116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5410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nsé en mandarte un caluroso abraz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4" descr="Child - Friendship 01"/>
          <p:cNvPicPr/>
          <p:nvPr/>
        </p:nvPicPr>
        <p:blipFill>
          <a:blip r:embed="rId1"/>
          <a:stretch/>
        </p:blipFill>
        <p:spPr>
          <a:xfrm>
            <a:off x="1979640" y="380880"/>
            <a:ext cx="4821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5486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ro vos merecés mucho má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Child - Big Hat"/>
          <p:cNvPicPr/>
          <p:nvPr/>
        </p:nvPicPr>
        <p:blipFill>
          <a:blip r:embed="rId1"/>
          <a:stretch/>
        </p:blipFill>
        <p:spPr>
          <a:xfrm>
            <a:off x="2916360" y="765000"/>
            <a:ext cx="30304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2071800"/>
            <a:ext cx="867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71dc1"/>
                </a:solidFill>
                <a:latin typeface="Comic Sans MS"/>
              </a:rPr>
              <a:t>Entonces decidí, además de enviarte unas flores y un caluroso abrazo, regalart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71dc1"/>
                </a:solidFill>
                <a:latin typeface="Comic Sans MS"/>
              </a:rPr>
              <a:t>algo así como.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orriso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524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9640" y="6093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espontáne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lores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38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46836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conquistador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21:13:05Z</dcterms:created>
  <dc:creator/>
  <dc:description/>
  <dc:language>en-US</dc:language>
  <cp:lastModifiedBy>Santiago Ferreyra</cp:lastModifiedBy>
  <dcterms:modified xsi:type="dcterms:W3CDTF">2008-10-05T04:20:15Z</dcterms:modified>
  <cp:revision>25</cp:revision>
  <dc:subject/>
  <dc:title>Slide 1</dc:title>
</cp:coreProperties>
</file>