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gif" ContentType="image/gif"/>
  <Override PartName="/ppt/media/image7.jpeg" ContentType="image/jpeg"/>
  <Override PartName="/ppt/media/image12.jpeg" ContentType="image/jpeg"/>
  <Override PartName="/ppt/media/jose%20luis%20perales%20-%20que%20canten%20los%20ni%C3%B1os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6D5-564A-41C9-A93E-166867AF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87D-850B-492A-AAFA-59192063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7E0-0AA3-4EAF-885E-B01D6FC1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612-20F8-4490-A5DC-72ABFA9C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F3C-E548-4A52-B7DB-49B8C56C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DAA-2C09-440C-BC85-2F3AFAD6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EA7-EB08-4655-8DB8-D8EF9B40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B47-FFC1-4963-8CD3-ECAA8A72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948-C857-460E-9E5D-2CC04DAF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DD6-5DC4-43C0-B510-9BEE094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E99-7388-4555-82C5-27537072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03C-BDC5-4623-9586-D3CB7C0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80B3-92D6-468D-BB59-FBBEDBAF7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audio" Target="../media/jose%20luis%20perales%20-%20que%20canten%20los%20ni&#241;o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203800"/>
            <a:ext cx="874800" cy="75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806400" cy="70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92360" y="393840"/>
            <a:ext cx="6400800" cy="64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nja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el chimpacé que rescató            a dos tigres blancos, como consecuencia del huracán Hann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que los separó de su mad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n Carolina del Su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 no solo juega con ellos, también les ayuda a dar el biberón, incluso ya ha criado a cachorros de un leopardo y de un león... a eso se le llama tener instinto maternal!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cen que una imagen vale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mil palabr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101080" y="3013200"/>
            <a:ext cx="831960" cy="83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524720" y="4581360"/>
            <a:ext cx="1150920" cy="115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79280" y="3009960"/>
            <a:ext cx="97164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042920" y="1773360"/>
            <a:ext cx="720720" cy="6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733760" cy="1733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561960"/>
            <a:ext cx="5292720" cy="5732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095880" y="2492280"/>
            <a:ext cx="2448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ANIMAL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CHAS VE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S DAN EJEMP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SENTIMIEN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TERNUR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1992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5640" y="363600"/>
            <a:ext cx="8172720" cy="61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640" y="363600"/>
            <a:ext cx="8172720" cy="61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669960"/>
            <a:ext cx="82566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7:36:46Z</dcterms:created>
  <dc:creator>MODIFICADO NSGEG 13.6</dc:creator>
  <dc:description/>
  <dc:language>en-US</dc:language>
  <cp:lastModifiedBy>pc</cp:lastModifiedBy>
  <dcterms:modified xsi:type="dcterms:W3CDTF">2009-05-05T16:40:33Z</dcterms:modified>
  <cp:revision>29</cp:revision>
  <dc:subject/>
  <dc:title>MAMA CHIMPANCE...</dc:title>
</cp:coreProperties>
</file>