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gif" ContentType="image/gif"/>
  <Override PartName="/ppt/media/image7.jpeg" ContentType="image/jpeg"/>
  <Override PartName="/ppt/media/image12.jpeg" ContentType="image/jpeg"/>
  <Override PartName="/ppt/media/jose%20luis%20perales%20-%20que%20canten%20los%20ni%C3%B1os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1C5-E38B-4F0D-9BE8-9E16659C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CF6-2D1F-4C9F-9B4F-18842FD7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B54-7F73-4149-8ED4-259EC251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8F6-2BF8-47C7-99FE-57963B13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770-561B-4F78-A404-E54FEBDF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436-C0FC-441F-A2A1-E6A06898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A4F4-56A3-4B88-9980-ADF15CE7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ACE-CC35-4647-82F4-CA2509E5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421-AFB6-4D17-87A5-0E001F70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C5A-7B46-410D-803B-3DDC6575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2B8-AF1E-4092-9BE0-A0FB93C6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E18-4B6B-4254-B51F-6D177C8D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1F39-49BB-40B2-9E5F-06714626B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audio" Target="../media/jose%20luis%20perales%20-%20que%20canten%20los%20ni&#241;os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1992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203800"/>
            <a:ext cx="874800" cy="75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806400" cy="70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92360" y="393840"/>
            <a:ext cx="6400800" cy="64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njan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, el chimpacé que rescató            a dos tigres blancos, como consecuencia del huracán Hann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que los separó de su mad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n Carolina del Su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 no solo juega con ellos, también les ayuda a dar el biberón, incluso ya ha criado a cachorros de un leopardo y de un león... a eso se le llama tener instinto maternal!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cen que una imagen vale m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mil palabra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101080" y="3013200"/>
            <a:ext cx="831960" cy="83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524720" y="4581360"/>
            <a:ext cx="1150920" cy="115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79280" y="3009960"/>
            <a:ext cx="97164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042920" y="1773360"/>
            <a:ext cx="720720" cy="6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948360" y="189000"/>
            <a:ext cx="1733760" cy="1733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561960"/>
            <a:ext cx="5292720" cy="5732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6095880" y="2492280"/>
            <a:ext cx="2448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S ANIMAL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CHAS VE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S DAN EJEMP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SENTIMIEN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TERNURA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19920" y="6248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5640" y="363600"/>
            <a:ext cx="8172720" cy="61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5640" y="363600"/>
            <a:ext cx="8172720" cy="61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669960"/>
            <a:ext cx="825660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7:36:46Z</dcterms:created>
  <dc:creator>MODIFICADO NSGEG 13.6</dc:creator>
  <dc:description/>
  <dc:language>en-US</dc:language>
  <cp:lastModifiedBy>pc</cp:lastModifiedBy>
  <dcterms:modified xsi:type="dcterms:W3CDTF">2009-05-05T16:40:33Z</dcterms:modified>
  <cp:revision>29</cp:revision>
  <dc:subject/>
  <dc:title>MAMA CHIMPANCE...</dc:title>
</cp:coreProperties>
</file>