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avdeRosyInstrumentalFPMorirDeAmor.wav" ContentType="audio/x-wav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3B21-BDDD-429B-8161-4A8F24D9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876C-1690-471D-8D31-CE800D27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B9C-D49D-45BA-B3A5-66952A11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0C4-35DD-4AFA-9B15-18438524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40A2-295E-4AD6-89B6-4DA492D5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8DD-3B51-4E36-8E56-ACC9DC13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82C-D2A6-4E5F-B140-4C8A5602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2D5-15BA-4850-84C8-10245A0F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BBB5-03D9-464D-8DF1-61325FFD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C00-4BFD-4C71-B232-3C292ABA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9E8-0C31-4CAA-8FF5-4228D6E8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A6E-5166-4296-8F6F-5DF8DD57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D3F0-826C-4EC9-95B8-263785A9C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avdeRosyInstrumentalFPMorirDeAmor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981000"/>
            <a:ext cx="720072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Ohhhhhhh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EL AMOR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24720" y="6453360"/>
            <a:ext cx="10666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utomático y Sonido</a:t>
            </a:r>
            <a:endParaRPr b="0" lang="en-US" sz="1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5000">
    <p:newsflash/>
    <p:sndAc>
      <p:stSnd>
        <p:snd r:embed="rId1" name="WavdeRosyInstrumentalFPMorirDeAm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700280"/>
            <a:ext cx="85838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 los 20 años, és …</a:t>
            </a: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M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ñana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M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edio día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y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S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iempre por las noch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00000" y="1052640"/>
            <a:ext cx="741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 los 40 años, és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M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rtes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M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iércoles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y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S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bad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2060640"/>
            <a:ext cx="8443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 los 60 años és …</a:t>
            </a: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M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rzo</a:t>
            </a: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M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yo</a:t>
            </a: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y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S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eptiembre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3026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y a los 80 años, és ...</a:t>
            </a: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M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is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M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ejores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S</a:t>
            </a: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ueños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3024360" cy="4381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3739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bbe0e3"/>
                </a:solidFill>
                <a:latin typeface="Berlin Sans FB Demi"/>
              </a:rPr>
              <a:t>El niño pregunta a su abuelito : </a:t>
            </a:r>
            <a:br>
              <a:rPr sz="4000"/>
            </a:br>
            <a:r>
              <a:rPr b="1" lang="fr-FR" sz="4000" spc="-1" strike="noStrike">
                <a:solidFill>
                  <a:srgbClr val="bbe0e3"/>
                </a:solidFill>
                <a:latin typeface="Berlin Sans FB Demi"/>
              </a:rPr>
              <a:t>- Dime abuelito, tu que tienes muchos años, que es para tí </a:t>
            </a:r>
            <a:br>
              <a:rPr sz="4000"/>
            </a:br>
            <a:r>
              <a:rPr b="1" lang="fr-FR" sz="4000" spc="-1" strike="noStrike">
                <a:solidFill>
                  <a:srgbClr val="bbe0e3"/>
                </a:solidFill>
                <a:latin typeface="Berlin Sans FB Demi"/>
              </a:rPr>
              <a:t>hacer el amor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84360" y="3284640"/>
            <a:ext cx="4103640" cy="3384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916280"/>
            <a:ext cx="914400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El abuelo de 80 años, responde:</a:t>
            </a:r>
            <a:br>
              <a:rPr sz="4800"/>
            </a:b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 és muy simple 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920" y="2060640"/>
            <a:ext cx="62323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 los 20 años,</a:t>
            </a: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és … MM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2000" y="2565360"/>
            <a:ext cx="5933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 los 40 años, </a:t>
            </a:r>
            <a:br>
              <a:rPr sz="4800"/>
            </a:b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és … MM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637000"/>
            <a:ext cx="593568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 los 60 años, </a:t>
            </a:r>
            <a:br>
              <a:rPr sz="4800"/>
            </a:b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és … MMS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066320"/>
            <a:ext cx="7702560" cy="48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y a los 80 años, </a:t>
            </a:r>
            <a:br>
              <a:rPr sz="4800"/>
            </a:b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és siempre … MMS.</a:t>
            </a: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773000"/>
            <a:ext cx="8785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Perooo…, </a:t>
            </a:r>
            <a:br>
              <a:rPr sz="4800"/>
            </a:b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Abuelito, tú me puedes explicar,</a:t>
            </a: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fr-FR" sz="4800" spc="-1" strike="noStrike">
                <a:solidFill>
                  <a:srgbClr val="ff0000"/>
                </a:solidFill>
                <a:latin typeface="Berlin Sans FB Demi"/>
              </a:rPr>
              <a:t>¿Que es MMS?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1368360" cy="2100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844704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¡ Por supuesto ! </a:t>
            </a:r>
            <a:br>
              <a:rPr sz="4800"/>
            </a:br>
            <a:r>
              <a:rPr b="1" lang="fr-FR" sz="4800" spc="-1" strike="noStrike">
                <a:solidFill>
                  <a:srgbClr val="bbe0e3"/>
                </a:solidFill>
                <a:latin typeface="Berlin Sans FB Demi"/>
              </a:rPr>
              <a:t>- responde el abuelo - 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3645000"/>
            <a:ext cx="2457360" cy="2724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8:50:19Z</dcterms:created>
  <dc:creator> philou</dc:creator>
  <dc:description/>
  <dc:language>en-US</dc:language>
  <cp:lastModifiedBy>JAZMIN</cp:lastModifiedBy>
  <dcterms:modified xsi:type="dcterms:W3CDTF">2008-08-08T21:41:26Z</dcterms:modified>
  <cp:revision>11</cp:revision>
  <dc:subject/>
  <dc:title>Love !!! </dc:title>
</cp:coreProperties>
</file>