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avdeRosyInstrumentalFPMorirDeAmor.wav" ContentType="audio/x-wav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555-3703-41FA-B808-AA2CDB00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E80-5686-4812-9123-79871306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F81-7C4F-469E-BCD6-9A544791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C41-8FEC-4E42-BCDE-F0DB9883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97A-3004-405D-A558-3FE4422D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74E-A2E5-4063-B5BA-B9D306C1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6DF-4F2D-4EBF-AF98-398CE58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549-B03A-455B-8138-246D31E1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A51-1356-4A78-8FAE-8A651770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906-1931-41BF-9D07-F74BECD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5FA-39F7-4F39-AB6B-C637D182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650-FBE2-4173-A924-39B9E2D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79FB-AD2D-4FBA-AFE6-675C8FD84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avdeRosyInstrumentalFPMorirDeAmo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981000"/>
            <a:ext cx="7200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Ohhhhhhh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EL AMOR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24720" y="6453360"/>
            <a:ext cx="1066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tomático y Sonido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newsflash/>
    <p:sndAc>
      <p:stSnd>
        <p:snd r:embed="rId1" name="WavdeRosyInstrumentalFPMorirDeAm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700280"/>
            <a:ext cx="85838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20 años, és …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ñana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edio día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S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iempre por las noch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0000" y="1052640"/>
            <a:ext cx="741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40 años, és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rte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iércole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S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bad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443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60 años és …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rzo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yo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S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eptiembre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 a los 80 años, és ...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i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ejore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S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ueño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024360" cy="4381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3739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be0e3"/>
                </a:solidFill>
                <a:latin typeface="Berlin Sans FB Demi"/>
              </a:rPr>
              <a:t>El niño pregunta a su abuelito : </a:t>
            </a:r>
            <a:br>
              <a:rPr sz="4000"/>
            </a:br>
            <a:r>
              <a:rPr b="1" lang="fr-FR" sz="4000" spc="-1" strike="noStrike">
                <a:solidFill>
                  <a:srgbClr val="bbe0e3"/>
                </a:solidFill>
                <a:latin typeface="Berlin Sans FB Demi"/>
              </a:rPr>
              <a:t>- Dime abuelito, tu que tienes muchos años, que es para tí </a:t>
            </a:r>
            <a:br>
              <a:rPr sz="4000"/>
            </a:br>
            <a:r>
              <a:rPr b="1" lang="fr-FR" sz="4000" spc="-1" strike="noStrike">
                <a:solidFill>
                  <a:srgbClr val="bbe0e3"/>
                </a:solidFill>
                <a:latin typeface="Berlin Sans FB Demi"/>
              </a:rPr>
              <a:t>hacer el amor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103640" cy="3384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El abuelo de 80 años, responde: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 és muy simple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2060640"/>
            <a:ext cx="62323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20 años,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és … MM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2565360"/>
            <a:ext cx="5933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40 años,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és … MM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59356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60 años,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és … MM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066320"/>
            <a:ext cx="770256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 a los 80 años,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és siempre … MMS.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Perooo…, 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buelito, tú me puedes explicar,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¿Que es MMS?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1368360" cy="2100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44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¡ Por supuesto ! 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- responde el abuelo -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2457360" cy="2724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8:50:19Z</dcterms:created>
  <dc:creator> philou</dc:creator>
  <dc:description/>
  <dc:language>en-US</dc:language>
  <cp:lastModifiedBy>JAZMIN</cp:lastModifiedBy>
  <dcterms:modified xsi:type="dcterms:W3CDTF">2008-08-08T21:41:26Z</dcterms:modified>
  <cp:revision>11</cp:revision>
  <dc:subject/>
  <dc:title>Love !!! </dc:title>
</cp:coreProperties>
</file>