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Hit%20The%20Road%20Jack3.wav" ContentType="audio/x-wav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588D-7C32-44F6-ADA8-49132A18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05E-7314-49FA-882A-AA95E63C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0AAF-EFFF-4F00-8DEC-3776A190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F0B-F233-4CB2-B909-CFA5C568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4F7-1C59-4CFC-B11D-7B64DBA5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1B8-1B62-4220-8A39-054F8628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1A83-0FB8-40F0-81B5-939F0137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4088-54DD-47AB-8022-6A9ED709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589A-89F4-4F77-9B5D-465148A8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FC76-5A41-47C8-B946-B87D96A3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506-F226-4C08-9F59-45B4B7F2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22C9-8414-4BF1-8AA3-3846A961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313D-15C0-4416-A219-FE5DFC433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Hit%20The%20Road%20Jack3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836640"/>
            <a:ext cx="6840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ffff00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nde cagavam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ffff00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ffff00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s brasileiros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ffff00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ffff00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lustres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ffff00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4000">
    <p:zoom dir="out"/>
    <p:sndAc>
      <p:stSnd>
        <p:snd r:embed="rId2" name="Hit%20The%20Road%20Jack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5118120"/>
            <a:ext cx="932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Latrina do Palácio do Catete - 1950 - Aqui cagaram Getúlio Vargas e Juscelino Kubitschek - Catete, R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5589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435640" y="0"/>
            <a:ext cx="3889440" cy="1125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000840" y="0"/>
            <a:ext cx="3143160" cy="55166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0" y="4510080"/>
            <a:ext cx="914400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qui ainda cagam e mijam Lula e seus assec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908000" y="1700280"/>
            <a:ext cx="3392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ivada Brasil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/>
          <p:nvPr/>
        </p:nvSpPr>
        <p:spPr>
          <a:xfrm>
            <a:off x="4643280" y="0"/>
            <a:ext cx="936720" cy="1052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491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antareira de casa colonial - Séc. XVIII - São Luís, Maranh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75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antareira - Séc. XVIII - Nela cagavam o Imperador D. Pedro II e sua Família - Museu Imperial, Petrópolis, R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3300"/>
                </a:solidFill>
                <a:latin typeface="Arial"/>
              </a:rPr>
              <a:t>Cantareira - Séc. XIX - Nela cagava o Visconde de Araruama - Fazenda Mato de Pipa - Quissamã, R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e está pensando nas contas e ela no feijão que queim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78000"/>
            <a:ext cx="9144000" cy="6480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404640"/>
            <a:ext cx="2268360" cy="122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333360"/>
            <a:ext cx="2124000" cy="122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4000" y="692280"/>
            <a:ext cx="65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Museu da Casa Brasileira, 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3360"/>
            <a:ext cx="226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adeira sanitária do Século X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99"/>
                </a:solidFill>
                <a:latin typeface="Arial"/>
              </a:rPr>
              <a:t>Privada “Hygiênica” de Rui Barbosa - 1893 - Aqui cagava o grande tribuno - Museu Casa de Rui Barbosa - Botafogo R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nheiro do Teatro Municipal - 1909 - Aqui cagava Olavo Bilac - Centro, R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Privada da Casa de Santos Dumont - 1918 - Aqui cagava o “Pai da Aviação” - Petrópolis, R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Banheiro do Solar Léa Pentagna - 1940 - Aqui cagaram Tom Jobim e Vinícius de Moraes - Valença, R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7:48:48Z</dcterms:created>
  <dc:creator>user</dc:creator>
  <dc:description/>
  <dc:language>en-US</dc:language>
  <cp:lastModifiedBy>user</cp:lastModifiedBy>
  <dcterms:modified xsi:type="dcterms:W3CDTF">2010-01-04T18:56:58Z</dcterms:modified>
  <cp:revision>2</cp:revision>
  <dc:subject/>
  <dc:title>Slide 1</dc:title>
</cp:coreProperties>
</file>