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Hit%20The%20Road%20Jack3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CDD-381C-4CCA-84D9-2C848478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B20-2EB7-44C9-98B6-1861A9BA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81E-8B78-4014-8228-22E7C227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B9C-F498-4E24-8E1E-80E680F7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0F1-2252-433E-B050-FBF79F47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2D8-46D4-4EEE-AA62-2A2317B0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308-3DE2-4CA2-9FA0-10BAB0DB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DDE-FACD-49A6-B0A3-D9B1499D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144-DC2C-4BD4-9A37-F618BD47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04D-CB2B-4E8C-8882-10113A9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B00-8F15-421E-82E5-596C6D48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8B2-A594-4A38-914E-886C7792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4D46-079D-4CAE-843D-F4953683D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Hit%20The%20Road%20Jack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836640"/>
            <a:ext cx="6840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ffff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nde cagavam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ffff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ffff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s brasileiros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ffff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ffff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ustres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ffff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4000">
    <p:zoom dir="out"/>
    <p:sndAc>
      <p:stSnd>
        <p:snd r:embed="rId2" name="Hit%20The%20Road%20Jack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118120"/>
            <a:ext cx="93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Latrina do Palácio do Catete - 1950 - Aqui cagaram Getúlio Vargas e Juscelino Kubitschek - Catete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5589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35640" y="0"/>
            <a:ext cx="3889440" cy="112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00840" y="0"/>
            <a:ext cx="3143160" cy="5516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0" y="4510080"/>
            <a:ext cx="914400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qui ainda cagam e mijam Lula e seus assec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08000" y="1700280"/>
            <a:ext cx="3392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ivada Brasil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0"/>
            <a:ext cx="936720" cy="1052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91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ntareira de casa colonial - Séc. XVIII - São Luís, Maranh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5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ntareira - Séc. XVIII - Nela cagavam o Imperador D. Pedro II e sua Família - Museu Imperial, Petrópolis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Cantareira - Séc. XIX - Nela cagava o Visconde de Araruama - Fazenda Mato de Pipa - Quissamã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 está pensando nas contas e ela no feijão que queim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04640"/>
            <a:ext cx="2268360" cy="12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333360"/>
            <a:ext cx="2124000" cy="12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4000" y="692280"/>
            <a:ext cx="65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Museu da Casa Brasileira,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3360"/>
            <a:ext cx="226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deira sanitária do Século X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99"/>
                </a:solidFill>
                <a:latin typeface="Arial"/>
              </a:rPr>
              <a:t>Privada “Hygiênica” de Rui Barbosa - 1893 - Aqui cagava o grande tribuno - Museu Casa de Rui Barbosa - Botafogo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nheiro do Teatro Municipal - 1909 - Aqui cagava Olavo Bilac - Centro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rivada da Casa de Santos Dumont - 1918 - Aqui cagava o “Pai da Aviação” - Petrópolis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anheiro do Solar Léa Pentagna - 1940 - Aqui cagaram Tom Jobim e Vinícius de Moraes - Valença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48:48Z</dcterms:created>
  <dc:creator>user</dc:creator>
  <dc:description/>
  <dc:language>en-US</dc:language>
  <cp:lastModifiedBy>user</cp:lastModifiedBy>
  <dcterms:modified xsi:type="dcterms:W3CDTF">2010-01-04T18:56:58Z</dcterms:modified>
  <cp:revision>2</cp:revision>
  <dc:subject/>
  <dc:title>Slide 1</dc:title>
</cp:coreProperties>
</file>