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jpeg" ContentType="image/jpeg"/>
  <Override PartName="/ppt/media/John%20Lennon%20-%20Stand%20By%20M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96F-2B2A-4A45-8818-DDC39BE3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464-1F7D-4B6F-B772-A274E347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DCE-BE49-45FC-B9E9-424078BA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437-7A18-4A06-BDA3-EA6CBF78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813-4A55-421B-8D02-6B7AFDF5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B94-3C2B-4A3A-8C05-C88B0048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F82-A87F-4153-910A-DC311567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5B8-7723-4835-906A-105B9BB7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280-EC1C-4E5A-A2E4-CAF3D95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53C-1B1A-4473-87AD-6FD6FA99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74C-B1FD-4B9D-8307-28B2EA45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E2E-0A69-4869-9E9F-0C9BE4F7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18C7-A9B9-4A27-98BF-1ED83F99F3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38F0-8A64-4E2E-B620-680561753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ohn%20Lennon%20-%20Stand%20By%20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88360" cy="4481280"/>
          </a:xfrm>
          <a:prstGeom prst="rect">
            <a:avLst/>
          </a:prstGeom>
          <a:ln w="0">
            <a:noFill/>
          </a:ln>
        </p:spPr>
      </p:pic>
      <p:sp>
        <p:nvSpPr>
          <p:cNvPr id="42" name="4 Rectángulo"/>
          <p:cNvSpPr/>
          <p:nvPr/>
        </p:nvSpPr>
        <p:spPr>
          <a:xfrm>
            <a:off x="900000" y="5157720"/>
            <a:ext cx="7488360" cy="137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LOS AÑOS QUE HAN PASADO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ANDO PODÍA HABLAR CORRIDITO                           SIN CAER EN LAGUNAS MENT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2" name="John%20Lennon%20-%20Stand%20By%20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256360"/>
          </a:xfrm>
          <a:prstGeom prst="rect">
            <a:avLst/>
          </a:prstGeom>
          <a:ln w="0">
            <a:noFill/>
          </a:ln>
        </p:spPr>
      </p:pic>
      <p:sp>
        <p:nvSpPr>
          <p:cNvPr id="60" name="2 Rectángulo"/>
          <p:cNvSpPr/>
          <p:nvPr/>
        </p:nvSpPr>
        <p:spPr>
          <a:xfrm>
            <a:off x="395280" y="4797360"/>
            <a:ext cx="8282160" cy="1800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LOS AÑOS QUE HE VIVIDO,                              POR LAS VIVENCIAS QUE HE TENIDO Y POR LOS AMIGOS QUE TENGO AUNQUE ESTAN IGUAL DE JODIDOS Y CADA DÍA MAS VIEJITOS COMO Y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5" descr="C:\Documents and Settings\Marcela Gómez\Configuración local\Archivos temporales de Internet\Content.IE5\TBMYP11Z\MP900407242[1]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1 Rectángulo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032000" cy="621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1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Rectángulo"/>
          <p:cNvSpPr/>
          <p:nvPr/>
        </p:nvSpPr>
        <p:spPr>
          <a:xfrm>
            <a:off x="1547640" y="3789360"/>
            <a:ext cx="59770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 COMO DIJO JOHN LENNON:                            DON'T LET ME DOWN !!!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STAND BY ME 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tor Descono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n 2" descr="C:\Documents and Settings\Marcela Gómez\Configuración local\Archivos temporales de Internet\Content.IE5\YUHYARZU\MC900239057[1].wmf"/>
          <p:cNvPicPr/>
          <p:nvPr/>
        </p:nvPicPr>
        <p:blipFill>
          <a:blip r:embed="rId1"/>
          <a:stretch/>
        </p:blipFill>
        <p:spPr>
          <a:xfrm>
            <a:off x="3203640" y="765000"/>
            <a:ext cx="2520720" cy="251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824360" cy="5975280"/>
          </a:xfrm>
          <a:prstGeom prst="rect">
            <a:avLst/>
          </a:prstGeom>
          <a:ln w="0">
            <a:noFill/>
          </a:ln>
        </p:spPr>
      </p:pic>
      <p:sp>
        <p:nvSpPr>
          <p:cNvPr id="44" name="2 Rectángulo"/>
          <p:cNvSpPr/>
          <p:nvPr/>
        </p:nvSpPr>
        <p:spPr>
          <a:xfrm>
            <a:off x="250920" y="1268280"/>
            <a:ext cx="3529080" cy="43135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LOS DÍAS CUANDO CAMINABA LIGERITO, SIN DOLOR EN LA ESPALDA,          NI EN LA RODILLA,           NI EN MIS MAN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824360" cy="5977080"/>
          </a:xfrm>
          <a:prstGeom prst="rect">
            <a:avLst/>
          </a:prstGeom>
          <a:ln w="0">
            <a:noFill/>
          </a:ln>
        </p:spPr>
      </p:pic>
      <p:sp>
        <p:nvSpPr>
          <p:cNvPr id="46" name="2 Rectángulo"/>
          <p:cNvSpPr/>
          <p:nvPr/>
        </p:nvSpPr>
        <p:spPr>
          <a:xfrm>
            <a:off x="5292720" y="836640"/>
            <a:ext cx="3564000" cy="478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AQUELLA CASA DE DOS PISOS EN LA QUE SIEMPRE VIVÍ Y EN LA QUE SUBÍA LAS ESCALERAS DE DOS EN DOS.....      Y LAS BAJABA DE  TRES EN T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539640" y="476280"/>
            <a:ext cx="806472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bfbf"/>
                </a:solidFill>
                <a:latin typeface="Calibri"/>
              </a:rPr>
              <a:t>BRINDO POR CUANDO ME SECABA MI PELITO                                   Y LO ACOMODABA COMO ME DABA LA GA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50" name="2 Rectángulo"/>
          <p:cNvSpPr/>
          <p:nvPr/>
        </p:nvSpPr>
        <p:spPr>
          <a:xfrm>
            <a:off x="0" y="5300640"/>
            <a:ext cx="9144000" cy="13737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ESOS MISMOS TIEMPOS CUANDO SALIÓ           EL CELULAR Y PODÍA MANDAR MENSAJITOS AL MISMO TIEMPO QUE HACIA OTRAS COS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"/>
          <p:cNvPicPr/>
          <p:nvPr/>
        </p:nvPicPr>
        <p:blipFill>
          <a:blip r:embed="rId1"/>
          <a:srcRect l="3302" t="3033" r="2937" b="2428"/>
          <a:stretch/>
        </p:blipFill>
        <p:spPr>
          <a:xfrm>
            <a:off x="4140360" y="404640"/>
            <a:ext cx="4752720" cy="6120000"/>
          </a:xfrm>
          <a:prstGeom prst="rect">
            <a:avLst/>
          </a:prstGeom>
          <a:ln w="0">
            <a:noFill/>
          </a:ln>
        </p:spPr>
      </p:pic>
      <p:sp>
        <p:nvSpPr>
          <p:cNvPr id="52" name="2 Rectángulo"/>
          <p:cNvSpPr/>
          <p:nvPr/>
        </p:nvSpPr>
        <p:spPr>
          <a:xfrm>
            <a:off x="179280" y="1268280"/>
            <a:ext cx="3816360" cy="43135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CUANDO ME LLEGABA UN MENSAJE AL CELULAR   Y NO TENÍA QUE SALIR CORRIENDO A BUSCAR LOS LENTES DE MIE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967280"/>
          </a:xfrm>
          <a:prstGeom prst="rect">
            <a:avLst/>
          </a:prstGeom>
          <a:ln w="0">
            <a:noFill/>
          </a:ln>
        </p:spPr>
      </p:pic>
      <p:sp>
        <p:nvSpPr>
          <p:cNvPr id="54" name="2 Rectángulo"/>
          <p:cNvSpPr/>
          <p:nvPr/>
        </p:nvSpPr>
        <p:spPr>
          <a:xfrm>
            <a:off x="468360" y="476280"/>
            <a:ext cx="8207280" cy="9471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CUANDO ESCUCHABA PERFECTAMENTE                     LO QUE DECÍAN EN LA MESA DE AL LAD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761080" cy="604836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6084720" y="404640"/>
            <a:ext cx="2843280" cy="5958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           LA TERCERA EDAD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E VAINA!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ELLA Y P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 CUARTA EDAD TAMBIEN Q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A LE ANDO PIS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S TAL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453564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468360" y="260280"/>
            <a:ext cx="8280360" cy="16480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INDO POR LAS MEDICINAS Y SUPLEMENTOS ALIMENTICIOS QUE ME TENGO QUE TRAGAR                      PARA TENER FUERZAS..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09:52Z</dcterms:created>
  <dc:creator>Dra. Marcela Edith Gómez Tovar</dc:creator>
  <dc:description/>
  <dc:language>en-US</dc:language>
  <cp:lastModifiedBy>OFICINA</cp:lastModifiedBy>
  <dcterms:modified xsi:type="dcterms:W3CDTF">2010-06-09T20:54:57Z</dcterms:modified>
  <cp:revision>10</cp:revision>
  <dc:subject/>
  <dc:title>Presentación de PowerPoint</dc:title>
</cp:coreProperties>
</file>