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342BC-5546-40C6-960C-9394095E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7517E-0BD1-45AD-8E8C-269DE4031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95728-F224-4850-9F7F-EAE0BDE48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EB5FD-5E10-4301-B172-0B90A6236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BC4EE-56DD-42EA-8717-FB5EED510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45FD6-5FFF-44F0-AFBD-6B3E1C737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D48AE-7FE7-4960-B950-2ACD0F647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D39C3-8CED-49E5-BD69-062526BEA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E3FA3-3828-4303-9794-B87A89AFD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8FC6B-BAC5-4FFE-8DFB-268BD9C73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F78B0-9D31-4D17-A594-D3797D9C1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228F0-28F7-4664-AE7C-7AD4B8301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5DDA3-8891-4A33-9CED-C97C01201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1BE1B-B309-4E23-A058-F1DB4DDBF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091CF-9752-4381-8CAA-29E4F95F0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31114-EEDB-48E7-938B-4C252C294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BF2FD-695B-49C8-9C77-3B21C5A5B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4C4FF0-76B8-48C1-8AFB-4E66C93641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469E04-46AF-4E29-88B3-DF7286EE7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E8C8FB-DA67-434E-ACDD-1586A33D3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1C2E5-D66A-4904-8923-1ACC8C7452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D50A2-5558-4F33-ABEC-A8BB1A1E19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FF348-4A5D-4EDA-823D-EF0BC532C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F30444-A361-46F9-9AEE-1824AE12A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CD5C7-AAC5-4337-A8C4-6B15B1D903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906E8-C95B-4508-BE06-08C9B9812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AF817-D0C1-4B96-872A-3AE480FBE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4A2178-CCC4-4FE7-809A-59D5D1AB0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174429-92D2-46C9-A058-36499C1978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77294D-7CC4-4396-8165-22CD3C3C27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81E169-439E-4827-A2F8-029558561C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C0175-5C57-4F68-831E-D57E0E219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1EEC94-4BC3-4130-81C7-971F80139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38B5B-AEAB-485F-ACA9-255BF5B77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F1238-C6F4-4C88-BD0A-AD337CE94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B99D2-93E9-45DA-9A80-05585235C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0A425-B49F-4444-802E-85F7A87E5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8C4E57-6B80-4BF4-B01F-D442AB19A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4CCF7-4758-41A4-A943-518F84715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AEB89-C87A-4B96-98A5-23057C3BC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902FC-5C41-4121-BA21-42E1CBE1D4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B1586D-3C9F-4F5E-8658-BAB2D84618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0A6192-738B-4F8A-9E44-2AB2491FF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84B4EA-AD98-44C7-81FB-7F22478BC5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C0B88-AD67-42C1-A059-95D1441E0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A4166-4C6C-4818-BC46-CC1710C4D2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AF177A-384C-456A-BF3A-8D85DAB53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C923E-728B-4357-B655-7A32B13E3D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B3FAB5-367B-4876-A2C0-52F738F32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28C69-8DC9-4F57-BB5C-4FB33E456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7A01C-F2CE-4330-BCE8-B1047FB2A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C6598-53E8-408B-B6A6-E7D4B1D07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D582D-3E11-4EE9-A6BB-E631A06A9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9F2CA0-1AFF-4629-AD8B-50EDD43C0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8D4AB0-F44C-43F4-A5E7-03C95EBE91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CAD86-E979-46CE-B0FF-5096FAB84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D8DECB-9898-4793-B446-AC499E6BA3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683073-83B8-4D94-A386-5575398008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A502B-367B-42E6-9C5D-851851789A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BF5B35-A1BD-4FF2-BDA7-B207A70096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3A601F-5A18-42EA-BBA9-121BDABAD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68C27-2D0F-4381-BD5A-4D6F44F338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189EC8-63D8-4853-AFCA-A13074EB21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FDAFD3-42D9-46A4-944E-B24D61AF0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BC95A-57F5-4EEF-9791-728583B2F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D5EAF-B4C0-4120-B3EE-BF14FEC864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1912-2950-459C-9F11-27D051C97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1C0DBD-D40C-4482-8322-859F3F28A7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AFE54E-1C87-4ABF-85AA-B464A13C7E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E34DC4-9E3C-4227-B6C5-320DA91C58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C2EB0A-2C6A-48A5-B186-0BBE35C45D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B9C104-1850-467C-BC15-59A4D24DE4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7691B7-4DF5-453F-B60A-7C84116893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A7D6B2-0C1D-457C-A672-0728EBA73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4C4AAA-BA3B-48C4-90C0-348D471593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73A6BE-A955-4BA1-B75A-9F3DA414F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CA56C-C172-46E9-8AED-F6BF2F91B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2ECFC-7DA6-44A8-A072-1445893C3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F85A91-88F5-4C78-8535-EC5C69140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D03A4-456A-4655-A623-DEA4A8DB2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94162E-A41F-4C35-A7D2-CC5D1F27F2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B6C5C9-B3EA-406B-980F-4819341DE0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C5A194-DC78-4392-B5DA-01DA9B1C9D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3A784-03FF-482F-941B-05ED7B175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CB05-F73D-48B0-8827-519899F8E69D}"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3080-26E5-4CAB-A7BF-CD6615995CF2}"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F047-FF15-48AC-AA59-6A977DEC61ED}"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6D31-E3F1-41A2-AE6E-6E70B613BDCA}"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61BE-30B3-436E-9E28-252F7FFF3CB1}"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EB8B-367E-4E11-B473-73AA3124C84F}"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ffffff"/>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3AC5-641D-44D4-8A64-F472D48DD21D}" type="slidenum">
              <a:rPr b="0" lang="es-ES" sz="1200" spc="-1" strike="noStrike">
                <a:solidFill>
                  <a:srgbClr val="ffff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6480" y="-6480"/>
            <a:ext cx="9156960" cy="6870960"/>
          </a:xfrm>
          <a:prstGeom prst="rect">
            <a:avLst/>
          </a:prstGeom>
          <a:ln w="0">
            <a:noFill/>
          </a:ln>
        </p:spPr>
      </p:pic>
      <p:sp>
        <p:nvSpPr>
          <p:cNvPr id="304" name="PlaceHolder 1"/>
          <p:cNvSpPr>
            <a:spLocks noGrp="1"/>
          </p:cNvSpPr>
          <p:nvPr>
            <p:ph type="subTitle"/>
          </p:nvPr>
        </p:nvSpPr>
        <p:spPr>
          <a:xfrm>
            <a:off x="685440" y="642600"/>
            <a:ext cx="8172360" cy="571500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000" spc="-1" strike="noStrike">
              <a:solidFill>
                <a:srgbClr val="ffffff"/>
              </a:solidFill>
              <a:latin typeface="Corbe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22" name="3 Marcador de contenido" descr="CARA.jpg"/>
          <p:cNvPicPr/>
          <p:nvPr/>
        </p:nvPicPr>
        <p:blipFill>
          <a:blip r:embed="rId1"/>
          <a:stretch/>
        </p:blipFill>
        <p:spPr>
          <a:xfrm>
            <a:off x="50760" y="428760"/>
            <a:ext cx="9093240" cy="6065640"/>
          </a:xfrm>
          <a:prstGeom prst="rect">
            <a:avLst/>
          </a:prstGeom>
          <a:ln w="0">
            <a:noFill/>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La piel presenta el aspecto exacto de una persona muerta hace una hora. El vientre, con la crucifixión , se hincha.</a:t>
            </a: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l brazo derecho dislocado al apoyarse el crucificado en él, durante el proceso de asfixia, en busca de aire. El pulgar de las manos está hacia dentro de la palma. Como reacción de un nervio cuando un objeto atraviesa la muñeca.</a:t>
            </a:r>
            <a:endParaRPr b="0" lang="en-US" sz="3200" spc="-1" strike="noStrike">
              <a:solidFill>
                <a:srgbClr val="ffffff"/>
              </a:solidFill>
              <a:latin typeface="Corbel"/>
            </a:endParaRPr>
          </a:p>
        </p:txBody>
      </p:sp>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26" name="3 Marcador de contenido" descr="VIENTRE.jpg"/>
          <p:cNvPicPr/>
          <p:nvPr/>
        </p:nvPicPr>
        <p:blipFill>
          <a:blip r:embed="rId1"/>
          <a:stretch/>
        </p:blipFill>
        <p:spPr>
          <a:xfrm>
            <a:off x="2571840" y="233280"/>
            <a:ext cx="4416480" cy="6624720"/>
          </a:xfrm>
          <a:prstGeom prst="rect">
            <a:avLst/>
          </a:prstGeom>
          <a:ln w="0">
            <a:noFill/>
          </a:ln>
        </p:spPr>
      </p:pic>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28" name="3 Marcador de contenido" descr="LATERAL IZQUIERDO.jpg"/>
          <p:cNvPicPr/>
          <p:nvPr/>
        </p:nvPicPr>
        <p:blipFill>
          <a:blip r:embed="rId1"/>
          <a:stretch/>
        </p:blipFill>
        <p:spPr>
          <a:xfrm>
            <a:off x="0" y="357120"/>
            <a:ext cx="9144000" cy="6100920"/>
          </a:xfrm>
          <a:prstGeom prst="rect">
            <a:avLst/>
          </a:prstGeom>
          <a:ln w="0">
            <a:noFill/>
          </a:ln>
        </p:spPr>
      </p:pic>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30" name="3 Marcador de contenido" descr="MANO DERECHA1.jpg"/>
          <p:cNvPicPr/>
          <p:nvPr/>
        </p:nvPicPr>
        <p:blipFill>
          <a:blip r:embed="rId1"/>
          <a:stretch/>
        </p:blipFill>
        <p:spPr>
          <a:xfrm>
            <a:off x="-28440" y="357120"/>
            <a:ext cx="9172440" cy="6120000"/>
          </a:xfrm>
          <a:prstGeom prst="rect">
            <a:avLst/>
          </a:prstGeom>
          <a:ln w="0">
            <a:noFill/>
          </a:ln>
        </p:spPr>
      </p:pic>
    </p:spTree>
  </p:cSld>
  <p:transition spd="slow">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32" name="3 Marcador de contenido" descr="MANO IZQUIERDA1.jpg"/>
          <p:cNvPicPr/>
          <p:nvPr/>
        </p:nvPicPr>
        <p:blipFill>
          <a:blip r:embed="rId1"/>
          <a:stretch/>
        </p:blipFill>
        <p:spPr>
          <a:xfrm>
            <a:off x="0" y="357120"/>
            <a:ext cx="9101160" cy="6072120"/>
          </a:xfrm>
          <a:prstGeom prst="rect">
            <a:avLst/>
          </a:prstGeom>
          <a:ln w="0">
            <a:noFill/>
          </a:ln>
        </p:spPr>
      </p:pic>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34" name="3 Marcador de contenido" descr="MANO IZQUIERDA2.jpg"/>
          <p:cNvPicPr/>
          <p:nvPr/>
        </p:nvPicPr>
        <p:blipFill>
          <a:blip r:embed="rId1"/>
          <a:stretch/>
        </p:blipFill>
        <p:spPr>
          <a:xfrm>
            <a:off x="0" y="285840"/>
            <a:ext cx="9144000" cy="6100560"/>
          </a:xfrm>
          <a:prstGeom prst="rect">
            <a:avLst/>
          </a:prstGeom>
          <a:ln w="0">
            <a:noFill/>
          </a:ln>
        </p:spPr>
      </p:pic>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36" name="3 Marcador de contenido" descr="MANO IZQUIERDA.jpg"/>
          <p:cNvPicPr/>
          <p:nvPr/>
        </p:nvPicPr>
        <p:blipFill>
          <a:blip r:embed="rId1"/>
          <a:stretch/>
        </p:blipFill>
        <p:spPr>
          <a:xfrm>
            <a:off x="0" y="428760"/>
            <a:ext cx="9144000" cy="6100560"/>
          </a:xfrm>
          <a:prstGeom prst="rect">
            <a:avLst/>
          </a:prstGeom>
          <a:ln w="0">
            <a:noFill/>
          </a:ln>
        </p:spPr>
      </p:pic>
    </p:spTree>
  </p:cSld>
  <p:transition spd="slow">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38"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Hay dos tipos de sangre en la talla, la previa a la muerte y la que sale postmorten. También se ha reflejado el plasma de la herida del costado. Lo han supervisado hematólogos. La piel de las rodillas está desollada por las caídas y la tortura. Hay granos de tierra incrustados en la carne, traída desde Jerusalén.</a:t>
            </a:r>
            <a:endParaRPr b="0" lang="en-US" sz="3200" spc="-1" strike="noStrike">
              <a:solidFill>
                <a:srgbClr val="ffffff"/>
              </a:solidFill>
              <a:latin typeface="Corbel"/>
            </a:endParaRPr>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40" name="3 Marcador de contenido" descr="COSTADO1.jpg"/>
          <p:cNvPicPr/>
          <p:nvPr/>
        </p:nvPicPr>
        <p:blipFill>
          <a:blip r:embed="rId1"/>
          <a:stretch/>
        </p:blipFill>
        <p:spPr>
          <a:xfrm>
            <a:off x="2500200" y="198360"/>
            <a:ext cx="4440240" cy="66596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5" name="1 Título" descr=""/>
          <p:cNvPicPr/>
          <p:nvPr/>
        </p:nvPicPr>
        <p:blipFill>
          <a:blip r:embed="rId1"/>
          <a:stretch/>
        </p:blipFill>
        <p:spPr>
          <a:xfrm>
            <a:off x="682560" y="3352680"/>
            <a:ext cx="8089920" cy="1683000"/>
          </a:xfrm>
          <a:prstGeom prst="rect">
            <a:avLst/>
          </a:prstGeom>
          <a:ln w="0">
            <a:noFill/>
          </a:ln>
        </p:spPr>
      </p:pic>
      <p:sp>
        <p:nvSpPr>
          <p:cNvPr id="306" name="PlaceHolder 1"/>
          <p:cNvSpPr>
            <a:spLocks noGrp="1"/>
          </p:cNvSpPr>
          <p:nvPr>
            <p:ph type="subTitle"/>
          </p:nvPr>
        </p:nvSpPr>
        <p:spPr>
          <a:xfrm>
            <a:off x="0" y="-360"/>
            <a:ext cx="9144000" cy="5072040"/>
          </a:xfrm>
          <a:prstGeom prst="rect">
            <a:avLst/>
          </a:prstGeom>
          <a:noFill/>
          <a:ln w="0">
            <a:noFill/>
          </a:ln>
        </p:spPr>
        <p:txBody>
          <a:bodyPr lIns="118800" rIns="457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Britannic Bold"/>
              </a:rPr>
              <a:t>El Cristo de la Hermandad Universitaria de Córdoba ha sido realizado por el escultor sevillano y catedrático de la Universidad de Sevilla, Juan Manuel Miñarro</a:t>
            </a:r>
            <a:endParaRPr b="0" lang="en-US" sz="4000" spc="-1" strike="noStrike">
              <a:solidFill>
                <a:srgbClr val="ffffff"/>
              </a:solidFill>
              <a:latin typeface="Corbel"/>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42" name="3 Marcador de contenido" descr="COSTADO.jpg"/>
          <p:cNvPicPr/>
          <p:nvPr/>
        </p:nvPicPr>
        <p:blipFill>
          <a:blip r:embed="rId1"/>
          <a:stretch/>
        </p:blipFill>
        <p:spPr>
          <a:xfrm>
            <a:off x="2643120" y="142920"/>
            <a:ext cx="4464000" cy="6696000"/>
          </a:xfrm>
          <a:prstGeom prst="rect">
            <a:avLst/>
          </a:prstGeom>
          <a:ln w="0">
            <a:noFill/>
          </a:ln>
        </p:spPr>
      </p:pic>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44" name="3 Marcador de contenido" descr="RODILLA.jpg"/>
          <p:cNvPicPr/>
          <p:nvPr/>
        </p:nvPicPr>
        <p:blipFill>
          <a:blip r:embed="rId1"/>
          <a:stretch/>
        </p:blipFill>
        <p:spPr>
          <a:xfrm>
            <a:off x="2928960" y="378000"/>
            <a:ext cx="4319640" cy="6480000"/>
          </a:xfrm>
          <a:prstGeom prst="rect">
            <a:avLst/>
          </a:prstGeom>
          <a:ln w="0">
            <a:noFill/>
          </a:ln>
        </p:spPr>
      </p:pic>
    </p:spTree>
  </p:cSld>
  <p:transition spd="slow">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46"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Las heridas reflejan la huella que dejan los látigos romanos de castigo, con bolas de metal astilladas en la punta para rasgar la carne. No hay zonas vitales con latigazos, ya que los verdugos guardaban estas áreas para que el reo no muriera en la tortura.</a:t>
            </a:r>
            <a:endParaRPr b="0" lang="en-US" sz="3200" spc="-1" strike="noStrike">
              <a:solidFill>
                <a:srgbClr val="ffffff"/>
              </a:solidFill>
              <a:latin typeface="Corbe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48" name="3 Marcador de contenido" descr="DETRAS.jpg"/>
          <p:cNvPicPr/>
          <p:nvPr/>
        </p:nvPicPr>
        <p:blipFill>
          <a:blip r:embed="rId1"/>
          <a:stretch/>
        </p:blipFill>
        <p:spPr>
          <a:xfrm>
            <a:off x="2286000" y="198360"/>
            <a:ext cx="4440240" cy="6659640"/>
          </a:xfrm>
          <a:prstGeom prst="rect">
            <a:avLst/>
          </a:prstGeom>
          <a:ln w="0">
            <a:noFill/>
          </a:ln>
        </p:spPr>
      </p:pic>
    </p:spTree>
  </p:cSld>
  <p:transition spd="slow">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l lado derecho del rostro está hinchado y amoratado tras la rotura del pómulo. La corona de espinas es de la misma especie vegetal palestina que los botánicos señalan. La lengua y los dedos del pie presentan un tono azulado, propios del fallo cardíaco.</a:t>
            </a:r>
            <a:endParaRPr b="0" lang="en-US" sz="3200" spc="-1" strike="noStrike">
              <a:solidFill>
                <a:srgbClr val="ffffff"/>
              </a:solidFill>
              <a:latin typeface="Corbel"/>
            </a:endParaRPr>
          </a:p>
        </p:txBody>
      </p:sp>
    </p:spTree>
  </p:cSld>
  <p:transition spd="slow">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52" name="3 Marcador de contenido" descr="OJO.jpg"/>
          <p:cNvPicPr/>
          <p:nvPr/>
        </p:nvPicPr>
        <p:blipFill>
          <a:blip r:embed="rId1"/>
          <a:stretch/>
        </p:blipFill>
        <p:spPr>
          <a:xfrm>
            <a:off x="42840" y="500040"/>
            <a:ext cx="9101160" cy="607212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54" name="3 Marcador de contenido" descr="PIES1.jpg"/>
          <p:cNvPicPr/>
          <p:nvPr/>
        </p:nvPicPr>
        <p:blipFill>
          <a:blip r:embed="rId1"/>
          <a:stretch/>
        </p:blipFill>
        <p:spPr>
          <a:xfrm>
            <a:off x="2214720" y="214200"/>
            <a:ext cx="4429080" cy="66438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56" name="3 Marcador de contenido" descr="PIES.jpg"/>
          <p:cNvPicPr/>
          <p:nvPr/>
        </p:nvPicPr>
        <p:blipFill>
          <a:blip r:embed="rId1"/>
          <a:stretch/>
        </p:blipFill>
        <p:spPr>
          <a:xfrm>
            <a:off x="2286000" y="108000"/>
            <a:ext cx="4500720" cy="6750000"/>
          </a:xfrm>
          <a:prstGeom prst="rect">
            <a:avLst/>
          </a:prstGeom>
          <a:ln w="0">
            <a:noFill/>
          </a:ln>
        </p:spPr>
      </p:pic>
    </p:spTree>
  </p:cSld>
  <p:transition spd="slow">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58"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Bajo la frase en hebrero, la traducción en griego y latín está escrita de derecha a izquierda, erros habitual de aquella época en esa zona. Tienes faltas de ortografía a propósito.</a:t>
            </a:r>
            <a:endParaRPr b="0" lang="en-US" sz="3200" spc="-1" strike="noStrike">
              <a:solidFill>
                <a:srgbClr val="ffffff"/>
              </a:solidFill>
              <a:latin typeface="Corbel"/>
            </a:endParaRPr>
          </a:p>
        </p:txBody>
      </p:sp>
    </p:spTree>
  </p:cSld>
  <p:transition spd="slow">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60" name="3 Marcador de contenido" descr="TABLA1.jpg"/>
          <p:cNvPicPr/>
          <p:nvPr/>
        </p:nvPicPr>
        <p:blipFill>
          <a:blip r:embed="rId1"/>
          <a:stretch/>
        </p:blipFill>
        <p:spPr>
          <a:xfrm>
            <a:off x="0" y="428760"/>
            <a:ext cx="9144000" cy="610056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08" name="3 Marcador de contenido" descr="ENTERO.jpg"/>
          <p:cNvPicPr/>
          <p:nvPr/>
        </p:nvPicPr>
        <p:blipFill>
          <a:blip r:embed="rId1"/>
          <a:srcRect l="0" t="-2660" r="0" b="0"/>
          <a:stretch/>
        </p:blipFill>
        <p:spPr>
          <a:xfrm>
            <a:off x="2735280" y="39600"/>
            <a:ext cx="4416480" cy="6800760"/>
          </a:xfrm>
          <a:prstGeom prst="rect">
            <a:avLst/>
          </a:prstGeom>
          <a:ln w="0">
            <a:noFill/>
          </a:ln>
        </p:spPr>
      </p:pic>
    </p:spTree>
  </p:cSld>
  <p:transition spd="slow">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62" name="3 Marcador de contenido" descr="TABLA.jpg"/>
          <p:cNvPicPr/>
          <p:nvPr/>
        </p:nvPicPr>
        <p:blipFill>
          <a:blip r:embed="rId1"/>
          <a:stretch/>
        </p:blipFill>
        <p:spPr>
          <a:xfrm>
            <a:off x="0" y="428760"/>
            <a:ext cx="9144000" cy="6100560"/>
          </a:xfrm>
          <a:prstGeom prst="rect">
            <a:avLst/>
          </a:prstGeom>
          <a:ln w="0">
            <a:noFill/>
          </a:ln>
        </p:spPr>
      </p:pic>
    </p:spTree>
  </p:cSld>
  <p:transition spd="slow">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64"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Fotos: José Luis Risoto Rojas</a:t>
            </a: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Textos: Diarios, A.B.C. y EL CORDOBA</a:t>
            </a: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c00000"/>
                </a:solidFill>
                <a:latin typeface="Britannic Bold"/>
              </a:rPr>
              <a:t>F I N</a:t>
            </a:r>
            <a:endParaRPr b="0" lang="en-US" sz="6000" spc="-1" strike="noStrike">
              <a:solidFill>
                <a:srgbClr val="ffffff"/>
              </a:solidFill>
              <a:latin typeface="Corbe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10" name=""/>
          <p:cNvSpPr txBox="1"/>
          <p:nvPr/>
        </p:nvSpPr>
        <p:spPr>
          <a:xfrm>
            <a:off x="457200" y="1357200"/>
            <a:ext cx="8229600" cy="50436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ste Cristo es el resultado del trabajo del grupo de científicos pluridisciplinar de investigación de la Síndone.</a:t>
            </a: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s el único Cristo sindónico del mundo y refleja hasta el mínimo detalle los politraumatismos del cadáver reflejado en la Sábana Santa de Turín.</a:t>
            </a:r>
            <a:endParaRPr b="0" lang="en-US" sz="3200" spc="-1" strike="noStrike">
              <a:solidFill>
                <a:srgbClr val="ffffff"/>
              </a:solidFill>
              <a:latin typeface="Corbel"/>
            </a:endParaRPr>
          </a:p>
        </p:txBody>
      </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La  imagen representa un cuerpo de 1,80 metros de alto, según los estudios de la Síndone de las universidades de Bolonia y Pavía. Los brazos y la cruz forman un ángulo de 65º. En él se reproduce con total exactitud las heridas del HOMBRE de la  Sábana Santa.</a:t>
            </a:r>
            <a:endParaRPr b="0" lang="en-US" sz="3200" spc="-1" strike="noStrike">
              <a:solidFill>
                <a:srgbClr val="ffffff"/>
              </a:solidFill>
              <a:latin typeface="Corbel"/>
            </a:endParaRPr>
          </a:p>
        </p:txBody>
      </p:sp>
    </p:spTree>
  </p:cSld>
  <p:transition spd="slow">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14" name="4 Marcador de contenido" descr="GetAttachment copia.jpg"/>
          <p:cNvPicPr/>
          <p:nvPr/>
        </p:nvPicPr>
        <p:blipFill>
          <a:blip r:embed="rId1"/>
          <a:srcRect l="0" t="-5660" r="0" b="-6605"/>
          <a:stretch/>
        </p:blipFill>
        <p:spPr>
          <a:xfrm>
            <a:off x="34920" y="14400"/>
            <a:ext cx="9086760" cy="6800760"/>
          </a:xfrm>
          <a:prstGeom prst="rect">
            <a:avLst/>
          </a:prstGeom>
          <a:ln w="0">
            <a:noFill/>
          </a:ln>
        </p:spPr>
      </p:pic>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16" name="3 Marcador de contenido" descr="MEDIO CUERPO1.jpg"/>
          <p:cNvPicPr/>
          <p:nvPr/>
        </p:nvPicPr>
        <p:blipFill>
          <a:blip r:embed="rId1"/>
          <a:stretch/>
        </p:blipFill>
        <p:spPr>
          <a:xfrm>
            <a:off x="2500200" y="162000"/>
            <a:ext cx="4464000" cy="6696000"/>
          </a:xfrm>
          <a:prstGeom prst="rect">
            <a:avLst/>
          </a:prstGeom>
          <a:ln w="0">
            <a:noFill/>
          </a:ln>
        </p:spPr>
      </p:pic>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sp>
        <p:nvSpPr>
          <p:cNvPr id="318" name=""/>
          <p:cNvSpPr txBox="1"/>
          <p:nvPr/>
        </p:nvSpPr>
        <p:spPr>
          <a:xfrm>
            <a:off x="0" y="0"/>
            <a:ext cx="9144000" cy="6858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Britannic Bold"/>
              </a:rPr>
              <a:t>En la cabeza, la corona de espinas, a modo de casco que cubre todo el cráneo, está hecha con “ziziphus jujuba”, una especie de espinas que no se doblan, y son con las que se cree que se hizo la de Cristo.</a:t>
            </a:r>
            <a:endParaRPr b="0" lang="en-US" sz="3200" spc="-1" strike="noStrike">
              <a:solidFill>
                <a:srgbClr val="ffffff"/>
              </a:solidFill>
              <a:latin typeface="Corbel"/>
            </a:endParaRPr>
          </a:p>
        </p:txBody>
      </p:sp>
    </p:spTree>
  </p:cSld>
  <p:transition spd="slow">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500" spc="-1" strike="noStrike">
              <a:solidFill>
                <a:srgbClr val="ffc800"/>
              </a:solidFill>
              <a:latin typeface="Corbel"/>
            </a:endParaRPr>
          </a:p>
        </p:txBody>
      </p:sp>
      <p:pic>
        <p:nvPicPr>
          <p:cNvPr id="320" name="3 Marcador de contenido" descr="CARA1.jpg"/>
          <p:cNvPicPr/>
          <p:nvPr/>
        </p:nvPicPr>
        <p:blipFill>
          <a:blip r:embed="rId1"/>
          <a:stretch/>
        </p:blipFill>
        <p:spPr>
          <a:xfrm>
            <a:off x="0" y="285840"/>
            <a:ext cx="9126360" cy="6089400"/>
          </a:xfrm>
          <a:prstGeom prst="rect">
            <a:avLst/>
          </a:prstGeom>
          <a:ln w="0">
            <a:noFill/>
          </a:ln>
        </p:spPr>
      </p:pic>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4:52:16Z</dcterms:created>
  <dc:creator>*</dc:creator>
  <dc:description/>
  <dc:language>en-US</dc:language>
  <cp:lastModifiedBy>*</cp:lastModifiedBy>
  <dcterms:modified xsi:type="dcterms:W3CDTF">2010-03-24T20:52:27Z</dcterms:modified>
  <cp:revision>23</cp:revision>
  <dc:subject/>
  <dc:title> EL CRISTO DE LA HERMANDAD UNIVERSITARIA DE CORDOBA</dc:title>
</cp:coreProperties>
</file>