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7AE4-2C87-4DEE-A858-E6B61588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9FB-8B77-4384-906C-FADF0DA3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E6AE-730D-45B0-990F-C1992D06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D0BC-B320-40B9-BEA8-05ECCABC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97D9-8FAC-4CC2-A57F-7F3D1B38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7DBF-7E65-476E-9596-1AC319AD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ACF-BF28-4C6C-B0E6-55626847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D4C-3F89-497F-85B4-2E586685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0C9-F62B-4E9A-A552-933450C7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5CD-F456-4A5D-A3AE-A0E48E51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1638-3912-4281-8160-F40FC3AF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791-229E-42FC-B706-0DA22599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6050-C4BE-4D2D-9303-73EA68BD2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e46c0a"/>
                </a:solidFill>
                <a:latin typeface="Calibri"/>
              </a:rPr>
              <a:t>« La hora 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Mira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4920" y="233208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ues ahora mira la foto completa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262080" y="0"/>
            <a:ext cx="861984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1258920" y="0"/>
            <a:ext cx="6622920" cy="995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2268360" y="0"/>
            <a:ext cx="456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268360" y="0"/>
            <a:ext cx="456408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ZoneTexte 4"/>
          <p:cNvSpPr/>
          <p:nvPr/>
        </p:nvSpPr>
        <p:spPr>
          <a:xfrm>
            <a:off x="755640" y="385272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Calibri"/>
              </a:rPr>
              <a:t>Cuando no es ‘la hora’, ¡NO ES LA HORA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268360" y="0"/>
            <a:ext cx="45640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4"/>
          <p:cNvSpPr/>
          <p:nvPr/>
        </p:nvSpPr>
        <p:spPr>
          <a:xfrm>
            <a:off x="684360" y="1125360"/>
            <a:ext cx="763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Calibri"/>
              </a:rPr>
              <a:t>Ése es el dato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Calibri"/>
              </a:rPr>
              <a:t>Todos conocemos casos parecidos, donde no hay explicación lógica de lo que pasa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268360" y="0"/>
            <a:ext cx="45640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ZoneTexte 4"/>
          <p:cNvSpPr/>
          <p:nvPr/>
        </p:nvSpPr>
        <p:spPr>
          <a:xfrm>
            <a:off x="755640" y="314172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Calibri"/>
              </a:rPr>
              <a:t>Cada uno le da la explicación que está de acuerdo con sus creencia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268360" y="0"/>
            <a:ext cx="45640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4"/>
          <p:cNvSpPr/>
          <p:nvPr/>
        </p:nvSpPr>
        <p:spPr>
          <a:xfrm>
            <a:off x="684360" y="2276640"/>
            <a:ext cx="763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Calibri"/>
              </a:rPr>
              <a:t>Casualidad.</a:t>
            </a: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5400" spc="-1" strike="noStrike">
                <a:solidFill>
                  <a:srgbClr val="ffffff"/>
                </a:solidFill>
                <a:latin typeface="Calibri"/>
              </a:rPr>
              <a:t>Destino. Voluntad de Dios. Azar. Guión vital. Suerte. Energía incosciente. Milagro. Fatalidad.</a:t>
            </a: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268360" y="0"/>
            <a:ext cx="4564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4"/>
          <p:cNvSpPr/>
          <p:nvPr/>
        </p:nvSpPr>
        <p:spPr>
          <a:xfrm>
            <a:off x="684360" y="620640"/>
            <a:ext cx="763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Calibri"/>
              </a:rPr>
              <a:t>Quizá, más importante que el saber por qué pasan las cosas, es saborearlas a fondo: con admiración,</a:t>
            </a: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5400" spc="-1" strike="noStrike">
                <a:solidFill>
                  <a:srgbClr val="ffffff"/>
                </a:solidFill>
                <a:latin typeface="Calibri"/>
              </a:rPr>
              <a:t>calma, respeto, aceptación      y agradecimiento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268360" y="0"/>
            <a:ext cx="45640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4"/>
          <p:cNvSpPr/>
          <p:nvPr/>
        </p:nvSpPr>
        <p:spPr>
          <a:xfrm>
            <a:off x="611280" y="1009800"/>
            <a:ext cx="763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Calibri"/>
              </a:rPr>
              <a:t>Y, más importante que cómo nos vayan las cosas, es saborear a las personas: compartir, disfrutar, sintonizar, comprender, sonreír;  en definitiva, ama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Mira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71640" y="160020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Fíjate bien en la foto siguiente: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23640" y="404280"/>
            <a:ext cx="8497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7200" spc="-1" strike="noStrike">
                <a:solidFill>
                  <a:srgbClr val="ffff00"/>
                </a:solidFill>
                <a:latin typeface="Calibri"/>
              </a:rPr>
              <a:t>Y, lo mejor de todo, es que todo eso sólo depende de ti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3716280"/>
            <a:ext cx="8640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¡AHORA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805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¡AHORA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50133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s-ES" sz="9600" spc="-1" strike="noStrike">
                <a:solidFill>
                  <a:srgbClr val="ff0000"/>
                </a:solidFill>
                <a:latin typeface="Arial"/>
              </a:rPr>
              <a:t>¡LA HORA!”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14400" y="0"/>
            <a:ext cx="91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Mira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4920" y="16002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El conductor rompió la valla de protección justo donde se ve gente en la carretera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4400" y="0"/>
            <a:ext cx="91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Mira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4920" y="11970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a furgoneta llegaba desde la derecha, cuando rompió la valla de seguridad; dio dos vueltas “de campana”, y se detuvo sobre sus cuatro ruedas, en el sentido opuesto a la dirección de donde vení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Flèche vers le bas 4"/>
          <p:cNvSpPr/>
          <p:nvPr/>
        </p:nvSpPr>
        <p:spPr>
          <a:xfrm rot="2599800">
            <a:off x="6732720" y="1557360"/>
            <a:ext cx="714240" cy="92880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lèche courbée vers le bas 5"/>
          <p:cNvSpPr/>
          <p:nvPr/>
        </p:nvSpPr>
        <p:spPr>
          <a:xfrm rot="11723400">
            <a:off x="5144760" y="2764800"/>
            <a:ext cx="1082520" cy="1122120"/>
          </a:xfrm>
          <a:custGeom>
            <a:avLst/>
            <a:gdLst>
              <a:gd name="textAreaLeft" fmla="*/ 236880 w 1082520"/>
              <a:gd name="textAreaRight" fmla="*/ 981360 w 1082520"/>
              <a:gd name="textAreaTop" fmla="*/ 150120 h 1122120"/>
              <a:gd name="textAreaBottom" fmla="*/ 972000 h 112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4850" y="0"/>
                </a:lnTo>
                <a:arcTo wR="9450" hR="21600" stAng="-5400000" swAng="3445738"/>
                <a:lnTo>
                  <a:pt x="21251" y="15786"/>
                </a:lnTo>
                <a:lnTo>
                  <a:pt x="21600" y="21600"/>
                </a:lnTo>
                <a:lnTo>
                  <a:pt x="21251" y="15786"/>
                </a:lnTo>
                <a:lnTo>
                  <a:pt x="18551" y="15786"/>
                </a:lnTo>
                <a:arcTo wR="9450" hR="21600" stAng="-1954262" swAng="-2999845"/>
                <a:lnTo>
                  <a:pt x="12150" y="900"/>
                </a:lnTo>
                <a:arcTo wR="9450" hR="21600" stAng="-5845893" swAng="-4954107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445893"/>
                <a:lnTo>
                  <a:pt x="12150" y="900"/>
                </a:lnTo>
                <a:arcTo wR="9450" hR="21600" stAng="-5845893" swAng="-495410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lèche courbée vers le haut 7"/>
          <p:cNvSpPr/>
          <p:nvPr/>
        </p:nvSpPr>
        <p:spPr>
          <a:xfrm rot="7938000">
            <a:off x="3143160" y="2571480"/>
            <a:ext cx="1643040" cy="928800"/>
          </a:xfrm>
          <a:custGeom>
            <a:avLst/>
            <a:gdLst>
              <a:gd name="textAreaLeft" fmla="*/ 323640 w 1643040"/>
              <a:gd name="textAreaRight" fmla="*/ 1203480 w 1643040"/>
              <a:gd name="textAreaTop" fmla="*/ 124200 h 928800"/>
              <a:gd name="textAreaBottom" fmla="*/ 804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11" hR="21600" stAng="10800000" swAng="-5400000"/>
                <a:lnTo>
                  <a:pt x="11563" y="21600"/>
                </a:lnTo>
                <a:arcTo wR="8511" hR="21600" stAng="5400000" swAng="-3405836"/>
                <a:lnTo>
                  <a:pt x="21330" y="5400"/>
                </a:lnTo>
                <a:lnTo>
                  <a:pt x="18548" y="0"/>
                </a:lnTo>
                <a:lnTo>
                  <a:pt x="15226" y="5400"/>
                </a:lnTo>
                <a:lnTo>
                  <a:pt x="16752" y="5400"/>
                </a:lnTo>
                <a:arcTo wR="8511" hR="21600" stAng="1994164" swAng="3159388"/>
                <a:lnTo>
                  <a:pt x="10037" y="21250"/>
                </a:lnTo>
                <a:arcTo wR="8511" hR="21600" stAng="5646448" swAng="5153552"/>
                <a:close/>
              </a:path>
              <a:path fill="darkenLess" w="21600" h="21600">
                <a:moveTo>
                  <a:pt x="0" y="0"/>
                </a:moveTo>
                <a:arcTo wR="8511" hR="21600" stAng="10800000" swAng="-5400000"/>
                <a:lnTo>
                  <a:pt x="11563" y="21600"/>
                </a:lnTo>
                <a:arcTo wR="8511" hR="21600" stAng="5400000" swAng="246448"/>
                <a:lnTo>
                  <a:pt x="10037" y="21250"/>
                </a:lnTo>
                <a:arcTo wR="8511" hR="21600" stAng="5646448" swAng="515355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lèche courbée vers le bas 8"/>
          <p:cNvSpPr/>
          <p:nvPr/>
        </p:nvSpPr>
        <p:spPr>
          <a:xfrm rot="9896400">
            <a:off x="2050560" y="4365720"/>
            <a:ext cx="1500480" cy="642960"/>
          </a:xfrm>
          <a:custGeom>
            <a:avLst/>
            <a:gdLst>
              <a:gd name="textAreaLeft" fmla="*/ 314640 w 1500480"/>
              <a:gd name="textAreaRight" fmla="*/ 1105200 w 150048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64" hR="21600" stAng="10800000" swAng="5400000"/>
                <a:lnTo>
                  <a:pt x="11379" y="0"/>
                </a:lnTo>
                <a:arcTo wR="9064" hR="21600" stAng="-5400000" swAng="3503756"/>
                <a:lnTo>
                  <a:pt x="21312" y="16200"/>
                </a:lnTo>
                <a:lnTo>
                  <a:pt x="19286" y="21600"/>
                </a:lnTo>
                <a:lnTo>
                  <a:pt x="16683" y="16200"/>
                </a:lnTo>
                <a:lnTo>
                  <a:pt x="17840" y="16200"/>
                </a:lnTo>
                <a:arcTo wR="9064" hR="21600" stAng="-1896244" swAng="-3318194"/>
                <a:lnTo>
                  <a:pt x="10222" y="177"/>
                </a:lnTo>
                <a:arcTo wR="9064" hR="21600" stAng="-5585562" swAng="-5214438"/>
                <a:close/>
              </a:path>
              <a:path fill="darkenLess" w="21600" h="21600">
                <a:moveTo>
                  <a:pt x="0" y="21600"/>
                </a:moveTo>
                <a:arcTo wR="9064" hR="21600" stAng="10800000" swAng="5400000"/>
                <a:lnTo>
                  <a:pt x="9064" y="0"/>
                </a:lnTo>
                <a:arcTo wR="9064" hR="21600" stAng="-5400000" swAng="185562"/>
                <a:lnTo>
                  <a:pt x="10222" y="177"/>
                </a:lnTo>
                <a:arcTo wR="9064" hR="21600" stAng="-5585562" swAng="-521443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lèche courbée vers le bas 9"/>
          <p:cNvSpPr/>
          <p:nvPr/>
        </p:nvSpPr>
        <p:spPr>
          <a:xfrm>
            <a:off x="1042920" y="2276640"/>
            <a:ext cx="1714680" cy="1285560"/>
          </a:xfrm>
          <a:custGeom>
            <a:avLst/>
            <a:gdLst>
              <a:gd name="textAreaLeft" fmla="*/ 330480 w 1714680"/>
              <a:gd name="textAreaRight" fmla="*/ 1132920 w 1714680"/>
              <a:gd name="textAreaTop" fmla="*/ 172080 h 1285560"/>
              <a:gd name="textAreaBottom" fmla="*/ 111348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33" hR="21600" stAng="10800000" swAng="5400000"/>
                <a:lnTo>
                  <a:pt x="10103" y="0"/>
                </a:lnTo>
                <a:arcTo wR="8333" hR="21600" stAng="-5400000" swAng="1343380"/>
                <a:lnTo>
                  <a:pt x="19350" y="6836"/>
                </a:lnTo>
                <a:lnTo>
                  <a:pt x="17550" y="21600"/>
                </a:lnTo>
                <a:lnTo>
                  <a:pt x="11250" y="6836"/>
                </a:lnTo>
                <a:lnTo>
                  <a:pt x="14415" y="6836"/>
                </a:lnTo>
                <a:arcTo wR="8333" hR="21600" stAng="-4056620" swAng="-1201807"/>
                <a:lnTo>
                  <a:pt x="9218" y="122"/>
                </a:lnTo>
                <a:arcTo wR="8333" hR="21600" stAng="-5541573" swAng="-5258427"/>
                <a:close/>
              </a:path>
              <a:path fill="darkenLess" w="21600" h="21600">
                <a:moveTo>
                  <a:pt x="0" y="21600"/>
                </a:moveTo>
                <a:arcTo wR="8333" hR="21600" stAng="10800000" swAng="5400000"/>
                <a:lnTo>
                  <a:pt x="8333" y="0"/>
                </a:lnTo>
                <a:arcTo wR="8333" hR="21600" stAng="-5400000" swAng="141573"/>
                <a:lnTo>
                  <a:pt x="9218" y="122"/>
                </a:lnTo>
                <a:arcTo wR="8333" hR="21600" stAng="-5541573" swAng="-525842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Mira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4920" y="11970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errible, ¿no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¡Míralo de nuevo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14400" y="0"/>
            <a:ext cx="91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08:59:46Z</dcterms:created>
  <dc:creator>GDC</dc:creator>
  <dc:description/>
  <dc:language>en-US</dc:language>
  <cp:lastModifiedBy>Fernando Moreno Muguruza</cp:lastModifiedBy>
  <dcterms:modified xsi:type="dcterms:W3CDTF">2010-03-07T11:31:51Z</dcterms:modified>
  <cp:revision>16</cp:revision>
  <dc:subject/>
  <dc:title>Diapositive 1</dc:title>
</cp:coreProperties>
</file>