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AFF-73EA-408A-8063-98A6D6C8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F5D-7A7A-4314-AC93-E9DA63B3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020-0E79-49A5-A4F6-049E3AB9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8CB-79C5-463A-A655-5E1979C0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C02-0DD6-4330-948E-0BF95466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47F-2F3E-4C1F-B692-EB5B8719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BF1-78A5-4F4D-8FEC-DF393923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D99-2B56-469C-B314-4997F6E1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D58-546E-4BA2-BCDA-FFB7924A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55F-CC99-43AC-8935-5BE3FEB2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C37-8784-428B-BB06-41AFCF22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5AF-38B3-4093-B78C-DCAB8EDD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EFE4-808A-48FF-A0A8-49CDD3474A1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Botes varados por el m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3 Marcador de contenido" descr="La seca del mar de Pucusa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Marcador de contenido" descr="Olas en Pucusana por Tsunamit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3 Marcador de contenido" descr="Tsunamito en Pucusana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Tsunamito en Pucusana. 3.jpg"/>
          <p:cNvPicPr/>
          <p:nvPr/>
        </p:nvPicPr>
        <p:blipFill>
          <a:blip r:embed="rId1"/>
          <a:stretch/>
        </p:blipFill>
        <p:spPr>
          <a:xfrm>
            <a:off x="157176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Marcador de contenido" descr="Tsunamito en Pucusa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Marcador de contenido" descr="Tsunamito, retirada del mar.jpg"/>
          <p:cNvPicPr/>
          <p:nvPr/>
        </p:nvPicPr>
        <p:blipFill>
          <a:blip r:embed="rId1"/>
          <a:stretch/>
        </p:blipFill>
        <p:spPr>
          <a:xfrm>
            <a:off x="164304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04:58Z</dcterms:created>
  <dc:creator>MARIPILI</dc:creator>
  <dc:description/>
  <dc:language>en-US</dc:language>
  <cp:lastModifiedBy>MARIPILI</cp:lastModifiedBy>
  <dcterms:modified xsi:type="dcterms:W3CDTF">2010-03-04T02:08:46Z</dcterms:modified>
  <cp:revision>1</cp:revision>
  <dc:subject/>
  <dc:title>Diapositiva 1</dc:title>
</cp:coreProperties>
</file>