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D100-87CD-4F01-A713-4CF0F094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D444-774B-420A-8546-40655385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B827-33D6-4C4B-A64E-6C859CA3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690E-85BC-4CCA-B69E-F9FC6F42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D154-C88D-4EF1-B977-EC1924F6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E639-DB27-4251-B646-1C056F41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6714-B62A-4AFC-9DD4-1C68C000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EF30-08C6-43EB-9279-C98F88F6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6BFC-E52B-48A6-90C8-F724B8FB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3C85-5868-4E38-A651-52CA008A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2136-5813-4766-A0F0-B6A75C57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DF83-F2AA-4240-817A-D5A3132F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71FC-FBAC-4B90-9611-33C402634ED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Botes varados por el m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3 Marcador de contenido" descr="La seca del mar de Pucusa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3 Marcador de contenido" descr="Olas en Pucusana por Tsunamit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3 Marcador de contenido" descr="Tsunamito en Pucusana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3 Marcador de contenido" descr="Tsunamito en Pucusana. 3.jpg"/>
          <p:cNvPicPr/>
          <p:nvPr/>
        </p:nvPicPr>
        <p:blipFill>
          <a:blip r:embed="rId1"/>
          <a:stretch/>
        </p:blipFill>
        <p:spPr>
          <a:xfrm>
            <a:off x="1571760" y="0"/>
            <a:ext cx="585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3 Marcador de contenido" descr="Tsunamito en Pucusa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3 Marcador de contenido" descr="Tsunamito, retirada del mar.jpg"/>
          <p:cNvPicPr/>
          <p:nvPr/>
        </p:nvPicPr>
        <p:blipFill>
          <a:blip r:embed="rId1"/>
          <a:stretch/>
        </p:blipFill>
        <p:spPr>
          <a:xfrm>
            <a:off x="1643040" y="0"/>
            <a:ext cx="585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2:04:58Z</dcterms:created>
  <dc:creator>MARIPILI</dc:creator>
  <dc:description/>
  <dc:language>en-US</dc:language>
  <cp:lastModifiedBy>MARIPILI</cp:lastModifiedBy>
  <dcterms:modified xsi:type="dcterms:W3CDTF">2010-03-04T02:08:46Z</dcterms:modified>
  <cp:revision>1</cp:revision>
  <dc:subject/>
  <dc:title>Diapositiva 1</dc:title>
</cp:coreProperties>
</file>