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22E-1197-4EA5-BE0E-549A3E54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DD5-6DEA-45C1-9717-260A0C9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85D-B79A-4E3A-AB3C-D58C3B61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D21-D707-457E-BA3C-097A9EB7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008-D78A-40BE-A14F-0D6509BB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D4D-8FFE-4D57-8E1E-FA41350D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1BE-E3A8-44BE-B989-C8E52D64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E26-A2CC-4521-AE15-05D4EAD5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5BA-4C55-458A-98A9-C92A3D3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620-4A95-45E6-B95B-2EA8833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2E7-FEFC-4F0C-B231-E22388CF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159-AE59-458C-A52B-DDF3185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F9B-BD98-46A2-949B-7DBA5E233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3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stellar"/>
              </a:rPr>
              <a:t>QUE VES EN ESTA IMAGEN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156384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tormenta antes que el brillo del sol, es porque algo está oscureciendo tu corazón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845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el camino largo e infinito, es porque estás siempre mirando hacia  el futuro, olvidándote que solo se vive EN PRESENTE, porque el FUTURO nun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lega, siem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H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hierba seca de color rojiza antes que los árboles y las hiervas verdes, es porque solo miras lo negativo de la realidad perdiéndote la armonía del paisaje en su conjunto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24720" y="6230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 que 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981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el brillo del sol, es la luz de DIOS que se enciende cada mañana que te despie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1337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mporta cuan largo sea el camino… importa que cada paso que hagas los disfrutes con AMOR Y 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213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toda la realidad…  En el conjunto encontrarás la armonía perfecta, porque to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á siemp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 equilibr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58840" y="4653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ida es como TU quieres que sea…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844640"/>
            <a:ext cx="676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no lo envías a nadie no pasa nada… si lo haces a lo mejor ayudas a que alguien cambie su forma de mirar y lo acercas a la fe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Dios te bendiga todos los días de tu vida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2:06:46Z</dcterms:created>
  <dc:creator>Daniel Serpentini</dc:creator>
  <dc:description/>
  <dc:language>en-US</dc:language>
  <cp:lastModifiedBy>Daniel Serpentini</cp:lastModifiedBy>
  <dcterms:modified xsi:type="dcterms:W3CDTF">2009-02-19T23:19:12Z</dcterms:modified>
  <cp:revision>2</cp:revision>
  <dc:subject/>
  <dc:title>Diapositiva 1</dc:title>
</cp:coreProperties>
</file>