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054-74DF-4AEA-ADC9-D0590C6A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C75-DA33-4BD3-865E-67D44893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053-6ED3-4F03-94A5-B319C11E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1AB-BA49-4CC3-B302-33FDD548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261-EB5C-408E-BD58-8269F327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823-8761-4EB8-8852-04E6F8B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BB0-1FBE-4600-97A9-98A2E9D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66C-6439-490A-B0AF-F1A95C8C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539-6E2F-43DE-9F39-C11003B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C9D-C7E1-41E3-83C1-00C9D3F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6ED-1D50-455E-A939-F9ADBC7F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2FF-0310-4288-B0F8-C62C2966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2D73-70AA-4FD3-A1A7-549CE8F9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333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stellar"/>
              </a:rPr>
              <a:t>QUE VES EN ESTA IMAGEN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560" y="156384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tormenta antes que el brillo del sol, es porque algo está oscureciendo tu corazón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845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el camino largo e infinito, es porque estás siempre mirando hacia  el futuro, olvidándote que solo se vive EN PRESENTE, porque el FUTURO nun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lega, siem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HO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hierba seca de color rojiza antes que los árboles y las hiervas verdes, es porque solo miras lo negativo de la realidad perdiéndote la armonía del paisaje en su conjunto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24720" y="6230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 que 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981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el brillo del sol, es la luz de DIOS que se enciende cada mañana que te despier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13372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mporta cuan largo sea el camino… importa que cada paso que hagas los disfrutes con AMOR Y 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213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toda la realidad…  En el conjunto encontrarás la armonía perfecta, porque to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á siemp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 equilibr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58840" y="4653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ida es como TU quieres que sea…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844640"/>
            <a:ext cx="676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 no lo envías a nadie no pasa nada… si lo haces a lo mejor ayudas a que alguien cambie su forma de mirar y lo acercas a la fe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Dios te bendiga todos los días de tu vida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2:06:46Z</dcterms:created>
  <dc:creator>Daniel Serpentini</dc:creator>
  <dc:description/>
  <dc:language>en-US</dc:language>
  <cp:lastModifiedBy>Daniel Serpentini</cp:lastModifiedBy>
  <dcterms:modified xsi:type="dcterms:W3CDTF">2009-02-19T23:19:12Z</dcterms:modified>
  <cp:revision>2</cp:revision>
  <dc:subject/>
  <dc:title>Diapositiva 1</dc:title>
</cp:coreProperties>
</file>