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2aVosal%C3%A7oulls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8BD-B941-459C-A0B3-A1B6EB29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836-C27E-4289-81C4-6A493EEE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6C6-8BAE-4EED-BF9D-156B5A21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2BD-3D38-4EE0-AB53-E028198B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5C8-73BD-4402-B9EA-68EC46C2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D23-D21E-48F1-A1D9-F1F0140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4D8-D645-45E8-BCEC-D21626BE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25B-C09F-4D10-8898-22349712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92A-CF15-49D6-8B05-3530E5AF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B27-8B05-4717-B4B1-4F3DB12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DBA-C27A-4CF1-B38F-D9BF453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3B7-4647-40FF-BCEC-D5E3B86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ECC5-38C2-4379-A170-657E61806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2aVosal&#231;oulls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59500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f8a0c"/>
                </a:solidFill>
                <a:latin typeface="Comic Sans MS"/>
              </a:rPr>
              <a:t> A</a:t>
            </a:r>
            <a:r>
              <a:rPr b="1" lang="ca-E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9880" y="2268360"/>
            <a:ext cx="8839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8a0c"/>
                </a:solidFill>
                <a:latin typeface="Comic Sans MS"/>
              </a:rPr>
              <a:t>XXV domingo</a:t>
            </a:r>
            <a:br>
              <a:rPr sz="5400"/>
            </a:br>
            <a:r>
              <a:rPr b="1" i="1" lang="ca-ES" sz="5400" spc="-1" strike="noStrike">
                <a:solidFill>
                  <a:srgbClr val="ff8a0c"/>
                </a:solidFill>
                <a:latin typeface="Comic Sans MS"/>
              </a:rPr>
              <a:t>Tiempo Ordina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94840" y="4114800"/>
            <a:ext cx="70509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400" spc="-1" strike="noStrike">
                <a:solidFill>
                  <a:srgbClr val="ff8a0c"/>
                </a:solidFill>
                <a:latin typeface="Comic Sans MS"/>
              </a:rPr>
              <a:t>18 de septiembre de 2011</a:t>
            </a:r>
            <a:r>
              <a:rPr b="0" i="1" lang="ca-ES" sz="4800" spc="-1" strike="noStrike">
                <a:solidFill>
                  <a:srgbClr val="ff8a0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9640" y="404640"/>
            <a:ext cx="6553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Música de la sinagoga hebr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 “</a:t>
            </a: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A Ti levanto mi al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s122aVosal%C3%A7oull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resized_murallaezequies1w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79280" y="260280"/>
            <a:ext cx="8839440" cy="5077080"/>
          </a:xfrm>
          <a:prstGeom prst="rect">
            <a:avLst/>
          </a:prstGeom>
          <a:solidFill>
            <a:srgbClr val="eac49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 Unicode MS"/>
              </a:rPr>
              <a:t>Is 55:6-9 </a:t>
            </a: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Buscad al Señor mientras se le encuentra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invocadlo mientras está cerca;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que el malvado abandone su camino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y el criminal sus planes;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que regrese al Señor, y él tendrá piedad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a nuestro Dios, que es rico en perdón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is planes no son vuestros planes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vuestros caminos no son mis caminos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-oráculo del Señor-.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Como el cielo es más alto que la tierra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is caminos son más altos que los vuestros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is planes, que vuestros pla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492360" y="6019920"/>
            <a:ext cx="532764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Mis caminos no son vuestros caminos”</a:t>
            </a:r>
            <a:r>
              <a:rPr b="1" lang="ca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400"/>
            </a:b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(restos de Jerusalén - época de Isaí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16080" y="304920"/>
            <a:ext cx="331092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25ff11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000000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144</a:t>
            </a:r>
            <a:r>
              <a:rPr b="1" i="1" lang="ca-ES" sz="3200" spc="-1" strike="noStrike">
                <a:solidFill>
                  <a:srgbClr val="07ff1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560" y="4800600"/>
            <a:ext cx="71316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Cerca está el Señor de los que lo invo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17200" y="1736640"/>
            <a:ext cx="751716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ía tras día te bendeciré, Dios mí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alabaré tu nombre por siempre ja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nde es el Señor y merece toda alabanz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incalculable su grand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80880" y="457200"/>
            <a:ext cx="6999480" cy="18003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El Señor es clemente y misericordioso,</a:t>
            </a:r>
            <a:br>
              <a:rPr sz="2800"/>
            </a:b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lento a la cólera y rico en piedad;</a:t>
            </a:r>
            <a:br>
              <a:rPr sz="2800"/>
            </a:b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el Señor es bueno con todos,</a:t>
            </a:r>
            <a:br>
              <a:rPr sz="2800"/>
            </a:b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es cariñoso con todas sus cria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65000" y="4952880"/>
            <a:ext cx="7178760" cy="5205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Cerca está el Señor de los que lo invo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85800" y="609480"/>
            <a:ext cx="7473960" cy="1800360"/>
          </a:xfrm>
          <a:prstGeom prst="rect">
            <a:avLst/>
          </a:prstGeom>
          <a:solidFill>
            <a:srgbClr val="ffc5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El Señor es justo en todos sus camin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es bondadoso en todas sus accion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cerca está el Señor de los que lo invocan,</a:t>
            </a:r>
            <a:br>
              <a:rPr sz="2800"/>
            </a:b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de todos los que lo invocan sincer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560" y="4572000"/>
            <a:ext cx="7131600" cy="520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Cerca está el Señor de los que lo invo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efeso2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85760" y="260280"/>
            <a:ext cx="8707320" cy="5031720"/>
          </a:xfrm>
          <a:prstGeom prst="rect">
            <a:avLst/>
          </a:prstGeom>
          <a:solidFill>
            <a:srgbClr val="eee3c8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Arial Unicode MS"/>
              </a:rPr>
              <a:t>Filp. 1:20c-24.27ª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Hermano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Cristo será glorificado en mi cuerpo, sea por mi vida o por mi muerte. Para mí la vida es Cristo, y una ganancia el morir. Pero si el vivir esta vida mortal me supone trabajo fructífero no sé qué escog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e encuentro en esta alternativa: por un lado deseo partir para estar con Cristo, que es con mucho lo mejor; pero por otro quedarme en esta vida, veo que es más necesario para vosotr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Lo importante es que vosotros llevéis una vida digna del Evangelio de Cristo</a:t>
            </a:r>
            <a:r>
              <a:rPr b="0" lang="es-ES" sz="27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771640" y="5805360"/>
            <a:ext cx="6156360" cy="810360"/>
          </a:xfrm>
          <a:prstGeom prst="rect">
            <a:avLst/>
          </a:prstGeom>
          <a:solidFill>
            <a:srgbClr val="eee3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Unicode MS"/>
              </a:rPr>
              <a:t>En la prisión de Éfeso, Pablo escribe a los Filipenses</a:t>
            </a:r>
            <a:r>
              <a:rPr b="0" lang="ca-ES" sz="2700" spc="-1" strike="noStrike">
                <a:solidFill>
                  <a:srgbClr val="000000"/>
                </a:solidFill>
                <a:latin typeface="Arial Unicode MS"/>
              </a:rPr>
              <a:t>  “Para mí, la vida es Cristo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235440" y="6257880"/>
            <a:ext cx="957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 Unicode MS"/>
              </a:rPr>
              <a:t>Éf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609480" y="2189160"/>
            <a:ext cx="8588520" cy="18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Ábrenos el corazón, Señor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para que aceptemos la Palabra de tu Hij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                                      </a:t>
            </a:r>
            <a:r>
              <a:rPr b="1" i="1" lang="ca-ES" sz="2400" spc="-1" strike="noStrike">
                <a:solidFill>
                  <a:srgbClr val="a80507"/>
                </a:solidFill>
                <a:latin typeface="Times New Roman"/>
              </a:rPr>
              <a:t>Hch 16: 14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920" y="981000"/>
            <a:ext cx="1390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eluy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randomBa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06880" y="6242040"/>
            <a:ext cx="24973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omic Sans MS"/>
              </a:rPr>
              <a:t>Ciudad de Hebr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189000"/>
            <a:ext cx="8610480" cy="62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910a13"/>
                </a:solidFill>
                <a:latin typeface="Comic Sans MS"/>
              </a:rPr>
              <a:t>( Del santo Evangelio según san Mateo )  Mt 20: 1-1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n aquel tiempo, dijo Jesús a sus discípulos esta parábol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1 Reino de los Cielos se parece a un propietario que al amanecer salió a contratar jornaleros para su viña. Después de ajustarse con ellos en un denario por jornada, los mandó a la viña. Salió otra vez a media mañana, vio a otros que estaban en la plaza sin trabajo, y les dijo: -Id también vosotros a mi viña, y os pagaré lo deb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llos fueron. Salió de nuevo hacia mediodía y a media tarde, e hizo lo mism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Salió al caer la tarde y encontró a otros, parados, y les dijo: -¿Cómo es que estáis aquí el día entero sin trabajar? Le respondieron: -Nadie nos ha contrat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l les dijo: -Id también vosotros a mi viña. Cuando oscureció, el dueño dijo al capataz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-Llama a los jornaleros y págales el jornal, empezando por los últimos y acabando por los primeros. Vinieron los del atardecer y recibieron un denario cada un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Cuando llegaron los primeros, pensaban que recibirían más, pero ellos también recibieron un denario cada uno. Entonces se pusieron a protestar contra el am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-Estos últimos han trabajado sólo una hora y los has tratado igual que a nosotros, que hemos aguantado el peso del día y el bochorno. El replicó a uno de ell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-Amigo, no te hago ninguna injusticia. ¿No nos ajustamos en un denario? Toma lo tuyo y vete. Quiero darle a este último igual que a ti. ¿Es que no tengo libertad para hacer lo que quiera en mis asuntos? ¿O vas a tener tú envidia porque yo soy bueno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Así, los últimos serán los primeros y los primeros los últim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6:50Z</dcterms:created>
  <dc:creator>JOAN RAMIREZ</dc:creator>
  <dc:description/>
  <dc:language>en-US</dc:language>
  <cp:lastModifiedBy>Usuario</cp:lastModifiedBy>
  <dcterms:modified xsi:type="dcterms:W3CDTF">2011-09-07T14:01:40Z</dcterms:modified>
  <cp:revision>13</cp:revision>
  <dc:subject/>
  <dc:title>Presentación de PowerPoint</dc:title>
</cp:coreProperties>
</file>