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musC36.4coral%20lira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263-9FB1-484D-8DEE-FC589CB7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F91-FA7D-493B-AD02-042E1C8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254-1B7F-4F98-8223-D66B138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F6F-2CED-4F4C-9239-2DB8EC65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E66-034C-429F-8835-A6C2F79D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191-00ED-4619-9C52-DBE14CA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73B-34EF-4E7D-9FCD-E85E735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A3F-95BB-43C6-AE41-D18CC59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AE2-EA65-4379-85F3-75428CAC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098-0DE7-410F-8CB7-73F3852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5E2-5AD0-4FEE-9F01-48750B3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1AA-202B-4F19-AEFC-B314B8A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E5C-CB16-4F8B-BE60-315CB17B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C36.4coral%20lira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581280"/>
            <a:ext cx="824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47920" y="5715000"/>
            <a:ext cx="7011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0"/>
            <a:ext cx="41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Cantata 36 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de Adviento (J.S. Bac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musC36.4coral%20li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5962680" cy="6019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1125360"/>
            <a:ext cx="3240000" cy="35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no vives atento, no lo reconocerás cuando llegu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S. Agustí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89000"/>
            <a:ext cx="748836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la FE allana los cami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3440" y="6048360"/>
            <a:ext cx="426348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legaria en el Desi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6520" y="1143000"/>
            <a:ext cx="5545080" cy="420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évense los valles,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5616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evad la vida de los que ocupan los va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5084640"/>
            <a:ext cx="5869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n equilibrio vuestra civilización se hundi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445000"/>
            <a:ext cx="2268720" cy="100764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Tiendas de bedui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371600"/>
            <a:ext cx="8137800" cy="37508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ciendan los montes y colinas;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297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3141720"/>
            <a:ext cx="273528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confiéis pensando que tocáis la c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869000"/>
            <a:ext cx="5400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yeron los griegos, los romanos, los cartagines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765000"/>
            <a:ext cx="835344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 lo torcido se enderece, lo escabroso se iguale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60280"/>
            <a:ext cx="5040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rribad lo altivo y prepotente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5373720"/>
            <a:ext cx="698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Aun no habéis entendido que todos sois igual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533520"/>
            <a:ext cx="770580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todos verán la salvación de Dios."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337440" cy="473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189000"/>
            <a:ext cx="8640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e hace hombre para salvar al igual con lo igual” 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G. Nacianc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5445000"/>
            <a:ext cx="558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Te das cuenta del valor de la humilda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179360"/>
            <a:ext cx="604836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que nuestra sociedad se esfuerce para que la Navidad sea asequible a TO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492280"/>
            <a:ext cx="868680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116000" y="549360"/>
            <a:ext cx="66294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EL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2276640"/>
            <a:ext cx="8282160" cy="3933360"/>
          </a:xfrm>
          <a:prstGeom prst="rect">
            <a:avLst/>
          </a:prstGeom>
          <a:solidFill>
            <a:srgbClr val="cc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1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nar velando para mantenernos en pié el día de su ve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DOMING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a4ad2"/>
                </a:solidFill>
                <a:latin typeface="Arial"/>
              </a:rPr>
              <a:t>Allanar el camino con Juan Bau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camina hacia nosotr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4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yamos con María a visit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4716360" y="0"/>
            <a:ext cx="18792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589720"/>
            <a:ext cx="4608360" cy="100764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¿Allanaremos el camino para que El ven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333360"/>
            <a:ext cx="1800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sierto de Jud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316 -0.01041 L 0.53941 3.48128E-006 E">
                                      <p:cBhvr>
                                        <p:cTn id="57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228600"/>
            <a:ext cx="8353440" cy="5429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3, 1-6 En el año quince del reinado del emperador Tiberio, siendo Poncio Pilato gobernador de Judea, y Herodes virrey de Galilea, y su hermano Felipe virrey de Iturea y Traconítide, y Lisanio virrey de Abilene, bajo el sumo sacerdocio de Anás y Caifás, vino la palabra de Dios sobre Juan, hijo de Zacarías, en el desierto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5877000"/>
            <a:ext cx="432108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l desi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55640" y="1413000"/>
            <a:ext cx="4463640" cy="5435640"/>
            <a:chOff x="755640" y="1413000"/>
            <a:chExt cx="4463640" cy="543564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55640" y="1413000"/>
              <a:ext cx="440820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5640" y="6297840"/>
              <a:ext cx="4463640" cy="550800"/>
            </a:xfrm>
            <a:prstGeom prst="rect">
              <a:avLst/>
            </a:prstGeom>
            <a:solidFill>
              <a:srgbClr val="00000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3000" spc="-1" strike="noStrike">
                  <a:solidFill>
                    <a:srgbClr val="ffffff"/>
                  </a:solidFill>
                  <a:latin typeface="Arial"/>
                </a:rPr>
                <a:t>El emperador Tiber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71640" y="189000"/>
            <a:ext cx="79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poderosos no quieren saber lo que pasa en el desie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3429000"/>
            <a:ext cx="32418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scuchas la Palabra que resuena en el silen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295280"/>
            <a:ext cx="8763120" cy="420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recorrió toda la comarca del Jordán, predicando un bautismo de conversión para perdón de los pecado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5880" y="557280"/>
            <a:ext cx="757224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189000"/>
            <a:ext cx="6337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último profeta señala la llegada del camb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5286240"/>
            <a:ext cx="270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Y tu, te prepa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662440"/>
            <a:ext cx="4176720" cy="1007640"/>
          </a:xfrm>
          <a:prstGeom prst="rect">
            <a:avLst/>
          </a:pr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e la predicación de Ju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52280"/>
            <a:ext cx="8209080" cy="6280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o está escrito en el libro de los oráculos del profeta Isaías: "Una voz grita en el desierto: Preparad el camino del Señor,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03T13:39:03Z</dcterms:modified>
  <cp:revision>311</cp:revision>
  <dc:subject>stbenet@benedictinescat.com</dc:subject>
  <dc:title>evangeli</dc:title>
</cp:coreProperties>
</file>