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musC36.4coral%20lira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4F3-38A0-4FC7-B95E-1AADB9B4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A14-F6BA-4E8C-9BA0-F4C88F1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1B8-2DF7-4DBC-BB0A-5915CDEF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397-242D-4C31-A834-588DAAE5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DB2-C994-4F5A-A7B6-D1DD7F33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459-F416-4A31-B604-F0434B80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BB6-227D-47DE-ADF8-2AB040B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F59-9E4A-419E-BB99-60486762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359-A7E8-4A34-9045-A428BC64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58C-D766-48C1-9B9A-6365BC5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D66-6804-4D96-AA17-6EBEA69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5A7-6A76-44CD-B0DF-C1C948C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6F74-52C4-4CC5-80DB-C44C9BFD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musC36.4coral%20lira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87280" y="1197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581280"/>
            <a:ext cx="824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47920" y="5715000"/>
            <a:ext cx="7011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0"/>
            <a:ext cx="41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Música: Cantata 36 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de Adviento (J.S. Bac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musC36.4coral%20lir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5962680" cy="6019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1125360"/>
            <a:ext cx="3240000" cy="35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no vives atento, no lo reconocerás cuando llegu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S. Agustí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189000"/>
            <a:ext cx="748836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ólo la FE allana los cami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3440" y="6048360"/>
            <a:ext cx="426348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Plegaria en el Desier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76520" y="1143000"/>
            <a:ext cx="5545080" cy="420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évense los valles,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89000"/>
            <a:ext cx="5616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evad la vida de los que ocupan los va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5084640"/>
            <a:ext cx="5869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n equilibrio vuestra civilización se hundir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445000"/>
            <a:ext cx="2268720" cy="100764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Tiendas de bedui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371600"/>
            <a:ext cx="8137800" cy="37508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ciendan los montes y colinas;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297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3141720"/>
            <a:ext cx="2735280" cy="3141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confiéis pensando que tocáis la c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869000"/>
            <a:ext cx="5400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ayeron los griegos, los romanos, los cartagines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765000"/>
            <a:ext cx="8353440" cy="49698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 lo torcido se enderece, lo escabroso se iguale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260280"/>
            <a:ext cx="5040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rribad lo altivo y prepotente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5373720"/>
            <a:ext cx="6985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Aun no habéis entendido que todos sois igual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533520"/>
            <a:ext cx="770580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todos verán la salvación de Dios."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337440" cy="473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189000"/>
            <a:ext cx="8640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se hace hombre para salvar al igual con lo igual” 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G. Naciance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5445000"/>
            <a:ext cx="5580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Te das cuenta del valor de la humilda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1179360"/>
            <a:ext cx="6048360" cy="3980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 que nuestra sociedad se esfuerce para que la Navidad sea asequible a TOD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EVANGELIO DE LUC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nos acompañará todo el añ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492280"/>
            <a:ext cx="868680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Reino está entre vosotros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lad y orad en toda oca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 tengas miedo pequeño rebaño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s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 revela a los peque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odo lo mío es tuy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Padre ama a TODOS los hijo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amientos cla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116000" y="549360"/>
            <a:ext cx="66294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EL CA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2276640"/>
            <a:ext cx="8282160" cy="3933360"/>
          </a:xfrm>
          <a:prstGeom prst="rect">
            <a:avLst/>
          </a:prstGeom>
          <a:solidFill>
            <a:srgbClr val="cccc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1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nar velando para mantenernos en pié el día de su ve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DOMING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a4ad2"/>
                </a:solidFill>
                <a:latin typeface="Arial"/>
              </a:rPr>
              <a:t>Allanar el camino con Juan Bau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camina hacia nosotros para encontr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OMINGO 4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yamos con María a visit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4716360" y="0"/>
            <a:ext cx="18792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5589720"/>
            <a:ext cx="4608360" cy="100764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¿Allanaremos el camino para que El veng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333360"/>
            <a:ext cx="1800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esierto de Jud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3316 -0.01041 L 0.53941 3.48128E-006 E">
                                      <p:cBhvr>
                                        <p:cTn id="57" dur="10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228600"/>
            <a:ext cx="8353440" cy="5429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3, 1-6 En el año quince del reinado del emperador Tiberio, siendo Poncio Pilato gobernador de Judea, y Herodes virrey de Galilea, y su hermano Felipe virrey de Iturea y Traconítide, y Lisanio virrey de Abilene, bajo el sumo sacerdocio de Anás y Caifás, vino la palabra de Dios sobre Juan, hijo de Zacarías, en el desierto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5877000"/>
            <a:ext cx="432108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ágenes del desier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55640" y="1413000"/>
            <a:ext cx="4463640" cy="5435640"/>
            <a:chOff x="755640" y="1413000"/>
            <a:chExt cx="4463640" cy="543564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755640" y="1413000"/>
              <a:ext cx="440820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55640" y="6297840"/>
              <a:ext cx="4463640" cy="550800"/>
            </a:xfrm>
            <a:prstGeom prst="rect">
              <a:avLst/>
            </a:prstGeom>
            <a:solidFill>
              <a:srgbClr val="00000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3000" spc="-1" strike="noStrike">
                  <a:solidFill>
                    <a:srgbClr val="ffffff"/>
                  </a:solidFill>
                  <a:latin typeface="Arial"/>
                </a:rPr>
                <a:t>El emperador Tiberi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71640" y="189000"/>
            <a:ext cx="799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poderosos no quieren saber lo que pasa en el desier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3429000"/>
            <a:ext cx="32418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Escuchas la Palabra que resuena en el silenc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295280"/>
            <a:ext cx="8763120" cy="420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recorrió toda la comarca del Jordán, predicando un bautismo de conversión para perdón de los pecado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5880" y="557280"/>
            <a:ext cx="757224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189000"/>
            <a:ext cx="6337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último profeta señala la llegada del camb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5286240"/>
            <a:ext cx="2700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Y tu, te prepa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662440"/>
            <a:ext cx="4176720" cy="1007640"/>
          </a:xfrm>
          <a:prstGeom prst="rect">
            <a:avLst/>
          </a:pr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ugar de la predicación de Ju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52280"/>
            <a:ext cx="8209080" cy="6280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o está escrito en el libro de los oráculos del profeta Isaías: "Una voz grita en el desierto: Preparad el camino del Señor,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2-03T13:39:03Z</dcterms:modified>
  <cp:revision>311</cp:revision>
  <dc:subject>stbenet@benedictinescat.com</dc:subject>
  <dc:title>evangeli</dc:title>
</cp:coreProperties>
</file>