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.gif" ContentType="image/gif"/>
  <Override PartName="/ppt/media/Eres%20un%20regalito%20de%20Dio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1E9-70D5-450D-B0D4-2C0B84FF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276-C540-40A0-AC29-11FAF36A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427-293A-4B24-8E58-09503C01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B04-1820-474F-9043-2046C186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003-737A-4141-8C22-CB5700B2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CB7-0EA8-4FD9-9502-B738E260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465-2B60-4124-B597-8A5FB2BC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F6B-1762-491E-817B-34D7E125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EE0-5E78-49FA-8CE5-C4D6BFF8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525-767B-418B-A98B-551A96E3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E2E-04C4-4232-AD77-0741D6CA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E59-8361-4640-8837-9E7429DC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92B6-2798-4FEE-9C28-92D1BC73C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res%20un%20regalito%20de%20Dio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050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lfaen"/>
                <a:ea typeface="David"/>
              </a:rPr>
              <a:t>Sobre los perros y las person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295272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Eres%20un%20regalito%20de%20Dio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83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Si creyera en la inmortalidad, creería que ciertos perros </a:t>
            </a:r>
            <a:br>
              <a:rPr sz="2000"/>
            </a:b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que conozco irán al cierr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Y muy, muy pocas personas.</a:t>
            </a:r>
            <a:r>
              <a:rPr b="1" lang="en-US" sz="2000" spc="-1" strike="noStrike">
                <a:solidFill>
                  <a:srgbClr val="007e00"/>
                </a:solidFill>
                <a:latin typeface="Sylfaen"/>
              </a:rPr>
              <a:t>                                        </a:t>
            </a: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                                                 James Thur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981000"/>
            <a:ext cx="324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Mi perro está preocupado por la economía, porque Dogui aumentó a $3 el paque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Eso es casi  $21 en dinero de per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Joe Wei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1989000"/>
            <a:ext cx="239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Si tu perro está gordo, tú no estás haciendo suficiente ejerc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365720"/>
            <a:ext cx="1828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Mi meta en la vida es ser tan buena persona como mi perro ya cree que so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476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Los perros aman a sus amigos y muerden a sus enemigos, casi al contrario de las personas, quienes  tienden a mezclar amor y o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Sigmund Fre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8080" y="3124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3360"/>
            <a:ext cx="205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Los perros no son todo en nuestra vida, pero ellos la  hacen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Roger Ca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048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8440" y="415800"/>
            <a:ext cx="980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La razón por la cual los perros tienen tantos amigos es porque mueven sus c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en lugar de sus lenguas.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9500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5445000"/>
            <a:ext cx="86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Las mujeres y los gatos harán lo que les plazca, los perros y los hombres deberían relajarse y acostumbrarse a la i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Robert A. Hein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315200" cy="488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5000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5157720"/>
            <a:ext cx="86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razón por la que recibiste este archivo es porque los perros pued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fatear a una buena persona a  kilómetros de distanc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97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i los perros no van al cielo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cuando muera quiero ir a donde ellos 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ll Ro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64520" y="20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你默默的回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133720"/>
            <a:ext cx="212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erro promedio es mejor persona que la persona prome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y Ro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04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i recoges un perro hambriento de la calle y lo haces próspero, no te morderá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esa es la principal diferencia entre un perro y un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Mark Tw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9520" y="1639800"/>
            <a:ext cx="880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No hay mejor psiquiatra en la tierra que un cachorro lamiéndote la c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Ben Willi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320" y="609480"/>
            <a:ext cx="912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No aceptes la admiración de tu perro como conclusión evidente de que e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maravill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nn La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89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Me pregunto si los demás perros ven a los poodles como miembros de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extraño culto religi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Rita Rud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9234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             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lguna vez te preguntaste qué pensarán nuestros perros de nosotros? Me refiero a que llegamos del supermercado con el más maravilloso botín: pollo, cerdo, media res. Deben creer que somos los mejores cazadores del mundo!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nne Ty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5336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76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Cualquiera que no sepa qué sabor tiene el jabón, jamás ha bañado a un p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Franklin P. 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6:34:52Z</dcterms:created>
  <dc:creator/>
  <dc:description/>
  <dc:language>en-US</dc:language>
  <cp:lastModifiedBy>WinuE</cp:lastModifiedBy>
  <dcterms:modified xsi:type="dcterms:W3CDTF">2008-02-09T05:25:13Z</dcterms:modified>
  <cp:revision>36</cp:revision>
  <dc:subject/>
  <dc:title>PowerPoint Presentation</dc:title>
</cp:coreProperties>
</file>