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GURIDI%20Amorosa%20146%20kb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CB3-4585-4752-963A-A4CC0AD3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CB56-4C08-49BC-BC47-30B9FF6A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FC8-A24E-460A-8CE1-07E88D01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9D8-8396-4846-A87F-997B8BDA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164-FCCF-4327-8A30-09A88A50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EE0-4621-4D8C-8775-E940F229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607-F478-48B4-9256-06C8245F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E8A-89DD-4FDB-94B0-CDD40C27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B88-98E6-48AB-BD6D-1257A0C6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FE0-8864-459E-BB1D-82085E3E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29D-140F-4B92-ADFF-67A63747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DD7-054C-48A4-98B2-6F04F32E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7634-634F-4EF5-984A-00290B25C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GURIDI%20Amorosa%20146%20k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L%20alto%2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Georgia"/>
              </a:rPr>
              <a:t>Lo decisivo es el am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Jesús establece una estrecha conexión entre el amor a Dios y al prójimo. Son insepar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No es posible amar a Dios y desentenderse del herm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Para buscar la voluntad de Dios, lo decisivo no es leer leyes escritas,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sino descubrir las exigencias del amor en la vida de la g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No existe un ámbito sagrado en el que nos podamos ver a solas con Dios;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no es posible adorar a Dios en el templo y vivir olvidado de los que sufren;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l amor de Dios que excluye al prójimo se convierte en menti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Lo que va contra el amor, va contra 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66"/>
                </a:solidFill>
                <a:latin typeface="Comic Sans MS"/>
              </a:rPr>
              <a:t>José Antonio Pag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Jesús:aproximación histór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40320"/>
            <a:ext cx="8153280" cy="5202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Texto: Mateo 22, 34-40. Tiempo Ordinario 30 –A-. Comentarios y presentación: Asun Gutiérre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Música: Jesús Guridi. Díez melodías vascas: Amoro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3886200"/>
            <a:ext cx="3048120" cy="1981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GURIDI%20Amorosa%20146%20k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abino.Zeffirelli%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22860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4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uando los fariseos oyeron que había tapado la boca a los saduceo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 reunieron,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5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 uno de ellos, experto en la ley, le preguntó para ponerl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prueb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4344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os fariseos vuelven a reunirse con la renovada intención de encontr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n las palabras de Jesús un motivo para acusarlo y conden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No es el pueblo el que polemiza con Jesús, sino los  dirigentes políticos y religiosos. Ahora no envían a uno de sus discípulos, sino a un experto en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n un clima de legalismo asfixiante y atosigant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a respuesta de Jesús supone, como siempr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a ráfaga de brisa fresca y de lib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abino.Zeffirelli%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80880"/>
            <a:ext cx="28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cc99"/>
                </a:solidFill>
                <a:latin typeface="Georgia"/>
              </a:rPr>
              <a:t>36</a:t>
            </a: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-Maestro, ¿cuál es el mandamiento más importante de la ley?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09880"/>
            <a:ext cx="9144000" cy="31114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nte la complejidad de muchas situaciones de la vida, tod@s nos hemos preguntado alguna vez qué es lo realmente import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judíos tenían centenares de preceptos: 365 "negativos" y 248 "positivos"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(los primeros empiezan por "no...", y los otros por "debes...") No es de extrañar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oda sociedad organizada tiende a multiplicar sus leyes y normas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ambién nosotr@s podemos a veces andar perdid@s sin saber bien a qué dar importancia y a qué no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Código de Derecho Canónico, que regula la vida eclesial (del año 1983),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tiene 1752 cánones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 todos los aspectos de la vida es necesario saber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qué es secundario y qué es fundament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RAZOS%20ABIERTOS%20CIELO%20chic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37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esús le contestó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Amarás al Señor tu Dios con todo tu corazón, con toda tu al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y con toda tu mente.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38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Éste es el primer mandamiento y el más import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470400"/>
            <a:ext cx="8626320" cy="3385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Jesús siempre facilita y simplifica la vida.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gue dándonos la misma respuesta liberadora, clara y directa. 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Lo primero y principal es el amor, no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uando falla el amor todas las leyes son insufic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uanto menos amor hay, más seguridad –falsa seguridad- dan las nor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l amor ha de ser con todo el corazón –íntegro, no dividido-.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n toda el alma –con la vida entera-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y con toda la mente –en una búsqueda del conocimiento pleno de Dios-.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u mandamiento siempre es fuente de alegría, una invitación, un regalo,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una bienaventuranza.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s escuchar su Palabra, encontrarnos con Él, amar lo que Él ama,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ntar con Él en nuestro proyecto de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IRAR%20HORIZONTE%20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28600"/>
            <a:ext cx="72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cc"/>
                </a:solidFill>
                <a:latin typeface="Georgia"/>
              </a:rPr>
              <a:t>39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El segundo es semejante a éste: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 Amarás al prójimo como a ti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9625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equipara el amor exclusivo a Dios (Dt 6,4) con el amor al prójimo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Ésa es la novedad de Jesús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mar a alguien como a un@ mism@ es amarl@ como si fuera de mi familia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a las personas que más quiero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 nivel teórico quizá no es cuestión difícil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“problema” se puede presentar al llevarlo a la práctica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s palabras de Jesús contienen también una valoración positiva del amor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a un@ mism@ en relación con el amor a Dios y a l@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¿Cómo cuido mis proyectos personales, mis ilusiones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i salud, mi enfermedad, mi felici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Fondo%20Bibl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5120" y="533520"/>
            <a:ext cx="723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 estos dos mandamientos se basa toda la ley y los prof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191120"/>
            <a:ext cx="9144000" cy="28371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da más importancia a la persona que al culto, que al cumplimiento del sábado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a la pureza ritual... Actitud  provocadora y escandalos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gloria de Dios es que el ser humano viva, “que el pobre viva” (Óscar Rom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adie puede engañarse, creyendo que ama a Dios, si no confirma ese amor en el amor a l@s herman@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Sencillamente, basta que hagamos a l@s demás lo que queremos que ell@s nos hagan a nosotr@s en los mil detalles de la vida de cada dí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amor a Dios es la razón para amar al prójimo y el amor al prójimo es la garantí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que nuestro amor a Dios no es un amor estéril y vací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1066680"/>
            <a:ext cx="2133360" cy="2667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1219320"/>
            <a:ext cx="2362320" cy="2438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ILLETES%20gran_usura" descr=""/>
          <p:cNvPicPr/>
          <p:nvPr/>
        </p:nvPicPr>
        <p:blipFill>
          <a:blip r:embed="rId1">
            <a:lum bright="6000"/>
            <a:alphaModFix amt="50000"/>
          </a:blip>
          <a:stretch/>
        </p:blipFill>
        <p:spPr>
          <a:xfrm>
            <a:off x="1752480" y="1066680"/>
            <a:ext cx="5867640" cy="4267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745080"/>
            <a:ext cx="9144000" cy="3111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Vivimos hoy en sociedades que tienen muchas más normas  que el pueblo judío.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Vivimos en un mundo que tiene más millones de personas pobres oprimidas bajo la usura internacional, que l@s oprimid@s por quienes clamaron los profetas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No se puede separar la religión de la defensa de la justicia y de la lucha por l@s pobres. No se puede ser intransigente en cuestiones discutibles de doctrina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 y tener la manga ancha y no denunciar cuestiones de derechos humanos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y de defensa de las personas más débiles. 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La Palabra de Jesús  es una invitación a sacudir nuestra pasividad,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a recuperar la indignación ética ante la situación intolerable de este mundo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 llamado moderno y civilizado, y a volver a lo esencial del Evangelio,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al mandamiento principal y Ú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obreza%20en%20el%20suelo" descr=""/>
          <p:cNvPicPr/>
          <p:nvPr/>
        </p:nvPicPr>
        <p:blipFill>
          <a:blip r:embed="rId2"/>
          <a:stretch/>
        </p:blipFill>
        <p:spPr>
          <a:xfrm>
            <a:off x="0" y="0"/>
            <a:ext cx="3537000" cy="2203560"/>
          </a:xfrm>
          <a:prstGeom prst="rect">
            <a:avLst/>
          </a:prstGeom>
          <a:ln w="0">
            <a:noFill/>
          </a:ln>
        </p:spPr>
      </p:pic>
      <p:pic>
        <p:nvPicPr>
          <p:cNvPr id="65" name="INMIGRANTES%20MUJERES%20manos" descr=""/>
          <p:cNvPicPr/>
          <p:nvPr/>
        </p:nvPicPr>
        <p:blipFill>
          <a:blip r:embed="rId3"/>
          <a:stretch/>
        </p:blipFill>
        <p:spPr>
          <a:xfrm>
            <a:off x="3505320" y="0"/>
            <a:ext cx="259056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inmigrande%20manta%20en%20el%20suelo" descr=""/>
          <p:cNvPicPr/>
          <p:nvPr/>
        </p:nvPicPr>
        <p:blipFill>
          <a:blip r:embed="rId4"/>
          <a:stretch/>
        </p:blipFill>
        <p:spPr>
          <a:xfrm>
            <a:off x="6095880" y="0"/>
            <a:ext cx="3048120" cy="2201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JESUS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350532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pobreza%20TENGO%20HAMBRE%20cartel" descr=""/>
          <p:cNvPicPr/>
          <p:nvPr/>
        </p:nvPicPr>
        <p:blipFill>
          <a:blip r:embed="rId2"/>
          <a:stretch/>
        </p:blipFill>
        <p:spPr>
          <a:xfrm>
            <a:off x="2666880" y="762120"/>
            <a:ext cx="350532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20745000">
            <a:off x="379080" y="2437560"/>
            <a:ext cx="8416440" cy="10688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ien no ama a su hermano a quien ve,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no puede amar a Dios a quien no ve.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I Jn 4,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VELAS%20encendervelas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14280" y="1371600"/>
            <a:ext cx="7047720" cy="50317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Me gustaría que alguien contase, en el día de mi muerte,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que traté de vivir en el servicio al próji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e día quiero que podáis decir que traté de ser justo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y que quise caminar junto a los que actuaban en justicia,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que puse mi empeño en dar de comer al hambriento,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que siempre traté de vestir al desnu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Que dediqué mi vida a visitar a los que sufrían en las cárce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No tendré dinero para dejar cuando me va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No dejaré tampoco las comodidades y los lujos de la vida;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orque todo lo que quiero dejar a mi partida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 una vida entreg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Y eso es lo que os tengo que dec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Si a alguien pude ayudar al encontrarnos a lo largo del sendero,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onces mi vida no habrá sido en v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Si consigo llevar la salvación al mun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si consigo difundir el mensaje que enseñó el Maestro,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onces mi vida no habrá sido en v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                                                                </a:t>
            </a:r>
            <a:r>
              <a:rPr b="0" i="1" lang="es-ES" sz="1800" spc="-1" strike="noStrike">
                <a:solidFill>
                  <a:srgbClr val="ffffcc"/>
                </a:solidFill>
                <a:latin typeface="Comic Sans MS"/>
              </a:rPr>
              <a:t>Martin Luther 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22860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6600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 gustaría...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6600"/>
                  </a:gs>
                  <a:gs pos="100000">
                    <a:srgbClr val="ffffcc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6:15:10Z</dcterms:created>
  <dc:creator> Asun Gutiérrez</dc:creator>
  <dc:description/>
  <dc:language>en-US</dc:language>
  <cp:lastModifiedBy> </cp:lastModifiedBy>
  <dcterms:modified xsi:type="dcterms:W3CDTF">2011-10-16T15:56:20Z</dcterms:modified>
  <cp:revision>68</cp:revision>
  <dc:subject>jeasam@gmail.com</dc:subject>
  <dc:title>30 Tiempo Ordinario -A-</dc:title>
</cp:coreProperties>
</file>