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GURIDI%20Amorosa%20146%20kb.wav" ContentType="audio/x-wav"/>
  <Override PartName="/ppt/media/image6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62A5-D7F6-45E8-BEE4-FD7BC47A8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A11E-1F11-450D-9A55-2789ADD28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9D1A-E32A-40F2-8E48-5A6CB2447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F098-A380-4B97-81B3-3D689F897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E792-D755-477B-AE41-49188DC08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7396-E747-4F9E-809D-11A3690A3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F1D4-43F4-4F59-9545-8757DDEC2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3FD1-62DA-41A8-BB8A-799A3EDDC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E290-D1C9-4FFC-94D8-371F4B4BF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CD1A-D851-4358-BA26-58EDB9D5C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AB53-062E-4C58-A780-23C23F85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B870-EC47-4C36-8DB2-35B6D4C3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F10E2-A231-43BC-9B1A-10DA60B85D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GURIDI%20Amorosa%20146%20kb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OL%20alto%202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36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Georgia"/>
              </a:rPr>
              <a:t>Lo decisivo es el am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Comic Sans MS"/>
              </a:rPr>
              <a:t>Jesús establece una estrecha conexión entre el amor a Dios y al prójimo. Son insepara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Comic Sans MS"/>
              </a:rPr>
              <a:t>No es posible amar a Dios y desentenderse del herma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Comic Sans MS"/>
              </a:rPr>
              <a:t>Para buscar la voluntad de Dios, lo decisivo no es leer leyes escritas,</a:t>
            </a:r>
            <a:br>
              <a:rPr sz="2000"/>
            </a:br>
            <a:r>
              <a:rPr b="0" lang="es-ES" sz="2000" spc="-1" strike="noStrike">
                <a:solidFill>
                  <a:srgbClr val="000066"/>
                </a:solidFill>
                <a:latin typeface="Comic Sans MS"/>
              </a:rPr>
              <a:t>sino descubrir las exigencias del amor en la vida de la g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Comic Sans MS"/>
              </a:rPr>
              <a:t>No existe un ámbito sagrado en el que nos podamos ver a solas con Dios;</a:t>
            </a:r>
            <a:br>
              <a:rPr sz="2000"/>
            </a:br>
            <a:r>
              <a:rPr b="0" lang="es-ES" sz="2000" spc="-1" strike="noStrike">
                <a:solidFill>
                  <a:srgbClr val="000066"/>
                </a:solidFill>
                <a:latin typeface="Comic Sans MS"/>
              </a:rPr>
              <a:t>no es posible adorar a Dios en el templo y vivir olvidado de los que sufren;</a:t>
            </a:r>
            <a:br>
              <a:rPr sz="2000"/>
            </a:br>
            <a:r>
              <a:rPr b="0" lang="es-ES" sz="2000" spc="-1" strike="noStrike">
                <a:solidFill>
                  <a:srgbClr val="000066"/>
                </a:solidFill>
                <a:latin typeface="Comic Sans MS"/>
              </a:rPr>
              <a:t>el amor de Dios que excluye al prójimo se convierte en menti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Comic Sans MS"/>
              </a:rPr>
              <a:t>Lo que va contra el amor, va contra D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66"/>
                </a:solidFill>
                <a:latin typeface="Comic Sans MS"/>
              </a:rPr>
              <a:t>José Antonio Pagol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Jesús:aproximación históri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340320"/>
            <a:ext cx="8153280" cy="52020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Comic Sans MS"/>
              </a:rPr>
              <a:t>Texto: Mateo 22, 34-40. Tiempo Ordinario 30 –A-. Comentarios y presentación: Asun Gutiérrez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Comic Sans MS"/>
              </a:rPr>
              <a:t>Música: Jesús Guridi. Díez melodías vascas: Amoros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971800" y="3886200"/>
            <a:ext cx="3048120" cy="19810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3" name="GURIDI%20Amorosa%20146%20kb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Rabino.Zeffirelli%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228600"/>
            <a:ext cx="8381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ffffff"/>
                </a:solidFill>
                <a:latin typeface="Georgia"/>
              </a:rPr>
              <a:t>34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Cuando los fariseos oyeron que había tapado la boca a los saduceos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e reunieron, 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eorgia"/>
              </a:rPr>
              <a:t>35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y uno de ellos, experto en la ley, le preguntó para ponerlo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a prueb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484344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Los fariseos vuelven a reunirse con la renovada intención de encontrar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en las palabras de Jesús un motivo para acusarlo y condenarl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No es el pueblo el que polemiza con Jesús, sino los  dirigentes políticos y religiosos. Ahora no envían a uno de sus discípulos, sino a un experto en la le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En un clima de legalismo asfixiante y atosigante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la respuesta de Jesús supone, como siempre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una ráfaga de brisa fresca y de liber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abino.Zeffirelli%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380880"/>
            <a:ext cx="281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ffcc99"/>
                </a:solidFill>
                <a:latin typeface="Georgia"/>
              </a:rPr>
              <a:t>36</a:t>
            </a:r>
            <a:r>
              <a:rPr b="0" lang="en-US" sz="2000" spc="-1" strike="noStrike">
                <a:solidFill>
                  <a:srgbClr val="ffcc99"/>
                </a:solidFill>
                <a:latin typeface="Georgia"/>
              </a:rPr>
              <a:t>-Maestro, ¿cuál es el mandamiento más importante de la ley?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809880"/>
            <a:ext cx="9144000" cy="311148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Ante la complejidad de muchas situaciones de la vida, tod@s nos hemos preguntado alguna vez qué es lo realmente importa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Los judíos tenían centenares de preceptos: 365 "negativos" y 248 "positivos"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(los primeros empiezan por "no...", y los otros por "debes...") No es de extrañar.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Toda sociedad organizada tiende a multiplicar sus leyes y normas.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También nosotr@s podemos a veces andar perdid@s sin saber bien a qué dar importancia y a qué no.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El Código de Derecho Canónico, que regula la vida eclesial (del año 1983),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contiene 1752 cánones.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En todos los aspectos de la vida es necesario saber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qué es secundario y qué es fundamenta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BRAZOS%20ABIERTOS%20CIELO%20chic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0"/>
            <a:ext cx="9144000" cy="131364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Georgia"/>
              </a:rPr>
              <a:t>37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Jesús le contestó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-Amarás al Señor tu Dios con todo tu corazón, con toda tu alm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y con toda tu mente.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eorgia"/>
              </a:rPr>
              <a:t>38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Éste es el primer mandamiento y el más important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3470400"/>
            <a:ext cx="8626320" cy="338580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Jesús siempre facilita y simplifica la vida. 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Sigue dándonos la misma respuesta liberadora, clara y directa.  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Lo primero y principal es el amor, no la le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Cuando falla el amor todas las leyes son insuficien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Cuanto menos amor hay, más seguridad –falsa seguridad- dan las norm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El amor ha de ser con todo el corazón –íntegro, no dividido-.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Con toda el alma –con la vida entera- 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y con toda la mente –en una búsqueda del conocimiento pleno de Dios-.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Su mandamiento siempre es fuente de alegría, una invitación, un regalo,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 una bienaventuranza. 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Es escuchar su Palabra, encontrarnos con Él, amar lo que Él ama, 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contar con Él en nuestro proyecto de vi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MIRAR%20HORIZONTE%204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228600"/>
            <a:ext cx="724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ffffcc"/>
                </a:solidFill>
                <a:latin typeface="Georgia"/>
              </a:rPr>
              <a:t>39</a:t>
            </a: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El segundo es semejante a éste: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 Amarás al prójimo como a ti mis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962520"/>
            <a:ext cx="8915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Jesús equipara el amor exclusivo a Dios (Dt 6,4) con el amor al prójimo.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 Ésa es la novedad de Jesús.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Amar a alguien como a un@ mism@ es amarl@ como si fuera de mi familia, 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como a las personas que más quiero. 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A nivel teórico quizá no es cuestión difícil. 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l “problema” se puede presentar al llevarlo a la práctica.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Las palabras de Jesús contienen también una valoración positiva del amor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 a un@ mism@ en relación con el amor a Dios y a l@s demá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¿Cómo cuido mis proyectos personales, mis ilusiones, 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mi salud, mi enfermedad, mi felicida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Fondo%20Bibli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905120" y="533520"/>
            <a:ext cx="7238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n estos dos mandamientos se basa toda la ley y los profet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4191120"/>
            <a:ext cx="9144000" cy="283716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Jesús da más importancia a la persona que al culto, que al cumplimiento del sábado,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que a la pureza ritual... Actitud  provocadora y escandalosa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La gloria de Dios es que el ser humano viva, “que el pobre viva” (Óscar Romer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Nadie puede engañarse, creyendo que ama a Dios, si no confirma ese amor en el amor a l@s herman@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Sencillamente, basta que hagamos a l@s demás lo que queremos que ell@s nos hagan a nosotr@s en los mil detalles de la vida de cada dí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l amor a Dios es la razón para amar al prójimo y el amor al prójimo es la garantía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de que nuestro amor a Dios no es un amor estéril y vací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62320" y="1066680"/>
            <a:ext cx="2133360" cy="26672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1219320"/>
            <a:ext cx="2362320" cy="24382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BILLETES%20gran_usura" descr=""/>
          <p:cNvPicPr/>
          <p:nvPr/>
        </p:nvPicPr>
        <p:blipFill>
          <a:blip r:embed="rId1">
            <a:lum bright="6000"/>
            <a:alphaModFix amt="50000"/>
          </a:blip>
          <a:stretch/>
        </p:blipFill>
        <p:spPr>
          <a:xfrm>
            <a:off x="1752480" y="1066680"/>
            <a:ext cx="5867640" cy="4267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3745080"/>
            <a:ext cx="9144000" cy="31114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Vivimos hoy en sociedades que tienen muchas más normas  que el pueblo judío. </a:t>
            </a:r>
            <a:br>
              <a:rPr sz="1800"/>
            </a:b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Vivimos en un mundo que tiene más millones de personas pobres oprimidas bajo la usura internacional, que l@s oprimid@s por quienes clamaron los profetas.</a:t>
            </a:r>
            <a:br>
              <a:rPr sz="1800"/>
            </a:b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No se puede separar la religión de la defensa de la justicia y de la lucha por l@s pobres. No se puede ser intransigente en cuestiones discutibles de doctrina</a:t>
            </a:r>
            <a:br>
              <a:rPr sz="1800"/>
            </a:b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 y tener la manga ancha y no denunciar cuestiones de derechos humanos </a:t>
            </a:r>
            <a:br>
              <a:rPr sz="1800"/>
            </a:b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y de defensa de las personas más débiles.  </a:t>
            </a:r>
            <a:br>
              <a:rPr sz="1800"/>
            </a:b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La Palabra de Jesús  es una invitación a sacudir nuestra pasividad, </a:t>
            </a:r>
            <a:br>
              <a:rPr sz="1800"/>
            </a:b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a recuperar la indignación ética ante la situación intolerable de este mundo</a:t>
            </a:r>
            <a:br>
              <a:rPr sz="1800"/>
            </a:b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 llamado moderno y civilizado, y a volver a lo esencial del Evangelio, </a:t>
            </a:r>
            <a:br>
              <a:rPr sz="1800"/>
            </a:b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al mandamiento principal y Ún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obreza%20en%20el%20suelo" descr=""/>
          <p:cNvPicPr/>
          <p:nvPr/>
        </p:nvPicPr>
        <p:blipFill>
          <a:blip r:embed="rId2"/>
          <a:stretch/>
        </p:blipFill>
        <p:spPr>
          <a:xfrm>
            <a:off x="0" y="0"/>
            <a:ext cx="3537000" cy="2203560"/>
          </a:xfrm>
          <a:prstGeom prst="rect">
            <a:avLst/>
          </a:prstGeom>
          <a:ln w="0">
            <a:noFill/>
          </a:ln>
        </p:spPr>
      </p:pic>
      <p:pic>
        <p:nvPicPr>
          <p:cNvPr id="65" name="INMIGRANTES%20MUJERES%20manos" descr=""/>
          <p:cNvPicPr/>
          <p:nvPr/>
        </p:nvPicPr>
        <p:blipFill>
          <a:blip r:embed="rId3"/>
          <a:stretch/>
        </p:blipFill>
        <p:spPr>
          <a:xfrm>
            <a:off x="3505320" y="0"/>
            <a:ext cx="2590560" cy="2209680"/>
          </a:xfrm>
          <a:prstGeom prst="rect">
            <a:avLst/>
          </a:prstGeom>
          <a:ln w="0">
            <a:noFill/>
          </a:ln>
        </p:spPr>
      </p:pic>
      <p:pic>
        <p:nvPicPr>
          <p:cNvPr id="66" name="inmigrande%20manta%20en%20el%20suelo" descr=""/>
          <p:cNvPicPr/>
          <p:nvPr/>
        </p:nvPicPr>
        <p:blipFill>
          <a:blip r:embed="rId4"/>
          <a:stretch/>
        </p:blipFill>
        <p:spPr>
          <a:xfrm>
            <a:off x="6095880" y="0"/>
            <a:ext cx="3048120" cy="22017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JESUS" descr=""/>
          <p:cNvPicPr/>
          <p:nvPr/>
        </p:nvPicPr>
        <p:blipFill>
          <a:blip r:embed="rId1"/>
          <a:stretch/>
        </p:blipFill>
        <p:spPr>
          <a:xfrm>
            <a:off x="2743200" y="609480"/>
            <a:ext cx="3505320" cy="4343400"/>
          </a:xfrm>
          <a:prstGeom prst="rect">
            <a:avLst/>
          </a:prstGeom>
          <a:ln w="0">
            <a:noFill/>
          </a:ln>
        </p:spPr>
      </p:pic>
      <p:pic>
        <p:nvPicPr>
          <p:cNvPr id="68" name="pobreza%20TENGO%20HAMBRE%20cartel" descr=""/>
          <p:cNvPicPr/>
          <p:nvPr/>
        </p:nvPicPr>
        <p:blipFill>
          <a:blip r:embed="rId2"/>
          <a:stretch/>
        </p:blipFill>
        <p:spPr>
          <a:xfrm>
            <a:off x="2666880" y="762120"/>
            <a:ext cx="3505320" cy="4114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 rot="20745000">
            <a:off x="379080" y="2437560"/>
            <a:ext cx="8416440" cy="106884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Quien no ama a su hermano a quien ve,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no puede amar a Dios a quien no ve.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I Jn 4,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VELAS%20encendervelas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114280" y="1371600"/>
            <a:ext cx="7047720" cy="50317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Me gustaría que alguien contase, en el día de mi muerte,</a:t>
            </a:r>
            <a:br>
              <a:rPr sz="1800"/>
            </a:b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que traté de vivir en el servicio al prójim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e día quiero que podáis decir que traté de ser justo</a:t>
            </a:r>
            <a:br>
              <a:rPr sz="1800"/>
            </a:b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y que quise caminar junto a los que actuaban en justicia,</a:t>
            </a:r>
            <a:br>
              <a:rPr sz="1800"/>
            </a:b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que puse mi empeño en dar de comer al hambriento,</a:t>
            </a:r>
            <a:br>
              <a:rPr sz="1800"/>
            </a:b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que siempre traté de vestir al desnu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Que dediqué mi vida a visitar a los que sufrían en las cárce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No tendré dinero para dejar cuando me vay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No dejaré tampoco las comodidades y los lujos de la vida;</a:t>
            </a:r>
            <a:br>
              <a:rPr sz="1800"/>
            </a:b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orque todo lo que quiero dejar a mi partida</a:t>
            </a:r>
            <a:br>
              <a:rPr sz="1800"/>
            </a:b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 una vida entreg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Y eso es lo que os tengo que deci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Si a alguien pude ayudar al encontrarnos a lo largo del sendero,</a:t>
            </a:r>
            <a:br>
              <a:rPr sz="1800"/>
            </a:b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onces mi vida no habrá sido en va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Si consigo llevar la salvación al mundo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si consigo difundir el mensaje que enseñó el Maestro,</a:t>
            </a:r>
            <a:br>
              <a:rPr sz="1800"/>
            </a:b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onces mi vida no habrá sido en va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                                                                </a:t>
            </a:r>
            <a:r>
              <a:rPr b="0" i="1" lang="es-ES" sz="1800" spc="-1" strike="noStrike">
                <a:solidFill>
                  <a:srgbClr val="ffffcc"/>
                </a:solidFill>
                <a:latin typeface="Comic Sans MS"/>
              </a:rPr>
              <a:t>Martin Luther 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09480" y="228600"/>
            <a:ext cx="3048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96600"/>
                    </a:gs>
                    <a:gs pos="100000">
                      <a:srgbClr val="ffffcc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Me gustaría...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96600"/>
                  </a:gs>
                  <a:gs pos="100000">
                    <a:srgbClr val="ffffcc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16:15:10Z</dcterms:created>
  <dc:creator> Asun Gutiérrez</dc:creator>
  <dc:description/>
  <dc:language>en-US</dc:language>
  <cp:lastModifiedBy> </cp:lastModifiedBy>
  <dcterms:modified xsi:type="dcterms:W3CDTF">2011-10-16T15:56:20Z</dcterms:modified>
  <cp:revision>68</cp:revision>
  <dc:subject>jeasam@gmail.com</dc:subject>
  <dc:title>30 Tiempo Ordinario -A-</dc:title>
</cp:coreProperties>
</file>