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C86-6E69-4895-B103-6548221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610-A19B-4723-9C65-1DF4F895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2A3-831C-41DB-A041-F38A0C26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31F-7203-48E6-912C-6686E6C6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292-10F9-4A07-AA7A-EFFF106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531-7736-4402-9702-9B43268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147-850B-4187-B285-F49DAB24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23C-4BA9-40D5-88EA-83223E79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8F2-EF30-449A-A993-5480CD85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432-F3E0-46E8-96D1-1C27507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92C-B651-4286-924B-0FDD440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9F3-6760-4161-A425-B33323A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8D3-8B68-4131-8788-AD787B1A6B6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mama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22:21:40Z</dcterms:created>
  <dc:creator>USER</dc:creator>
  <dc:description/>
  <dc:language>en-US</dc:language>
  <cp:lastModifiedBy>USER</cp:lastModifiedBy>
  <dcterms:modified xsi:type="dcterms:W3CDTF">2014-02-27T22:22:38Z</dcterms:modified>
  <cp:revision>1</cp:revision>
  <dc:subject/>
  <dc:title>Diapositiva 1</dc:title>
</cp:coreProperties>
</file>