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66D-5A6A-4824-BC67-645B9432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5FA-3DBB-44E8-986B-87C5FC4F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93D-7A76-4DE3-BF36-87219DEB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908-0A1B-4EAB-B80A-100CCE59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B96-5AA9-4780-B095-07D8ACF6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932-F236-447D-8DC3-F1F6C744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E67-6DA3-40B3-ACDD-0E502076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AA0-6BBF-4CC0-8737-AE0109E3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E87-A5B3-4762-A03F-B45F902D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C97-FB11-4FB6-A740-0537F02D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8E9-10AC-457E-A16D-0862ED2C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B8A-E9BF-4A79-82BC-77992508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519E-E387-4848-A278-137E3BB3A4D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mama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22:21:40Z</dcterms:created>
  <dc:creator>USER</dc:creator>
  <dc:description/>
  <dc:language>en-US</dc:language>
  <cp:lastModifiedBy>USER</cp:lastModifiedBy>
  <dcterms:modified xsi:type="dcterms:W3CDTF">2014-02-27T22:22:38Z</dcterms:modified>
  <cp:revision>1</cp:revision>
  <dc:subject/>
  <dc:title>Diapositiva 1</dc:title>
</cp:coreProperties>
</file>