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67E-9051-4A05-BB0C-9595E1F4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BBB-B52F-4ADC-BA44-E8D2C2D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08D-84F5-42D0-B2B6-268923A8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AFB-E01F-407B-8F63-69CA4970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4BF-08F2-4459-B6DE-E7AC8E63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C1A-6996-4034-B2BE-24285448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407-EC39-41C6-A59E-D1666CB6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2E1-1EE7-4A89-B437-3853A3FB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10F-C041-4841-9CB4-0C000AA4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383-4633-45AC-9246-6D82FA8C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0DD-3FC8-438D-ACC3-C85D309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3CD-D7F8-4280-9C4E-565253E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30EE-F2C0-4ED8-AFC6-01731074A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ivaldi"/>
              </a:rPr>
              <a:t>Maravilhas sobre Rod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utomóveis extraordinários do período pré-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32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Book Antiqua"/>
              </a:rPr>
              <a:t>Delahaye 145 Chapron Cou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tor V12 de 4,5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 exemplares construídos entre 1938 e 194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Mercedes-Benz 710 SSK Trossi Road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Motor de 6 cilind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em linha e 7,1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Exemplar únic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construído em 19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Ganhou o Concorso d'Elega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Villa d'Este de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Book Antiqua"/>
              </a:rPr>
              <a:t>Napier-Railton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9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Motor aeronáutico de 12 cilindros e 24 litros. Potência estimada em 600 c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Exemplar único, construído em 19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Bateu 47 recordes mundiais de veloc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Rolls-Royce Phantom I Jonckheere Coup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tor de 6 cilindros em linha e 7,7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xemplar único. Carroceria construída na Bélgica, nos anos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dquirido em leilão por um colecionador japonês por US$ 1,5 milh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ook Antiqua"/>
              </a:rPr>
              <a:t>Voisin C20 'Mylord' Demi-Berl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tor V12 de 4,9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xemplar único, construído em 19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lfa Romeo 8C 2900 B Corto Touring Berline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Talbot-Lago T150 C Figoni et Falaschi 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'Goutte d'Eau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Motor de 6 cilindros em linha e 4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Apenas 16 exemplares fabr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Avaliado em mais de US$ 3 milh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Book Antiqua"/>
              </a:rPr>
              <a:t>Fontes: Supercars.net &amp; Ultimatecarpag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Motor de 8 cilindros em linha e 2,9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Apenas 20 exemplares foram fabricados entre 1937 e 193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O modelo da foto ganhou o 2008 Pebble Beach Concours d'Eleg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Bucciali TAV 8-32 Saoutchik 'Fleche d'Or' Ber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tor V12 de 4,9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xemplar único, construído em 19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m dos primeiros carros com tração nas rodas diant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Bugatti Tipo 57C Van Vooren Cabrio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tor de 8 cilindros em linha e 3,3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xemplar único, construído em 193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esente de casamento do governo francês ao Xá da Pér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Daimler Double-Six 50 Corsica Drophead Coup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tor V12 de 7,2 litros. Exemplar único, construído em 19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8:06:35Z</dcterms:created>
  <dc:creator> usuario</dc:creator>
  <dc:description/>
  <dc:language>en-US</dc:language>
  <cp:lastModifiedBy>bart</cp:lastModifiedBy>
  <dcterms:modified xsi:type="dcterms:W3CDTF">2008-11-04T17:25:26Z</dcterms:modified>
  <cp:revision>16</cp:revision>
  <dc:subject/>
  <dc:title>Maravilhas sobre Rodas</dc:title>
</cp:coreProperties>
</file>