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594-A7F0-4764-8F5A-19B5EF5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34F-E271-4514-99A9-AE1F250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12D-1452-4760-A47C-1427D476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6D7-F4BA-45A5-AA45-6F4A8AB3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016-34F0-462C-B4F2-A94D2D49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529-79A5-46C5-90EC-BB900BA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E2-88B0-4A91-A4FA-24EF9AE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865-8471-408F-8CB8-A591CB4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4ED-642E-4FE9-BE73-9ECB81D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168-2D69-42F9-8B4D-4D15131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005-FFF5-46B0-A60E-6A97E982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1D2-F6C2-4A09-B605-31B345F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8F42-561D-4D21-80E7-29D0B52DE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ivaldi"/>
              </a:rPr>
              <a:t>Maravilhas sobre Ro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utomóveis extraordinários do período pré-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Book Antiqua"/>
              </a:rPr>
              <a:t>Delahaye 145 Chapron C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5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 exemplares construídos entre 1938 e 194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Mercedes-Benz 710 SSK Trossi Road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Motor de 6 cilind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em linha e 7,1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Exemplar ún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Ganhou o Concorso d'Eleg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Villa d'Este de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Book Antiqua"/>
              </a:rPr>
              <a:t>Napier-Railton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tor aeronáutico de 12 cilindros e 24 litros. Potência estimada em 600 c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Exemplar único, construído em 19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Bateu 47 recordes mundiais de veloc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Rolls-Royce Phantom I Jonckheere Cou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tor de 6 cilindros em linha e 7,7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xemplar único. Carroceria construída na Bélgica, nos anos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dquirido em leilão por um colecionador japonês por US$ 1,5 milh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Book Antiqua"/>
              </a:rPr>
              <a:t>Voisin C20 'Mylord' Demi-Ber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lfa Romeo 8C 2900 B Corto Touring Berlin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Talbot-Lago T150 C Figoni et Falaschi 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'Goutte d'Eau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Motor de 6 cilindros em linha e 4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Apenas 16 exemplares fabr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Avaliado em mais de US$ 3 milh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ook Antiqua"/>
              </a:rPr>
              <a:t>Fontes: Supercars.net &amp; Ultimatecarpag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tor de 8 cilindros em linha e 2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penas 20 exemplares foram fabricados entre 1937 e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O modelo da foto ganhou o 2008 Pebble Beach Concours d'Eleg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Bucciali TAV 8-32 Saoutchik 'Fleche d'Or' Ber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4,9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m dos primeiros carros com tração nas rodas diant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 Antiqua"/>
              </a:rPr>
              <a:t>Bugatti Tipo 57C Van Vooren Cabr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tor de 8 cilindros em linha e 3,3 li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xemplar único, construído em 19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resente de casamento do governo francês ao Xá da Pér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aimler Double-Six 50 Corsica Drophead Coup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tor V12 de 7,2 litros. Exemplar único, construído em 19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8:06:35Z</dcterms:created>
  <dc:creator> usuario</dc:creator>
  <dc:description/>
  <dc:language>en-US</dc:language>
  <cp:lastModifiedBy>bart</cp:lastModifiedBy>
  <dcterms:modified xsi:type="dcterms:W3CDTF">2008-11-04T17:25:26Z</dcterms:modified>
  <cp:revision>16</cp:revision>
  <dc:subject/>
  <dc:title>Maravilhas sobre Rodas</dc:title>
</cp:coreProperties>
</file>