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Nachtigall_Serenade20.wav" ContentType="audio/x-wav"/>
  <Override PartName="/ppt/media/image8.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85C5B-8B2F-4BF3-889D-160F3AF2A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787F-70C6-4ABE-9AB4-11DB3480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23A51-5B3E-404D-A9D6-5693EB9E6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B820C-8A16-48DF-AF4A-D0C870EEF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4E92B-2CF3-4F2B-9A9A-94A67C291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7A53C-B721-412C-A00D-390A9CCE2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93542-6890-4261-9AC1-553A5ED15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FF92-06B8-4210-A74A-1CC829357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13119-6C5A-410B-9BBE-E70B1A906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59FCE-C939-4A4B-B99F-BEE6E833E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74921-5CB6-48A8-A574-C20BA3994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C9247-E7C8-499A-A2D0-73B441FCE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0875-317F-4EA9-AC2B-448528866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Nachtigall_Serenade20.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79280" y="189000"/>
            <a:ext cx="6193080" cy="3020040"/>
          </a:xfrm>
          <a:prstGeom prst="rect">
            <a:avLst/>
          </a:prstGeom>
          <a:solidFill>
            <a:srgbClr val="ffff00">
              <a:alpha val="5000"/>
            </a:srgbClr>
          </a:solid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cc"/>
                </a:solidFill>
                <a:latin typeface="Edwardian Script ITC"/>
              </a:rPr>
              <a:t>¿Tienes sed?</a:t>
            </a:r>
            <a:endParaRPr b="0" lang="en-US" sz="9600" spc="-1" strike="noStrike">
              <a:solidFill>
                <a:srgbClr val="000000"/>
              </a:solidFill>
              <a:latin typeface="Arial"/>
            </a:endParaRPr>
          </a:p>
        </p:txBody>
      </p:sp>
    </p:spTree>
  </p:cSld>
  <p:transition spd="slow">
    <p:zoom dir="out"/>
    <p:sndAc>
      <p:stSnd>
        <p:snd r:embed="rId2" name="Nachtigall_Serenade20.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79280" y="189000"/>
            <a:ext cx="8785440" cy="119124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Century Gothic"/>
              </a:rPr>
              <a:t>UN MENSAJE A LA CONCIENCIA HUMANA DEL MUNDO PARA QUE SE APRECIE EL VALOR DEL AGU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Century Gothic"/>
              </a:rPr>
              <a:t>QUE EN ALGUNOS LUGARES TODAVÍA TENEMOS...</a:t>
            </a:r>
            <a:endParaRPr b="0" lang="en-US" sz="2400" spc="-1" strike="noStrike">
              <a:solidFill>
                <a:srgbClr val="000000"/>
              </a:solidFill>
              <a:latin typeface="Arial"/>
            </a:endParaRPr>
          </a:p>
        </p:txBody>
      </p:sp>
    </p:spTree>
  </p:cSld>
  <p:transition spd="slow">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79280" y="4653000"/>
            <a:ext cx="8785440" cy="3751560"/>
          </a:xfrm>
          <a:prstGeom prst="rect">
            <a:avLst/>
          </a:prstGeom>
          <a:solidFill>
            <a:srgbClr val="80008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Edwardian Script ITC"/>
              </a:rPr>
              <a:t>Por favor, reenvía este mensaje a todos tus contactos… Es un problema de todos.</a:t>
            </a:r>
            <a:endParaRPr b="0" lang="en-US" sz="6000" spc="-1" strike="noStrike">
              <a:solidFill>
                <a:srgbClr val="000000"/>
              </a:solidFill>
              <a:latin typeface="Arial"/>
            </a:endParaRPr>
          </a:p>
        </p:txBody>
      </p:sp>
    </p:spTree>
  </p:cSld>
  <p:transition spd="slow">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8"/>
                                        </p:tgtEl>
                                        <p:attrNameLst>
                                          <p:attrName>style.visibility</p:attrName>
                                        </p:attrNameLst>
                                      </p:cBhvr>
                                      <p:to>
                                        <p:strVal val="visible"/>
                                      </p:to>
                                    </p:set>
                                    <p:animEffect filter="fade" transition="in">
                                      <p:cBhvr additive="repl">
                                        <p:cTn id="2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79280" y="195120"/>
            <a:ext cx="8785440" cy="338580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Es momento de tomar conciencia sobre uno de nuestros más preciados valores, el AGUA, recurso primordial para mantener la vida. Les invitamos a hacer una cadena para que este mensaje trascienda más allá de nuestras fronteras si es posi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cc"/>
                </a:solidFill>
                <a:latin typeface="Century Gothic"/>
              </a:rPr>
              <a:t>Y a nosotros que nos cuesta, cerrar la llave mientras nos enjabonamos, o cuando nos lavamos los dientes???? </a:t>
            </a:r>
            <a:br>
              <a:rPr sz="2400"/>
            </a:br>
            <a:r>
              <a:rPr b="1" lang="en-US" sz="2400" spc="-1" strike="noStrike">
                <a:solidFill>
                  <a:srgbClr val="ffffff"/>
                </a:solidFill>
                <a:latin typeface="Century Gothic"/>
              </a:rPr>
              <a:t>CUIDEMOS EL AGUA</a:t>
            </a:r>
            <a:endParaRPr b="0" lang="en-US" sz="2400" spc="-1" strike="noStrike">
              <a:solidFill>
                <a:srgbClr val="000000"/>
              </a:solidFill>
              <a:latin typeface="Arial"/>
            </a:endParaRPr>
          </a:p>
        </p:txBody>
      </p:sp>
    </p:spTree>
  </p:cSld>
  <p:transition spd="slow">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2"/>
                                        </p:tgtEl>
                                        <p:attrNameLst>
                                          <p:attrName>style.visibility</p:attrName>
                                        </p:attrNameLst>
                                      </p:cBhvr>
                                      <p:to>
                                        <p:strVal val="visible"/>
                                      </p:to>
                                    </p:set>
                                    <p:animEffect filter="fade" transition="in">
                                      <p:cBhvr additive="repl">
                                        <p:cTn id="14"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11280" y="471600"/>
            <a:ext cx="7848360" cy="5189400"/>
          </a:xfrm>
          <a:prstGeom prst="rect">
            <a:avLst/>
          </a:prstGeom>
          <a:ln w="0">
            <a:noFill/>
          </a:ln>
        </p:spPr>
      </p:pic>
      <p:sp>
        <p:nvSpPr>
          <p:cNvPr id="44" name=""/>
          <p:cNvSpPr/>
          <p:nvPr/>
        </p:nvSpPr>
        <p:spPr>
          <a:xfrm>
            <a:off x="0" y="5702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Delhi, Ind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dos quieren solo un poco de agua.</a:t>
            </a:r>
            <a:endParaRPr b="0" lang="en-US" sz="24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26920" y="115920"/>
            <a:ext cx="7490160" cy="4952880"/>
          </a:xfrm>
          <a:prstGeom prst="rect">
            <a:avLst/>
          </a:prstGeom>
          <a:ln w="0">
            <a:noFill/>
          </a:ln>
        </p:spPr>
      </p:pic>
      <p:sp>
        <p:nvSpPr>
          <p:cNvPr id="46" name=""/>
          <p:cNvSpPr/>
          <p:nvPr/>
        </p:nvSpPr>
        <p:spPr>
          <a:xfrm>
            <a:off x="0" y="5084640"/>
            <a:ext cx="9144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entury Gothic"/>
              </a:rPr>
              <a:t>Dos muchachos sudaneses beben agua de pantanos con tubos plásticos especialmente concebidos para este fin con un filtro, para filtrar las larvas flotantes que son responsables de la enfermedad del gusano de Guinea. El programa ha distribuido millones de tubos y ha reducido la extensión de esta enfermedad debilitante en un 70%.</a:t>
            </a:r>
            <a:endParaRPr b="0" lang="en-US" sz="20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5640" y="115920"/>
            <a:ext cx="7704000" cy="5094360"/>
          </a:xfrm>
          <a:prstGeom prst="rect">
            <a:avLst/>
          </a:prstGeom>
          <a:ln w="0">
            <a:noFill/>
          </a:ln>
        </p:spPr>
      </p:pic>
      <p:sp>
        <p:nvSpPr>
          <p:cNvPr id="48" name=""/>
          <p:cNvSpPr/>
          <p:nvPr/>
        </p:nvSpPr>
        <p:spPr>
          <a:xfrm>
            <a:off x="0" y="5229360"/>
            <a:ext cx="9144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entury Gothic"/>
              </a:rPr>
              <a:t>Los glaciares que proveen a Europa el agua potable han perdido más de la mitad de su volumen en el siglo pasado. En esta foto, trabajadores en la estación de esquí del glaciar de Pitztal en Austria cubren con una manta especial el glaciar para proteger la nieve durante los meses del verano y retardar el derretimiento.</a:t>
            </a:r>
            <a:endParaRPr b="0" lang="en-US" sz="2000" spc="-1" strike="noStrike">
              <a:solidFill>
                <a:srgbClr val="000000"/>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719280" y="476280"/>
            <a:ext cx="7704000" cy="5094360"/>
          </a:xfrm>
          <a:prstGeom prst="rect">
            <a:avLst/>
          </a:prstGeom>
          <a:ln w="0">
            <a:noFill/>
          </a:ln>
        </p:spPr>
      </p:pic>
      <p:sp>
        <p:nvSpPr>
          <p:cNvPr id="50" name=""/>
          <p:cNvSpPr/>
          <p:nvPr/>
        </p:nvSpPr>
        <p:spPr>
          <a:xfrm>
            <a:off x="0" y="57340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Century Gothic"/>
              </a:rPr>
              <a:t>Las aguas del delta del río de Niger se utiliz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Century Gothic"/>
              </a:rPr>
              <a:t>para defecar, bañarse, pescar y tirar la basura. </a:t>
            </a:r>
            <a:endParaRPr b="0" lang="en-US" sz="24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863640" y="765000"/>
            <a:ext cx="7416720" cy="4903920"/>
          </a:xfrm>
          <a:prstGeom prst="rect">
            <a:avLst/>
          </a:prstGeom>
          <a:ln w="0">
            <a:noFill/>
          </a:ln>
        </p:spPr>
      </p:pic>
      <p:sp>
        <p:nvSpPr>
          <p:cNvPr id="52"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Aguas sucias en grifos residenciales a causa de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avance indiscriminado del desarrollo.  </a:t>
            </a:r>
            <a:endParaRPr b="0" lang="en-US" sz="24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826920" y="420840"/>
            <a:ext cx="7490160" cy="4952880"/>
          </a:xfrm>
          <a:prstGeom prst="rect">
            <a:avLst/>
          </a:prstGeom>
          <a:ln w="0">
            <a:noFill/>
          </a:ln>
        </p:spPr>
      </p:pic>
      <p:sp>
        <p:nvSpPr>
          <p:cNvPr id="54" name=""/>
          <p:cNvSpPr/>
          <p:nvPr/>
        </p:nvSpPr>
        <p:spPr>
          <a:xfrm>
            <a:off x="395280" y="5518080"/>
            <a:ext cx="8317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entury Gothic"/>
              </a:rPr>
              <a:t>Aldeanos en la isla de Coronilla, Kenya, cavan pozos profundos en busca del preciado líquido, apenas a 300 metros del ma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entury Gothic"/>
              </a:rPr>
              <a:t>el agua que obtienen es insalubre pero digerible.</a:t>
            </a:r>
            <a:endParaRPr b="0" lang="en-US" sz="20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934920" y="708120"/>
            <a:ext cx="7272360" cy="4808520"/>
          </a:xfrm>
          <a:prstGeom prst="rect">
            <a:avLst/>
          </a:prstGeom>
          <a:ln w="0">
            <a:noFill/>
          </a:ln>
        </p:spPr>
      </p:pic>
      <p:sp>
        <p:nvSpPr>
          <p:cNvPr id="56" name=""/>
          <p:cNvSpPr/>
          <p:nvPr/>
        </p:nvSpPr>
        <p:spPr>
          <a:xfrm>
            <a:off x="971640" y="5518080"/>
            <a:ext cx="720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entury Gothic"/>
              </a:rPr>
              <a:t>El que una vez fue el cuarto lago más grande del mundo, ahora es un cementerio polvoriento en el que se aprecian naves que nunca zarparán.</a:t>
            </a:r>
            <a:endParaRPr b="0" lang="en-US" sz="20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23:05:49Z</dcterms:created>
  <dc:creator>MODIFICADO NSGEG 13.6</dc:creator>
  <dc:description/>
  <dc:language>en-US</dc:language>
  <cp:lastModifiedBy>pc</cp:lastModifiedBy>
  <dcterms:modified xsi:type="dcterms:W3CDTF">2009-07-24T18:50:59Z</dcterms:modified>
  <cp:revision>15</cp:revision>
  <dc:subject/>
  <dc:title>TIENES SED - EL VALOR DEL AGUA...</dc:title>
</cp:coreProperties>
</file>