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DimaSt%20arab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CB2E-D053-4D30-B511-20A372C3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BDFF-59C5-4F9E-B04D-FDA25F0B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97A1-372E-429A-BBC6-156A6A96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4EF-D4A8-47EC-81F1-F47DA0FA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7E1-89AE-48F9-9163-829A407B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99E4-331F-45A0-BEC4-6D5EAD91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CEB3-9EAF-4DA9-A87E-55CB9EC9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62F4-E8C1-4E8B-AB4A-8AD36177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AFB-9404-4CE8-96CB-2776D8C9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AE9-C89B-413A-8017-F36BF879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BB8F-CA6E-4DF6-9AF1-507ECC0A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E9DD-2BE1-45EB-BB4C-A837B5E8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ED14-760E-4948-AE2D-0B907D3288EB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imaSt%20arab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19640" y="5516640"/>
            <a:ext cx="526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99cc00"/>
                </a:solidFill>
                <a:latin typeface="Comic Sans MS"/>
              </a:rPr>
              <a:t>Música: Canto de la Pasió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99cc00"/>
                </a:solidFill>
                <a:latin typeface="Comic Sans MS"/>
              </a:rPr>
              <a:t> </a:t>
            </a:r>
            <a:r>
              <a:rPr b="1" lang="ca-ES" sz="2400" spc="-1" strike="noStrike">
                <a:solidFill>
                  <a:srgbClr val="99cc00"/>
                </a:solidFill>
                <a:latin typeface="Comic Sans MS"/>
              </a:rPr>
              <a:t>Ciclo B</a:t>
            </a:r>
            <a:r>
              <a:rPr b="1" lang="ca-ES" sz="2000" spc="-1" strike="noStrike">
                <a:solidFill>
                  <a:srgbClr val="99cc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29760" y="1523880"/>
            <a:ext cx="695916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0cfffb"/>
                </a:solidFill>
                <a:latin typeface="Comic Sans MS"/>
              </a:rPr>
              <a:t> </a:t>
            </a:r>
            <a:r>
              <a:rPr b="1" i="1" lang="ca-ES" sz="4800" spc="-1" strike="noStrike">
                <a:solidFill>
                  <a:srgbClr val="0cfffb"/>
                </a:solidFill>
                <a:latin typeface="Comic Sans MS"/>
              </a:rPr>
              <a:t>13 de septiembre 2009</a:t>
            </a:r>
            <a:r>
              <a:rPr b="0" i="1" lang="ca-ES" sz="4800" spc="-1" strike="noStrike">
                <a:solidFill>
                  <a:srgbClr val="0cfffb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971800"/>
            <a:ext cx="57150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ff9614"/>
                </a:solidFill>
                <a:latin typeface="Comic Sans MS"/>
              </a:rPr>
              <a:t>   </a:t>
            </a:r>
            <a:r>
              <a:rPr b="1" i="1" lang="ca-ES" sz="4800" spc="-1" strike="noStrike">
                <a:solidFill>
                  <a:srgbClr val="ffffff"/>
                </a:solidFill>
                <a:latin typeface="Comic Sans MS"/>
              </a:rPr>
              <a:t>24 Domingo</a:t>
            </a:r>
            <a:br>
              <a:rPr sz="4800"/>
            </a:br>
            <a:r>
              <a:rPr b="1" i="1" lang="ca-ES" sz="4800" spc="-1" strike="noStrike">
                <a:solidFill>
                  <a:srgbClr val="ffffff"/>
                </a:solidFill>
                <a:latin typeface="Comic Sans MS"/>
              </a:rPr>
              <a:t>Tiempo Ordinari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2" name="DimaSt%20arab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68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0957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33360"/>
            <a:ext cx="8740800" cy="5641200"/>
          </a:xfrm>
          <a:prstGeom prst="rect">
            <a:avLst/>
          </a:prstGeom>
          <a:solidFill>
            <a:srgbClr val="8368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ff"/>
                </a:solidFill>
                <a:latin typeface="Comic Sans MS"/>
              </a:rPr>
              <a:t>Is 50,5-9ª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El Señor me ha abierto el oído,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y yo no me he resistido ni me he echado atrás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Ofrecí la espalda a los que me golpeaban,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is mejillas a los que mesaban mi barba;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no volví la cara ante los insultos y salivazos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El Señor me ayuda,por eso soportaba los ultrajes,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or eso endurecí mi rostro como el pedernal,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abiendo que no quedaría defraudado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i defensor está cerca,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¿quién me quiere denunciar?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¡Comparezcamos junt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¿Quién me va a acusar?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¡Qué venga a decírmelo!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abed que me ayuda el Señor: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¿Quién me condenará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6248520"/>
            <a:ext cx="7239240" cy="459720"/>
          </a:xfrm>
          <a:prstGeom prst="rect">
            <a:avLst/>
          </a:prstGeom>
          <a:solidFill>
            <a:srgbClr val="836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o volví la cara ante los insultos y salivazo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18240" y="111240"/>
            <a:ext cx="3833640" cy="1099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6600" spc="-1" strike="noStrike">
                <a:solidFill>
                  <a:srgbClr val="0fc73a"/>
                </a:solidFill>
                <a:latin typeface="Comic Sans MS"/>
              </a:rPr>
              <a:t> </a:t>
            </a:r>
            <a:r>
              <a:rPr b="0" i="1" lang="ca-ES" sz="6600" spc="-1" strike="noStrike">
                <a:solidFill>
                  <a:srgbClr val="0fc73a"/>
                </a:solidFill>
                <a:latin typeface="Comic Sans MS"/>
              </a:rPr>
              <a:t>Salmo </a:t>
            </a:r>
            <a:r>
              <a:rPr b="1" i="1" lang="ca-ES" sz="2800" spc="-1" strike="noStrike">
                <a:solidFill>
                  <a:srgbClr val="0fc73a"/>
                </a:solidFill>
                <a:latin typeface="Comic Sans MS"/>
              </a:rPr>
              <a:t> 114</a:t>
            </a:r>
            <a:r>
              <a:rPr b="1" i="1" lang="ca-ES" sz="6600" spc="-1" strike="noStrike">
                <a:solidFill>
                  <a:srgbClr val="0fc73a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752480"/>
            <a:ext cx="876312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ffba19"/>
                </a:solidFill>
                <a:latin typeface="Comic Sans MS"/>
              </a:rPr>
              <a:t>Caminaré en presencia del Señor,</a:t>
            </a:r>
            <a:br>
              <a:rPr sz="4000"/>
            </a:br>
            <a:r>
              <a:rPr b="1" i="1" lang="ca-ES" sz="4000" spc="-1" strike="noStrike">
                <a:solidFill>
                  <a:srgbClr val="ffba19"/>
                </a:solidFill>
                <a:latin typeface="Comic Sans MS"/>
              </a:rPr>
              <a:t>en el país de la v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114800"/>
            <a:ext cx="8458200" cy="1556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o al Señor porque escucha mi voz suplicante,porque inclina su oído hacia mí cuando lo invoco.</a:t>
            </a:r>
            <a:r>
              <a:rPr b="0" i="1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914400"/>
            <a:ext cx="853452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ffba19"/>
                </a:solidFill>
                <a:latin typeface="Comic Sans MS"/>
              </a:rPr>
              <a:t>Caminaré en presencia del Seño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ffba19"/>
                </a:solidFill>
                <a:latin typeface="Comic Sans MS"/>
              </a:rPr>
              <a:t>en el país de la v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3048120"/>
            <a:ext cx="815364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0710"/>
                </a:solidFill>
                <a:latin typeface="Comic Sans MS"/>
              </a:rPr>
              <a:t> </a:t>
            </a:r>
            <a:r>
              <a:rPr b="1" i="1" lang="es-ES" sz="3200" spc="-1" strike="noStrike">
                <a:solidFill>
                  <a:srgbClr val="ff0710"/>
                </a:solidFill>
                <a:latin typeface="Comic Sans MS"/>
                <a:ea typeface="Times New Roman"/>
              </a:rPr>
              <a:t>Me envolvieron las redes de la muerte,</a:t>
            </a:r>
            <a:br>
              <a:rPr sz="3200"/>
            </a:br>
            <a:r>
              <a:rPr b="1" i="1" lang="es-ES" sz="3200" spc="-1" strike="noStrike">
                <a:solidFill>
                  <a:srgbClr val="ff0710"/>
                </a:solidFill>
                <a:latin typeface="Comic Sans MS"/>
                <a:ea typeface="Times New Roman"/>
              </a:rPr>
              <a:t>me atraparon los lazos del abismo, caí en tristeza y angustia,pero invoqué el nombre del Señor: «¡Señor, salva mi vida!»</a:t>
            </a:r>
            <a:r>
              <a:rPr b="1" i="1" lang="es-ES" sz="3200" spc="-1" strike="noStrike">
                <a:solidFill>
                  <a:srgbClr val="ff071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1143000"/>
            <a:ext cx="86994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ffba19"/>
                </a:solidFill>
                <a:latin typeface="Comic Sans MS"/>
              </a:rPr>
              <a:t>Caminaré en presencia del Señor,</a:t>
            </a:r>
            <a:br>
              <a:rPr sz="4000"/>
            </a:br>
            <a:r>
              <a:rPr b="1" i="1" lang="ca-ES" sz="4000" spc="-1" strike="noStrike">
                <a:solidFill>
                  <a:srgbClr val="ffba19"/>
                </a:solidFill>
                <a:latin typeface="Comic Sans MS"/>
              </a:rPr>
              <a:t>en el país de la v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3355920"/>
            <a:ext cx="7696080" cy="20437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815d1"/>
                </a:solidFill>
                <a:latin typeface="Comic Sans MS"/>
              </a:rPr>
              <a:t> </a:t>
            </a:r>
            <a:r>
              <a:rPr b="0" i="1" lang="es-ES" sz="3200" spc="-1" strike="noStrike">
                <a:solidFill>
                  <a:srgbClr val="0815d1"/>
                </a:solidFill>
                <a:latin typeface="Comic Sans MS"/>
                <a:ea typeface="Times New Roman"/>
              </a:rPr>
              <a:t>El Señor es benigno y justo, nuestro Dios es todo ternura.</a:t>
            </a:r>
            <a:br>
              <a:rPr sz="3200"/>
            </a:br>
            <a:r>
              <a:rPr b="0" i="1" lang="es-ES" sz="3200" spc="-1" strike="noStrike">
                <a:solidFill>
                  <a:srgbClr val="0815d1"/>
                </a:solidFill>
                <a:latin typeface="Comic Sans MS"/>
                <a:ea typeface="Times New Roman"/>
              </a:rPr>
              <a:t>El Señor guarda a los sencillos: estaba yo postrado y me salvó.</a:t>
            </a:r>
            <a:r>
              <a:rPr b="0" i="1" lang="es-ES" sz="3200" spc="-1" strike="noStrike">
                <a:solidFill>
                  <a:srgbClr val="0815d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4600" y="1143000"/>
            <a:ext cx="86994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ffba19"/>
                </a:solidFill>
                <a:latin typeface="Comic Sans MS"/>
              </a:rPr>
              <a:t>Caminaré en presencia del Señor,</a:t>
            </a:r>
            <a:br>
              <a:rPr sz="4000"/>
            </a:br>
            <a:r>
              <a:rPr b="1" i="1" lang="ca-ES" sz="4000" spc="-1" strike="noStrike">
                <a:solidFill>
                  <a:srgbClr val="ffba19"/>
                </a:solidFill>
                <a:latin typeface="Comic Sans MS"/>
              </a:rPr>
              <a:t>en el país de la v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886200"/>
            <a:ext cx="8077320" cy="20437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libró mi vida de la muerte, mis ojos de las lágrimas, y mis pies de la caída.</a:t>
            </a: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minaré en presencia del Señor, en el mundo de los vivos.</a:t>
            </a: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4d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-27000"/>
            <a:ext cx="8140680" cy="562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735520"/>
            <a:ext cx="9144000" cy="100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omic Sans MS"/>
              </a:rPr>
              <a:t>Suponed que alguno de vuestros hermanos o hermanas no tienen ni vestidos ni alimentos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304920"/>
            <a:ext cx="8156520" cy="48459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omic Sans MS"/>
              </a:rPr>
              <a:t>Sant 2,14-18 </a:t>
            </a:r>
            <a:r>
              <a:rPr b="1" lang="es-E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De qué le sirve a uno, hermanos míos, decir que tiene fe, si no tiene obras? ¿Podrá acaso salvarlo la fe? Si un hermano o una hermana están desnudos y faltos del alimento cotidiano, y uno de vosotros les dice: «Id en paz, calentaos y saciaos», pero no les da lo necesario para su cuerpo, ¿de qué sirve? Así también la fe: si no tiene obras, está muerta en sí misma.</a:t>
            </a:r>
            <a:br>
              <a:rPr sz="2600"/>
            </a:br>
            <a:r>
              <a:rPr b="1" lang="es-E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mbién se puede decir: «Tú tienes fe, yo tengo obras; muéstrame tu fe sin las obras, que yo por las obras te haré ver mi fe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22240" y="1563840"/>
            <a:ext cx="184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1371600"/>
            <a:ext cx="8153640" cy="2288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0710"/>
                </a:solidFill>
                <a:latin typeface="Comic Sans MS"/>
              </a:rPr>
              <a:t>Dios me libre de gloriarme si no es</a:t>
            </a:r>
            <a:br>
              <a:rPr sz="3600"/>
            </a:br>
            <a:r>
              <a:rPr b="1" i="1" lang="ca-ES" sz="3600" spc="-1" strike="noStrike">
                <a:solidFill>
                  <a:srgbClr val="ff0710"/>
                </a:solidFill>
                <a:latin typeface="Comic Sans MS"/>
              </a:rPr>
              <a:t>en la cruz del Señor en la cual el</a:t>
            </a:r>
            <a:br>
              <a:rPr sz="3600"/>
            </a:br>
            <a:r>
              <a:rPr b="1" i="1" lang="ca-ES" sz="3600" spc="-1" strike="noStrike">
                <a:solidFill>
                  <a:srgbClr val="ff0710"/>
                </a:solidFill>
                <a:latin typeface="Comic Sans MS"/>
              </a:rPr>
              <a:t>mundo está crucificado para mí</a:t>
            </a:r>
            <a:br>
              <a:rPr sz="3600"/>
            </a:br>
            <a:r>
              <a:rPr b="1" i="1" lang="ca-ES" sz="3600" spc="-1" strike="noStrike">
                <a:solidFill>
                  <a:srgbClr val="ff0710"/>
                </a:solidFill>
                <a:latin typeface="Comic Sans MS"/>
              </a:rPr>
              <a:t>y yo para el mundo. </a:t>
            </a:r>
            <a:r>
              <a:rPr b="1" i="1" lang="ca-ES" sz="2400" spc="-1" strike="noStrike">
                <a:solidFill>
                  <a:srgbClr val="ff0710"/>
                </a:solidFill>
                <a:latin typeface="Comic Sans MS"/>
              </a:rPr>
              <a:t>(Gál 6, 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95480" y="763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ffffff"/>
                </a:solidFill>
                <a:latin typeface="Comic Sans MS"/>
              </a:rPr>
              <a:t>Capilla de la Crucifixión. Jerusalé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533520"/>
            <a:ext cx="9067680" cy="612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rcos 8, 27-35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Jesús salió con sus discípulos hacia las aldeas de Cesarea de Filipo y por el camino les preguntó: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¿Quién dice la gente que soy yo?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los le contestaron: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Unos, que Juan el Bautista; otros, que Elías; y otros, que uno de los profetas.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siguió preguntándoles: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Y vosotros, ¿quién decís que soy yo?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dro le respondió: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Tú eres el Mes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onces Jesús les prohibió terminantemente que hablaran a nadie acerca de él.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Jesús empezó a enseñarles que el Hijo del hombre debía padecer mucho, que sería rechazado por los ancianos, los jefes de los sacerdotes y los maestros de la ley; que lo matarían, y a los tres días resucitaría. Les hablaba con toda claridad. Entonces Pedro lo tomó aparte y se puso a increparlo. Pero Jesús se volvió y, mirando a sus discípulos, reprendió a Pedro, diciéndole: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¡Ponte detrás de mí, Satanás!, porque tus pensamientos no son los de Dios, sino los de los hombres.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pués Jesús reunió a la gente y a sus discípulos, y les dijo: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Si alguno quiere venir detrás de mí, que renuncie a sí mismo, que cargue con su cruz y que me siga. Porque el que quiera salvar su vida, la perderá, pero el que pierda su vida por mí y por la buena noticia, la salvará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4:37:31Z</dcterms:created>
  <dc:creator>JOAN RAMIREZ</dc:creator>
  <dc:description/>
  <dc:language>en-US</dc:language>
  <cp:lastModifiedBy>Usuario</cp:lastModifiedBy>
  <dcterms:modified xsi:type="dcterms:W3CDTF">2009-09-10T15:05:22Z</dcterms:modified>
  <cp:revision>17</cp:revision>
  <dc:subject/>
  <dc:title>Presentación de PowerPoint</dc:title>
</cp:coreProperties>
</file>