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maSt%20arab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485-3218-40F8-9D1E-0CCA4198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DED-3478-480B-9FE0-053957E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7D8-9A54-49E4-9B7C-83B08C4A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05C-3B91-4B96-AEB6-D52D03BF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1F2-5974-424B-A261-978438AD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993-75FD-44AD-8610-AB550F1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38E-AFAB-4A84-A679-6C7B5F5E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016-1F42-418A-99DE-E4A6957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6C0-514F-4CFD-A96A-7993507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9B7-3A8B-48CB-9170-4A4EFF3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1AD-D0D5-4A80-85FF-6D9030C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F80-CACE-4025-B611-F43EBBA7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8EA-CBD1-48A9-9DB1-FD7F7E730341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maSt%20arab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516640"/>
            <a:ext cx="52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99cc00"/>
                </a:solidFill>
                <a:latin typeface="Comic Sans MS"/>
              </a:rPr>
              <a:t>Música: Canto de la Pas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99cc00"/>
                </a:solidFill>
                <a:latin typeface="Comic Sans MS"/>
              </a:rPr>
              <a:t>Ciclo B</a:t>
            </a:r>
            <a:r>
              <a:rPr b="1" lang="ca-E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29760" y="1523880"/>
            <a:ext cx="69591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cfffb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cfffb"/>
                </a:solidFill>
                <a:latin typeface="Comic Sans MS"/>
              </a:rPr>
              <a:t>13 de septiembre 2009</a:t>
            </a:r>
            <a:r>
              <a:rPr b="0" i="1" lang="ca-ES" sz="4800" spc="-1" strike="noStrike">
                <a:solidFill>
                  <a:srgbClr val="0cfffb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971800"/>
            <a:ext cx="5715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9614"/>
                </a:solidFill>
                <a:latin typeface="Comic Sans MS"/>
              </a:rPr>
              <a:t>   </a:t>
            </a: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24 Domingo</a:t>
            </a:r>
            <a:br>
              <a:rPr sz="4800"/>
            </a:b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Tiempo Ordinari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2" name="DimaSt%20arab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68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0957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33360"/>
            <a:ext cx="8740800" cy="5641200"/>
          </a:xfrm>
          <a:prstGeom prst="rect">
            <a:avLst/>
          </a:prstGeom>
          <a:solidFill>
            <a:srgbClr val="8368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Is 50,5-9ª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l Señor me ha abierto el oído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yo no me he resistido ni me he echado atrás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frecí la espalda a los que me golpeaban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is mejillas a los que mesaban mi barba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o volví la cara ante los insultos y salivazos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l Señor me ayuda,por eso soportaba los ultrajes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eso endurecí mi rostro como el pedernal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biendo que no quedaría defraudad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i defensor está cerca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quiere denunciar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¡Comparezcamos jun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va a acusar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¡Qué venga a decírmelo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bed que me ayuda el Señor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¿Quién me condenar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6248520"/>
            <a:ext cx="7239240" cy="459720"/>
          </a:xfrm>
          <a:prstGeom prst="rect">
            <a:avLst/>
          </a:prstGeom>
          <a:solidFill>
            <a:srgbClr val="836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volví la cara ante los insultos y salivaz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8240" y="111240"/>
            <a:ext cx="383364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0fc73a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0fc73a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fc73a"/>
                </a:solidFill>
                <a:latin typeface="Comic Sans MS"/>
              </a:rPr>
              <a:t> 114</a:t>
            </a:r>
            <a:r>
              <a:rPr b="1" i="1" lang="ca-ES" sz="6600" spc="-1" strike="noStrike">
                <a:solidFill>
                  <a:srgbClr val="0fc73a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752480"/>
            <a:ext cx="87631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114800"/>
            <a:ext cx="84582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o al Señor porque escucha mi voz suplicante,porque inclina su oído hacia mí cuando lo invoco.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914400"/>
            <a:ext cx="85345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048120"/>
            <a:ext cx="81536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0710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ff0710"/>
                </a:solidFill>
                <a:latin typeface="Comic Sans MS"/>
                <a:ea typeface="Times New Roman"/>
              </a:rPr>
              <a:t>Me envolvieron las redes de la muerte,</a:t>
            </a:r>
            <a:br>
              <a:rPr sz="3200"/>
            </a:br>
            <a:r>
              <a:rPr b="1" i="1" lang="es-ES" sz="3200" spc="-1" strike="noStrike">
                <a:solidFill>
                  <a:srgbClr val="ff0710"/>
                </a:solidFill>
                <a:latin typeface="Comic Sans MS"/>
                <a:ea typeface="Times New Roman"/>
              </a:rPr>
              <a:t>me atraparon los lazos del abismo, caí en tristeza y angustia,pero invoqué el nombre del Señor: «¡Señor, salva mi vida!»</a:t>
            </a:r>
            <a:r>
              <a:rPr b="1" i="1" lang="es-ES" sz="3200" spc="-1" strike="noStrike">
                <a:solidFill>
                  <a:srgbClr val="ff071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114300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355920"/>
            <a:ext cx="769608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815d1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0815d1"/>
                </a:solidFill>
                <a:latin typeface="Comic Sans MS"/>
                <a:ea typeface="Times New Roman"/>
              </a:rPr>
              <a:t>El Señor es benigno y justo, nuestro Dios es todo ternura.</a:t>
            </a:r>
            <a:br>
              <a:rPr sz="3200"/>
            </a:br>
            <a:r>
              <a:rPr b="0" i="1" lang="es-ES" sz="3200" spc="-1" strike="noStrike">
                <a:solidFill>
                  <a:srgbClr val="0815d1"/>
                </a:solidFill>
                <a:latin typeface="Comic Sans MS"/>
                <a:ea typeface="Times New Roman"/>
              </a:rPr>
              <a:t>El Señor guarda a los sencillos: estaba yo postrado y me salvó.</a:t>
            </a:r>
            <a:r>
              <a:rPr b="0" i="1" lang="es-ES" sz="3200" spc="-1" strike="noStrike">
                <a:solidFill>
                  <a:srgbClr val="0815d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4600" y="1143000"/>
            <a:ext cx="86994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Caminaré en presencia del Señor,</a:t>
            </a:r>
            <a:br>
              <a:rPr sz="4000"/>
            </a:br>
            <a:r>
              <a:rPr b="1" i="1" lang="ca-ES" sz="4000" spc="-1" strike="noStrike">
                <a:solidFill>
                  <a:srgbClr val="ffba19"/>
                </a:solidFill>
                <a:latin typeface="Comic Sans MS"/>
              </a:rPr>
              <a:t>en el país de l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86200"/>
            <a:ext cx="8077320" cy="2043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libró mi vida de la muerte, mis ojos de las lágrimas, y mis pies de la caída.</a:t>
            </a: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minaré en presencia del Señor, en el mundo de los vivos.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d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-27000"/>
            <a:ext cx="814068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735520"/>
            <a:ext cx="914400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omic Sans MS"/>
              </a:rPr>
              <a:t>Suponed que alguno de vuestros hermanos o hermanas no tienen ni vestidos ni alimentos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04920"/>
            <a:ext cx="8156520" cy="48459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omic Sans MS"/>
              </a:rPr>
              <a:t>Sant 2,14-18 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e qué le sirve a uno, hermanos míos, decir que tiene fe, si no tiene obras? ¿Podrá acaso salvarlo la fe? Si un hermano o una hermana están desnudos y faltos del alimento cotidiano, y uno de vosotros les dice: «Id en paz, calentaos y saciaos», pero no les da lo necesario para su cuerpo, ¿de qué sirve? Así también la fe: si no tiene obras, está muerta en sí misma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se puede decir: «Tú tienes fe, yo tengo obras; muéstrame tu fe sin las obras, que yo por las obras te haré ver mi fe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2240" y="1563840"/>
            <a:ext cx="184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371600"/>
            <a:ext cx="815364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Dios me libre de gloriarme si no es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en la cruz del Señor en la cual el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mundo está crucificado para mí</a:t>
            </a:r>
            <a:br>
              <a:rPr sz="3600"/>
            </a:br>
            <a:r>
              <a:rPr b="1" i="1" lang="ca-ES" sz="3600" spc="-1" strike="noStrike">
                <a:solidFill>
                  <a:srgbClr val="ff0710"/>
                </a:solidFill>
                <a:latin typeface="Comic Sans MS"/>
              </a:rPr>
              <a:t>y yo para el mundo. </a:t>
            </a:r>
            <a:r>
              <a:rPr b="1" i="1" lang="ca-ES" sz="2400" spc="-1" strike="noStrike">
                <a:solidFill>
                  <a:srgbClr val="ff0710"/>
                </a:solidFill>
                <a:latin typeface="Comic Sans MS"/>
              </a:rPr>
              <a:t>(Gál 6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76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Capilla de la Crucifixión. Jerusalé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533520"/>
            <a:ext cx="9067680" cy="61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cos 8, 27-35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salió con sus discípulos hacia las aldeas de Cesarea de Filipo y por el camino les preguntó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¿Quién dice la gente que soy yo?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le contestaron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Unos, que Juan el Bautista; otros, que Elías; y otros, que uno de los profeta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iguió preguntándoles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Y vosotros, ¿quién decís que soy yo?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dro le respondió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Tú eres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onces Jesús les prohibió terminantemente que hablaran a nadie acerca de él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empezó a enseñarles que el Hijo del hombre debía padecer mucho, que sería rechazado por los ancianos, los jefes de los sacerdotes y los maestros de la ley; que lo matarían, y a los tres días resucitaría. Les hablaba con toda claridad. Entonces Pedro lo tomó aparte y se puso a increparlo. Pero Jesús se volvió y, mirando a sus discípulos, reprendió a Pedro, diciéndole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¡Ponte detrás de mí, Satanás!, porque tus pensamientos no son los de Dios, sino los de los hombre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pués Jesús reunió a la gente y a sus discípulos, y les dijo: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i alguno quiere venir detrás de mí, que renuncie a sí mismo, que cargue con su cruz y que me siga. Porque el que quiera salvar su vida, la perderá, pero el que pierda su vida por mí y por la buena noticia, la salva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4:37:31Z</dcterms:created>
  <dc:creator>JOAN RAMIREZ</dc:creator>
  <dc:description/>
  <dc:language>en-US</dc:language>
  <cp:lastModifiedBy>Usuario</cp:lastModifiedBy>
  <dcterms:modified xsi:type="dcterms:W3CDTF">2009-09-10T15:05:22Z</dcterms:modified>
  <cp:revision>17</cp:revision>
  <dc:subject/>
  <dc:title>Presentación de PowerPoint</dc:title>
</cp:coreProperties>
</file>