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60F1-36B6-48A2-B0C6-24571C48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675C-850A-4522-B12F-071D4794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B2BA-D79B-4707-93C5-B4B69C368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7F6E-D570-4FCA-8AA3-8C9E14C5A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3F2B-0470-4809-B1AD-273BEB9F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5DA4-5324-4E83-A4C6-D20C0829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39A2-A60D-4714-9300-1A58BAA0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FA0D-35E1-47EA-9340-B6BD6B19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B1F8-7378-4AB5-BDE8-D623A37E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EFE8-B5A9-4A62-B18F-D23039A1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D952-23D7-43A8-A10F-C089A158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DB72-1EEA-4C0A-9F19-0AFDACAC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CC01-09A8-4295-B8BB-687B063B05E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612640" y="6629400"/>
            <a:ext cx="6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1c1c1c"/>
                </a:solidFill>
                <a:latin typeface="Arial"/>
              </a:rPr>
              <a:t>La F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ffffff"/>
                </a:solidFill>
                <a:latin typeface="Times New Roman"/>
              </a:rPr>
              <a:t>SPM</a:t>
            </a:r>
            <a:r>
              <a:rPr b="0" lang="es-ES_tradnl" sz="8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9600" spc="-1" strike="noStrike">
                <a:solidFill>
                  <a:srgbClr val="ffffff"/>
                </a:solidFill>
                <a:latin typeface="Times New Roman"/>
              </a:rPr>
              <a:t>8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10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14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15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16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17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18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19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20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21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22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01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23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26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27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29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30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31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32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02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03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04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05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06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07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09-lrg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2T07:16:50Z</dcterms:created>
  <dc:creator>Nicola Furnari</dc:creator>
  <dc:description/>
  <dc:language>en-US</dc:language>
  <cp:lastModifiedBy>Moisés Alvarado</cp:lastModifiedBy>
  <dcterms:modified xsi:type="dcterms:W3CDTF">2000-12-21T15:36:23Z</dcterms:modified>
  <cp:revision>2</cp:revision>
  <dc:subject/>
  <dc:title>SPM 84</dc:title>
</cp:coreProperties>
</file>