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4CC-C039-4E77-85C2-45D296B7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538-FE60-466A-A4B2-1DBE776B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3B1-0B6D-48AA-9AD1-D0D4BD60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2E4-A416-46DA-9AA4-CE39BCA4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8F0-01F3-4769-8A90-146323FB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B36-A37D-4238-B633-AA7154DE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301-7096-41A9-A9E4-1BFF8A84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08F-F3A6-435B-A679-CF8842DB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2B3-CDB6-467E-BCEE-61BC5C62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AEE-AFFE-43A0-80C2-B46439CF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430-484D-4AF3-833A-6529629E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514-1542-4B54-8903-1C1B36F1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CC1C-5EA5-4BDB-AB8E-029E5D8BAD2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12640" y="662940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1c1c1c"/>
                </a:solidFill>
                <a:latin typeface="Arial"/>
              </a:rPr>
              <a:t>La F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ff"/>
                </a:solidFill>
                <a:latin typeface="Times New Roman"/>
              </a:rPr>
              <a:t>SPM</a:t>
            </a:r>
            <a:r>
              <a:rPr b="0" lang="es-ES_tradnl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9600" spc="-1" strike="noStrike">
                <a:solidFill>
                  <a:srgbClr val="ffffff"/>
                </a:solidFill>
                <a:latin typeface="Times New Roman"/>
              </a:rPr>
              <a:t>8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10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14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15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16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17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18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19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20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21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22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01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23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26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27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29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30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31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32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02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03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4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05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06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07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09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2T07:16:50Z</dcterms:created>
  <dc:creator>Nicola Furnari</dc:creator>
  <dc:description/>
  <dc:language>en-US</dc:language>
  <cp:lastModifiedBy>Moisés Alvarado</cp:lastModifiedBy>
  <dcterms:modified xsi:type="dcterms:W3CDTF">2000-12-21T15:36:23Z</dcterms:modified>
  <cp:revision>2</cp:revision>
  <dc:subject/>
  <dc:title>SPM 84</dc:title>
</cp:coreProperties>
</file>